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BFC3-E679-4F42-A3DE-AD5B4591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1FEA-52CD-4F8A-AF6D-A16EB3D4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D16A-9288-49B5-B03F-CA1A83E2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BF9A-FEB9-41BE-87B3-BFE73436C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DCD6-0D23-442B-91EB-D03E9820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F368-6486-4D92-B665-9ED6E821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4AB5-31FE-4747-AE4A-49697E96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612E-B9EC-49F6-AA6A-F4F972AD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3689-3BFA-41C4-9F0F-6180C704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11F3-5F35-4838-BD84-C2AF9C6E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B24F-6103-4283-8F0B-FC26382F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6D10-C440-498D-9659-1F5EF30A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63D4-73C4-42CF-B987-C0DCDE0C1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425760"/>
            <a:ext cx="4557600" cy="3432240"/>
            <a:chOff x="0" y="3425760"/>
            <a:chExt cx="4557600" cy="3432240"/>
          </a:xfrm>
        </p:grpSpPr>
        <p:sp>
          <p:nvSpPr>
            <p:cNvPr id="42" name=""/>
            <p:cNvSpPr/>
            <p:nvPr/>
          </p:nvSpPr>
          <p:spPr>
            <a:xfrm>
              <a:off x="0" y="3425760"/>
              <a:ext cx="4557600" cy="343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74720" y="3675240"/>
              <a:ext cx="3487680" cy="2525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35120" y="620388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35120" y="588636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35120" y="557208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35120" y="525636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35120" y="49417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5120" y="462600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35120" y="4309920"/>
              <a:ext cx="363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5120" y="399420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35120" y="36781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771480" y="620388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1647720" y="6203880"/>
              <a:ext cx="32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2514600" y="620388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392640" y="620388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259160" y="620388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771480" y="4089240"/>
              <a:ext cx="2970360" cy="1346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80600" y="61149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80600" y="57992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80600" y="54849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80600" y="51688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0600" y="48513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8960" y="45370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8960" y="42210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8960" y="39067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8960" y="35910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34760" y="6316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63120" y="63165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477880" y="6316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07680" y="63165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22800" y="6316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70240" y="6505560"/>
              <a:ext cx="779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isk (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Beta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38160" y="4894200"/>
              <a:ext cx="40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81160" y="5357880"/>
              <a:ext cx="5698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1000" spc="-1" strike="noStrike" baseline="-25000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890280" y="5477040"/>
              <a:ext cx="32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60320" y="4832280"/>
              <a:ext cx="155268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05000" y="4608360"/>
              <a:ext cx="780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AC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3210840" y="3996720"/>
              <a:ext cx="280800" cy="490320"/>
              <a:chOff x="3210840" y="3996720"/>
              <a:chExt cx="280800" cy="490320"/>
            </a:xfrm>
          </p:grpSpPr>
          <p:sp>
            <p:nvSpPr>
              <p:cNvPr id="80" name=""/>
              <p:cNvSpPr/>
              <p:nvPr/>
            </p:nvSpPr>
            <p:spPr>
              <a:xfrm flipH="1" flipV="1">
                <a:off x="3210840" y="3996720"/>
                <a:ext cx="146160" cy="25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357000" y="4252320"/>
                <a:ext cx="134640" cy="23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3222720" y="3832200"/>
              <a:ext cx="669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ccep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497400" y="4378320"/>
              <a:ext cx="66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j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57400" y="4799160"/>
              <a:ext cx="7308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30400" y="4408560"/>
              <a:ext cx="7308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2155320" y="4912920"/>
              <a:ext cx="34452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02000" y="5195880"/>
              <a:ext cx="1190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verage Proj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2944800" y="4540320"/>
              <a:ext cx="15552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02120" y="4908600"/>
              <a:ext cx="11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w Proj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18" name=""/>
          <p:cNvGrpSpPr/>
          <p:nvPr/>
        </p:nvGrpSpPr>
        <p:grpSpPr>
          <a:xfrm>
            <a:off x="57240" y="57240"/>
            <a:ext cx="4444920" cy="3230640"/>
            <a:chOff x="57240" y="57240"/>
            <a:chExt cx="4444920" cy="3230640"/>
          </a:xfrm>
        </p:grpSpPr>
        <p:sp>
          <p:nvSpPr>
            <p:cNvPr id="8119" name=""/>
            <p:cNvSpPr/>
            <p:nvPr/>
          </p:nvSpPr>
          <p:spPr>
            <a:xfrm>
              <a:off x="57240" y="57240"/>
              <a:ext cx="4444920" cy="3230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0" name=""/>
            <p:cNvSpPr/>
            <p:nvPr/>
          </p:nvSpPr>
          <p:spPr>
            <a:xfrm>
              <a:off x="752400" y="289080"/>
              <a:ext cx="3633840" cy="2222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1" name=""/>
            <p:cNvSpPr/>
            <p:nvPr/>
          </p:nvSpPr>
          <p:spPr>
            <a:xfrm>
              <a:off x="938160" y="2476440"/>
              <a:ext cx="57240" cy="349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2" name=""/>
            <p:cNvSpPr/>
            <p:nvPr/>
          </p:nvSpPr>
          <p:spPr>
            <a:xfrm>
              <a:off x="1203480" y="2487600"/>
              <a:ext cx="58680" cy="23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3" name=""/>
            <p:cNvSpPr/>
            <p:nvPr/>
          </p:nvSpPr>
          <p:spPr>
            <a:xfrm>
              <a:off x="1389240" y="2487600"/>
              <a:ext cx="45720" cy="23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4" name=""/>
            <p:cNvSpPr/>
            <p:nvPr/>
          </p:nvSpPr>
          <p:spPr>
            <a:xfrm>
              <a:off x="1469880" y="2487600"/>
              <a:ext cx="57240" cy="23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5" name=""/>
            <p:cNvSpPr/>
            <p:nvPr/>
          </p:nvSpPr>
          <p:spPr>
            <a:xfrm>
              <a:off x="1562040" y="2303640"/>
              <a:ext cx="58680" cy="2077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6" name=""/>
            <p:cNvSpPr/>
            <p:nvPr/>
          </p:nvSpPr>
          <p:spPr>
            <a:xfrm>
              <a:off x="1655640" y="2268360"/>
              <a:ext cx="46080" cy="2430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7" name=""/>
            <p:cNvSpPr/>
            <p:nvPr/>
          </p:nvSpPr>
          <p:spPr>
            <a:xfrm>
              <a:off x="1736640" y="2257560"/>
              <a:ext cx="57240" cy="2538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8" name=""/>
            <p:cNvSpPr/>
            <p:nvPr/>
          </p:nvSpPr>
          <p:spPr>
            <a:xfrm>
              <a:off x="1828800" y="2117880"/>
              <a:ext cx="57240" cy="3934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9" name=""/>
            <p:cNvSpPr/>
            <p:nvPr/>
          </p:nvSpPr>
          <p:spPr>
            <a:xfrm>
              <a:off x="1920960" y="1839960"/>
              <a:ext cx="46080" cy="6714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0" name=""/>
            <p:cNvSpPr/>
            <p:nvPr/>
          </p:nvSpPr>
          <p:spPr>
            <a:xfrm>
              <a:off x="2001960" y="1330200"/>
              <a:ext cx="58680" cy="11811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1" name=""/>
            <p:cNvSpPr/>
            <p:nvPr/>
          </p:nvSpPr>
          <p:spPr>
            <a:xfrm>
              <a:off x="2095560" y="1330200"/>
              <a:ext cx="57240" cy="11811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2" name=""/>
            <p:cNvSpPr/>
            <p:nvPr/>
          </p:nvSpPr>
          <p:spPr>
            <a:xfrm>
              <a:off x="2187720" y="1146240"/>
              <a:ext cx="45720" cy="13651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3" name=""/>
            <p:cNvSpPr/>
            <p:nvPr/>
          </p:nvSpPr>
          <p:spPr>
            <a:xfrm>
              <a:off x="2268360" y="496800"/>
              <a:ext cx="59040" cy="20145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4" name=""/>
            <p:cNvSpPr/>
            <p:nvPr/>
          </p:nvSpPr>
          <p:spPr>
            <a:xfrm>
              <a:off x="2360520" y="544680"/>
              <a:ext cx="58680" cy="19666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5" name=""/>
            <p:cNvSpPr/>
            <p:nvPr/>
          </p:nvSpPr>
          <p:spPr>
            <a:xfrm>
              <a:off x="2454120" y="728640"/>
              <a:ext cx="46080" cy="17827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6" name=""/>
            <p:cNvSpPr/>
            <p:nvPr/>
          </p:nvSpPr>
          <p:spPr>
            <a:xfrm>
              <a:off x="2535120" y="531720"/>
              <a:ext cx="57240" cy="19796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7" name=""/>
            <p:cNvSpPr/>
            <p:nvPr/>
          </p:nvSpPr>
          <p:spPr>
            <a:xfrm>
              <a:off x="2627280" y="1087560"/>
              <a:ext cx="46080" cy="14238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8" name=""/>
            <p:cNvSpPr/>
            <p:nvPr/>
          </p:nvSpPr>
          <p:spPr>
            <a:xfrm>
              <a:off x="2708280" y="1330200"/>
              <a:ext cx="58680" cy="11811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9" name=""/>
            <p:cNvSpPr/>
            <p:nvPr/>
          </p:nvSpPr>
          <p:spPr>
            <a:xfrm>
              <a:off x="2800440" y="1677960"/>
              <a:ext cx="58680" cy="8334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0" name=""/>
            <p:cNvSpPr/>
            <p:nvPr/>
          </p:nvSpPr>
          <p:spPr>
            <a:xfrm>
              <a:off x="2894040" y="1839960"/>
              <a:ext cx="46080" cy="6714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1" name=""/>
            <p:cNvSpPr/>
            <p:nvPr/>
          </p:nvSpPr>
          <p:spPr>
            <a:xfrm>
              <a:off x="2975040" y="2117880"/>
              <a:ext cx="57240" cy="3934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2" name=""/>
            <p:cNvSpPr/>
            <p:nvPr/>
          </p:nvSpPr>
          <p:spPr>
            <a:xfrm>
              <a:off x="3067200" y="2292480"/>
              <a:ext cx="58680" cy="2188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3" name=""/>
            <p:cNvSpPr/>
            <p:nvPr/>
          </p:nvSpPr>
          <p:spPr>
            <a:xfrm>
              <a:off x="3159000" y="2176560"/>
              <a:ext cx="47880" cy="3348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4" name=""/>
            <p:cNvSpPr/>
            <p:nvPr/>
          </p:nvSpPr>
          <p:spPr>
            <a:xfrm>
              <a:off x="3241800" y="2419200"/>
              <a:ext cx="56880" cy="921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5" name=""/>
            <p:cNvSpPr/>
            <p:nvPr/>
          </p:nvSpPr>
          <p:spPr>
            <a:xfrm>
              <a:off x="3333600" y="2487600"/>
              <a:ext cx="57240" cy="23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6" name=""/>
            <p:cNvSpPr/>
            <p:nvPr/>
          </p:nvSpPr>
          <p:spPr>
            <a:xfrm>
              <a:off x="3425760" y="2487600"/>
              <a:ext cx="46080" cy="23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7" name=""/>
            <p:cNvSpPr/>
            <p:nvPr/>
          </p:nvSpPr>
          <p:spPr>
            <a:xfrm>
              <a:off x="717480" y="251136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8" name=""/>
            <p:cNvSpPr/>
            <p:nvPr/>
          </p:nvSpPr>
          <p:spPr>
            <a:xfrm>
              <a:off x="717480" y="214164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9" name=""/>
            <p:cNvSpPr/>
            <p:nvPr/>
          </p:nvSpPr>
          <p:spPr>
            <a:xfrm>
              <a:off x="717480" y="177012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0" name=""/>
            <p:cNvSpPr/>
            <p:nvPr/>
          </p:nvSpPr>
          <p:spPr>
            <a:xfrm>
              <a:off x="717480" y="140004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1" name=""/>
            <p:cNvSpPr/>
            <p:nvPr/>
          </p:nvSpPr>
          <p:spPr>
            <a:xfrm>
              <a:off x="717480" y="103032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2" name=""/>
            <p:cNvSpPr/>
            <p:nvPr/>
          </p:nvSpPr>
          <p:spPr>
            <a:xfrm>
              <a:off x="717480" y="66024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3" name=""/>
            <p:cNvSpPr/>
            <p:nvPr/>
          </p:nvSpPr>
          <p:spPr>
            <a:xfrm>
              <a:off x="717480" y="28908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4" name=""/>
            <p:cNvSpPr/>
            <p:nvPr/>
          </p:nvSpPr>
          <p:spPr>
            <a:xfrm flipV="1">
              <a:off x="752400" y="2511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5" name=""/>
            <p:cNvSpPr/>
            <p:nvPr/>
          </p:nvSpPr>
          <p:spPr>
            <a:xfrm flipV="1">
              <a:off x="84456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6" name=""/>
            <p:cNvSpPr/>
            <p:nvPr/>
          </p:nvSpPr>
          <p:spPr>
            <a:xfrm flipV="1">
              <a:off x="92556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7" name=""/>
            <p:cNvSpPr/>
            <p:nvPr/>
          </p:nvSpPr>
          <p:spPr>
            <a:xfrm flipV="1">
              <a:off x="101916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8" name=""/>
            <p:cNvSpPr/>
            <p:nvPr/>
          </p:nvSpPr>
          <p:spPr>
            <a:xfrm flipV="1">
              <a:off x="111132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9" name=""/>
            <p:cNvSpPr/>
            <p:nvPr/>
          </p:nvSpPr>
          <p:spPr>
            <a:xfrm flipV="1">
              <a:off x="119232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0" name=""/>
            <p:cNvSpPr/>
            <p:nvPr/>
          </p:nvSpPr>
          <p:spPr>
            <a:xfrm flipV="1">
              <a:off x="1284120" y="2511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1" name=""/>
            <p:cNvSpPr/>
            <p:nvPr/>
          </p:nvSpPr>
          <p:spPr>
            <a:xfrm flipV="1">
              <a:off x="137808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2" name=""/>
            <p:cNvSpPr/>
            <p:nvPr/>
          </p:nvSpPr>
          <p:spPr>
            <a:xfrm flipV="1">
              <a:off x="145908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3" name=""/>
            <p:cNvSpPr/>
            <p:nvPr/>
          </p:nvSpPr>
          <p:spPr>
            <a:xfrm flipV="1">
              <a:off x="1550880" y="2511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4" name=""/>
            <p:cNvSpPr/>
            <p:nvPr/>
          </p:nvSpPr>
          <p:spPr>
            <a:xfrm flipV="1">
              <a:off x="164304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5" name=""/>
            <p:cNvSpPr/>
            <p:nvPr/>
          </p:nvSpPr>
          <p:spPr>
            <a:xfrm flipV="1">
              <a:off x="172404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6" name=""/>
            <p:cNvSpPr/>
            <p:nvPr/>
          </p:nvSpPr>
          <p:spPr>
            <a:xfrm flipV="1">
              <a:off x="1817640" y="2511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7" name=""/>
            <p:cNvSpPr/>
            <p:nvPr/>
          </p:nvSpPr>
          <p:spPr>
            <a:xfrm flipV="1">
              <a:off x="190980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8" name=""/>
            <p:cNvSpPr/>
            <p:nvPr/>
          </p:nvSpPr>
          <p:spPr>
            <a:xfrm flipV="1">
              <a:off x="199080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9" name=""/>
            <p:cNvSpPr/>
            <p:nvPr/>
          </p:nvSpPr>
          <p:spPr>
            <a:xfrm flipV="1">
              <a:off x="208296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0" name=""/>
            <p:cNvSpPr/>
            <p:nvPr/>
          </p:nvSpPr>
          <p:spPr>
            <a:xfrm flipV="1">
              <a:off x="217656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1" name=""/>
            <p:cNvSpPr/>
            <p:nvPr/>
          </p:nvSpPr>
          <p:spPr>
            <a:xfrm flipV="1">
              <a:off x="225756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2" name=""/>
            <p:cNvSpPr/>
            <p:nvPr/>
          </p:nvSpPr>
          <p:spPr>
            <a:xfrm flipV="1">
              <a:off x="2349360" y="2511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3" name=""/>
            <p:cNvSpPr/>
            <p:nvPr/>
          </p:nvSpPr>
          <p:spPr>
            <a:xfrm flipV="1">
              <a:off x="2441520" y="2511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4" name=""/>
            <p:cNvSpPr/>
            <p:nvPr/>
          </p:nvSpPr>
          <p:spPr>
            <a:xfrm flipV="1">
              <a:off x="252252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5" name=""/>
            <p:cNvSpPr/>
            <p:nvPr/>
          </p:nvSpPr>
          <p:spPr>
            <a:xfrm flipV="1">
              <a:off x="2616120" y="2511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6" name=""/>
            <p:cNvSpPr/>
            <p:nvPr/>
          </p:nvSpPr>
          <p:spPr>
            <a:xfrm flipV="1">
              <a:off x="2697120" y="2511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7" name=""/>
            <p:cNvSpPr/>
            <p:nvPr/>
          </p:nvSpPr>
          <p:spPr>
            <a:xfrm flipV="1">
              <a:off x="278928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8" name=""/>
            <p:cNvSpPr/>
            <p:nvPr/>
          </p:nvSpPr>
          <p:spPr>
            <a:xfrm flipV="1">
              <a:off x="288144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9" name=""/>
            <p:cNvSpPr/>
            <p:nvPr/>
          </p:nvSpPr>
          <p:spPr>
            <a:xfrm flipV="1">
              <a:off x="296388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0" name=""/>
            <p:cNvSpPr/>
            <p:nvPr/>
          </p:nvSpPr>
          <p:spPr>
            <a:xfrm flipV="1">
              <a:off x="305604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1" name=""/>
            <p:cNvSpPr/>
            <p:nvPr/>
          </p:nvSpPr>
          <p:spPr>
            <a:xfrm flipV="1">
              <a:off x="3147840" y="2511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2" name=""/>
            <p:cNvSpPr/>
            <p:nvPr/>
          </p:nvSpPr>
          <p:spPr>
            <a:xfrm flipV="1">
              <a:off x="3228840" y="2511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3" name=""/>
            <p:cNvSpPr/>
            <p:nvPr/>
          </p:nvSpPr>
          <p:spPr>
            <a:xfrm flipV="1">
              <a:off x="332280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4" name=""/>
            <p:cNvSpPr/>
            <p:nvPr/>
          </p:nvSpPr>
          <p:spPr>
            <a:xfrm flipV="1">
              <a:off x="3414600" y="2511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5" name=""/>
            <p:cNvSpPr/>
            <p:nvPr/>
          </p:nvSpPr>
          <p:spPr>
            <a:xfrm flipV="1">
              <a:off x="3495600" y="2511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6" name=""/>
            <p:cNvSpPr/>
            <p:nvPr/>
          </p:nvSpPr>
          <p:spPr>
            <a:xfrm flipV="1">
              <a:off x="358776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7" name=""/>
            <p:cNvSpPr/>
            <p:nvPr/>
          </p:nvSpPr>
          <p:spPr>
            <a:xfrm flipV="1">
              <a:off x="3681360" y="2511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8" name=""/>
            <p:cNvSpPr/>
            <p:nvPr/>
          </p:nvSpPr>
          <p:spPr>
            <a:xfrm flipV="1">
              <a:off x="376236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9" name=""/>
            <p:cNvSpPr/>
            <p:nvPr/>
          </p:nvSpPr>
          <p:spPr>
            <a:xfrm flipV="1">
              <a:off x="385452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0" name=""/>
            <p:cNvSpPr/>
            <p:nvPr/>
          </p:nvSpPr>
          <p:spPr>
            <a:xfrm flipV="1">
              <a:off x="394668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1" name=""/>
            <p:cNvSpPr/>
            <p:nvPr/>
          </p:nvSpPr>
          <p:spPr>
            <a:xfrm flipV="1">
              <a:off x="4027320" y="2511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2" name=""/>
            <p:cNvSpPr/>
            <p:nvPr/>
          </p:nvSpPr>
          <p:spPr>
            <a:xfrm flipV="1">
              <a:off x="412128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3" name=""/>
            <p:cNvSpPr/>
            <p:nvPr/>
          </p:nvSpPr>
          <p:spPr>
            <a:xfrm flipV="1">
              <a:off x="4213080" y="2511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4" name=""/>
            <p:cNvSpPr/>
            <p:nvPr/>
          </p:nvSpPr>
          <p:spPr>
            <a:xfrm flipV="1">
              <a:off x="4294080" y="2511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5" name=""/>
            <p:cNvSpPr/>
            <p:nvPr/>
          </p:nvSpPr>
          <p:spPr>
            <a:xfrm flipV="1">
              <a:off x="438624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6" name=""/>
            <p:cNvSpPr/>
            <p:nvPr/>
          </p:nvSpPr>
          <p:spPr>
            <a:xfrm>
              <a:off x="590040" y="2430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7" name=""/>
            <p:cNvSpPr/>
            <p:nvPr/>
          </p:nvSpPr>
          <p:spPr>
            <a:xfrm>
              <a:off x="520200" y="2060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8" name=""/>
            <p:cNvSpPr/>
            <p:nvPr/>
          </p:nvSpPr>
          <p:spPr>
            <a:xfrm>
              <a:off x="520200" y="1689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9" name=""/>
            <p:cNvSpPr/>
            <p:nvPr/>
          </p:nvSpPr>
          <p:spPr>
            <a:xfrm>
              <a:off x="520200" y="1319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0" name=""/>
            <p:cNvSpPr/>
            <p:nvPr/>
          </p:nvSpPr>
          <p:spPr>
            <a:xfrm>
              <a:off x="520200" y="949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1" name=""/>
            <p:cNvSpPr/>
            <p:nvPr/>
          </p:nvSpPr>
          <p:spPr>
            <a:xfrm>
              <a:off x="450000" y="5796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2" name=""/>
            <p:cNvSpPr/>
            <p:nvPr/>
          </p:nvSpPr>
          <p:spPr>
            <a:xfrm>
              <a:off x="450000" y="2080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3" name=""/>
            <p:cNvSpPr/>
            <p:nvPr/>
          </p:nvSpPr>
          <p:spPr>
            <a:xfrm rot="16200000">
              <a:off x="663480" y="26514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4" name=""/>
            <p:cNvSpPr/>
            <p:nvPr/>
          </p:nvSpPr>
          <p:spPr>
            <a:xfrm rot="16200000">
              <a:off x="930240" y="26514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5" name=""/>
            <p:cNvSpPr/>
            <p:nvPr/>
          </p:nvSpPr>
          <p:spPr>
            <a:xfrm rot="16200000">
              <a:off x="1195560" y="26514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6" name=""/>
            <p:cNvSpPr/>
            <p:nvPr/>
          </p:nvSpPr>
          <p:spPr>
            <a:xfrm rot="16200000">
              <a:off x="1518480" y="2593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7" name=""/>
            <p:cNvSpPr/>
            <p:nvPr/>
          </p:nvSpPr>
          <p:spPr>
            <a:xfrm rot="16200000">
              <a:off x="1750320" y="26287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8" name=""/>
            <p:cNvSpPr/>
            <p:nvPr/>
          </p:nvSpPr>
          <p:spPr>
            <a:xfrm rot="16200000">
              <a:off x="2017080" y="26287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9" name=""/>
            <p:cNvSpPr/>
            <p:nvPr/>
          </p:nvSpPr>
          <p:spPr>
            <a:xfrm rot="16200000">
              <a:off x="2282400" y="26287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0" name=""/>
            <p:cNvSpPr/>
            <p:nvPr/>
          </p:nvSpPr>
          <p:spPr>
            <a:xfrm rot="16200000">
              <a:off x="2548800" y="26287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1" name=""/>
            <p:cNvSpPr/>
            <p:nvPr/>
          </p:nvSpPr>
          <p:spPr>
            <a:xfrm rot="16200000">
              <a:off x="2815560" y="26287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2" name=""/>
            <p:cNvSpPr/>
            <p:nvPr/>
          </p:nvSpPr>
          <p:spPr>
            <a:xfrm rot="16200000">
              <a:off x="3080880" y="26287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3" name=""/>
            <p:cNvSpPr/>
            <p:nvPr/>
          </p:nvSpPr>
          <p:spPr>
            <a:xfrm rot="16200000">
              <a:off x="3312000" y="26600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4" name=""/>
            <p:cNvSpPr/>
            <p:nvPr/>
          </p:nvSpPr>
          <p:spPr>
            <a:xfrm rot="16200000">
              <a:off x="3578760" y="26600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5" name=""/>
            <p:cNvSpPr/>
            <p:nvPr/>
          </p:nvSpPr>
          <p:spPr>
            <a:xfrm rot="16200000">
              <a:off x="3845520" y="26600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6" name=""/>
            <p:cNvSpPr/>
            <p:nvPr/>
          </p:nvSpPr>
          <p:spPr>
            <a:xfrm rot="16200000">
              <a:off x="4110840" y="26600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7" name=""/>
            <p:cNvSpPr/>
            <p:nvPr/>
          </p:nvSpPr>
          <p:spPr>
            <a:xfrm>
              <a:off x="2441520" y="294012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P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8" name=""/>
            <p:cNvSpPr/>
            <p:nvPr/>
          </p:nvSpPr>
          <p:spPr>
            <a:xfrm rot="16200000">
              <a:off x="-3960" y="1357200"/>
              <a:ext cx="599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equenc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9" name=""/>
            <p:cNvSpPr/>
            <p:nvPr/>
          </p:nvSpPr>
          <p:spPr>
            <a:xfrm>
              <a:off x="57240" y="57240"/>
              <a:ext cx="4444920" cy="3230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416400"/>
            <a:ext cx="4566960" cy="3441240"/>
            <a:chOff x="0" y="3416400"/>
            <a:chExt cx="4566960" cy="3441240"/>
          </a:xfrm>
        </p:grpSpPr>
        <p:sp>
          <p:nvSpPr>
            <p:cNvPr id="91" name=""/>
            <p:cNvSpPr/>
            <p:nvPr/>
          </p:nvSpPr>
          <p:spPr>
            <a:xfrm>
              <a:off x="0" y="3416400"/>
              <a:ext cx="4566960" cy="344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61680" y="4949640"/>
              <a:ext cx="807840" cy="5778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879200" y="4919040"/>
              <a:ext cx="455040" cy="639000"/>
            </a:xfrm>
            <a:prstGeom prst="rightArrow">
              <a:avLst>
                <a:gd name="adj1" fmla="val 49731"/>
                <a:gd name="adj2" fmla="val 50491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85440" y="4919040"/>
              <a:ext cx="600840" cy="639000"/>
            </a:xfrm>
            <a:prstGeom prst="rightArrow">
              <a:avLst>
                <a:gd name="adj1" fmla="val 47620"/>
                <a:gd name="adj2" fmla="val 42014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347920" y="5855400"/>
              <a:ext cx="1059480" cy="709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2494080" y="6553800"/>
              <a:ext cx="25200" cy="6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2519640" y="6548400"/>
              <a:ext cx="18360" cy="5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2538000" y="6543000"/>
              <a:ext cx="100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48440" y="6543360"/>
              <a:ext cx="97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2558520" y="6536160"/>
              <a:ext cx="1008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2568600" y="6531120"/>
              <a:ext cx="46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573640" y="6526080"/>
              <a:ext cx="32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77240" y="6526440"/>
              <a:ext cx="46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2582280" y="6521400"/>
              <a:ext cx="46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2587320" y="6514200"/>
              <a:ext cx="468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92360" y="6514560"/>
              <a:ext cx="50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2597760" y="6509520"/>
              <a:ext cx="46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2602800" y="6502320"/>
              <a:ext cx="468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07840" y="650268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2607840" y="6497640"/>
              <a:ext cx="46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2612520" y="6492600"/>
              <a:ext cx="32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16120" y="649296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2616120" y="6485760"/>
              <a:ext cx="468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21160" y="6486120"/>
              <a:ext cx="180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621160" y="6480720"/>
              <a:ext cx="50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626560" y="6473880"/>
              <a:ext cx="144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26560" y="6474240"/>
              <a:ext cx="468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631600" y="6468840"/>
              <a:ext cx="14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31600" y="6469200"/>
              <a:ext cx="46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636640" y="646380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2636640" y="6456960"/>
              <a:ext cx="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36640" y="6457320"/>
              <a:ext cx="468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2641680" y="645192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41680" y="6452280"/>
              <a:ext cx="50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2647080" y="644688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47080" y="644724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647080" y="6440040"/>
              <a:ext cx="468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52120" y="644040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2652120" y="643500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652120" y="6429960"/>
              <a:ext cx="46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56800" y="643032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2656800" y="6423120"/>
              <a:ext cx="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56800" y="6423480"/>
              <a:ext cx="468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2661840" y="641808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61840" y="641844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2661840" y="641304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1840" y="6413400"/>
              <a:ext cx="3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2665440" y="6406200"/>
              <a:ext cx="144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65440" y="6406560"/>
              <a:ext cx="14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2665440" y="6401160"/>
              <a:ext cx="46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70480" y="640152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2670480" y="6394320"/>
              <a:ext cx="180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70480" y="6394680"/>
              <a:ext cx="180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2670480" y="6389280"/>
              <a:ext cx="50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75880" y="638964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2675880" y="6384240"/>
              <a:ext cx="14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75880" y="638460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2675880" y="6377400"/>
              <a:ext cx="144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75880" y="6377760"/>
              <a:ext cx="468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2680920" y="637236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80920" y="637272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2680920" y="6365520"/>
              <a:ext cx="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680920" y="6365880"/>
              <a:ext cx="468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85960" y="6365880"/>
              <a:ext cx="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2685960" y="636048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85960" y="636084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685960" y="635580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85960" y="6356160"/>
              <a:ext cx="46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691000" y="6348600"/>
              <a:ext cx="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691000" y="6348960"/>
              <a:ext cx="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691000" y="634392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91000" y="634428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691000" y="6338880"/>
              <a:ext cx="4680" cy="5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95680" y="633888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95680" y="633888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695680" y="633348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95680" y="633384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695680" y="6327360"/>
              <a:ext cx="5040" cy="6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01080" y="632736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701080" y="6321960"/>
              <a:ext cx="0" cy="5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01080" y="632196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01080" y="632196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701080" y="6315480"/>
              <a:ext cx="0" cy="6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01080" y="6315480"/>
              <a:ext cx="32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704680" y="6310080"/>
              <a:ext cx="14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04680" y="631044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04680" y="631044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2704680" y="6305040"/>
              <a:ext cx="1440" cy="5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704680" y="630504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704680" y="6298560"/>
              <a:ext cx="6480" cy="6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11160" y="6298560"/>
              <a:ext cx="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711160" y="6293160"/>
              <a:ext cx="0" cy="5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11160" y="629316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11160" y="629316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2711160" y="6286680"/>
              <a:ext cx="0" cy="6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11160" y="6286680"/>
              <a:ext cx="32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2714760" y="6281280"/>
              <a:ext cx="14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714760" y="628164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714760" y="628164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2714760" y="6276240"/>
              <a:ext cx="1440" cy="5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14760" y="627624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14760" y="627624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2714760" y="6269760"/>
              <a:ext cx="4680" cy="6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19800" y="6269760"/>
              <a:ext cx="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719800" y="6264360"/>
              <a:ext cx="0" cy="5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19800" y="626436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719800" y="626436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719800" y="625896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19800" y="625932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19800" y="6259320"/>
              <a:ext cx="46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2724840" y="6252840"/>
              <a:ext cx="1800" cy="6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24840" y="625284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2724840" y="6247440"/>
              <a:ext cx="1800" cy="5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24840" y="624744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24840" y="624744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2724840" y="6242040"/>
              <a:ext cx="180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24840" y="624240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24840" y="6242400"/>
              <a:ext cx="50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2730240" y="6235920"/>
              <a:ext cx="0" cy="6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30240" y="6235920"/>
              <a:ext cx="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30240" y="6235920"/>
              <a:ext cx="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2730240" y="6230520"/>
              <a:ext cx="0" cy="5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30240" y="623052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2730240" y="622548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730240" y="6225840"/>
              <a:ext cx="46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35280" y="622584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2735280" y="6218280"/>
              <a:ext cx="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35280" y="621864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35280" y="621864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735280" y="621360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35280" y="621396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35280" y="621396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735280" y="6207120"/>
              <a:ext cx="0" cy="6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735280" y="6207120"/>
              <a:ext cx="468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39960" y="6207120"/>
              <a:ext cx="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2739960" y="6202080"/>
              <a:ext cx="0" cy="5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39960" y="620208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39960" y="620208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2739960" y="619668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39960" y="619704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39960" y="619704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739960" y="6189840"/>
              <a:ext cx="468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45000" y="619020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45000" y="619020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2745000" y="618480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45000" y="618516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45000" y="618516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2745000" y="617976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45000" y="618012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45000" y="618012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45000" y="6180120"/>
              <a:ext cx="50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2750400" y="6172920"/>
              <a:ext cx="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50400" y="617328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50400" y="617328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2750400" y="616788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50400" y="616824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50400" y="616824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750400" y="6161040"/>
              <a:ext cx="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50400" y="616140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50400" y="6161400"/>
              <a:ext cx="288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753640" y="6156000"/>
              <a:ext cx="180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753640" y="615636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53640" y="615636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53640" y="615636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2753640" y="6150960"/>
              <a:ext cx="180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53640" y="615132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53640" y="615132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2753640" y="6145920"/>
              <a:ext cx="180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53640" y="614628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53640" y="6146280"/>
              <a:ext cx="50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59040" y="614628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2759040" y="6139080"/>
              <a:ext cx="144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59040" y="613944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59040" y="613944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2759040" y="6134040"/>
              <a:ext cx="14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59040" y="613440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59040" y="613440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59040" y="613440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2759040" y="6127200"/>
              <a:ext cx="144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59040" y="6127560"/>
              <a:ext cx="468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64080" y="6127560"/>
              <a:ext cx="14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764080" y="6122160"/>
              <a:ext cx="14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64080" y="612252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64080" y="612252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64080" y="612252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2764080" y="6117120"/>
              <a:ext cx="14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2764080" y="5917680"/>
              <a:ext cx="74520" cy="199800"/>
              <a:chOff x="2764080" y="5917680"/>
              <a:chExt cx="74520" cy="199800"/>
            </a:xfrm>
          </p:grpSpPr>
          <p:sp>
            <p:nvSpPr>
              <p:cNvPr id="278" name=""/>
              <p:cNvSpPr/>
              <p:nvPr/>
            </p:nvSpPr>
            <p:spPr>
              <a:xfrm>
                <a:off x="2764080" y="6117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764080" y="6117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764080" y="6117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2764080" y="6111000"/>
                <a:ext cx="468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768760" y="6111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68760" y="6111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2768760" y="61052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768760" y="6105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68760" y="6105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768760" y="6105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2768760" y="60994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768760" y="6099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768760" y="6099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768760" y="6099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2768760" y="6093720"/>
                <a:ext cx="468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773440" y="6094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773440" y="6094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773440" y="6094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2773440" y="60883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773440" y="6088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773440" y="6088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773440" y="6088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2773440" y="60822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773440" y="6082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73440" y="6082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773440" y="608256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2778840" y="60764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778840" y="6076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778840" y="6076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778840" y="6076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778840" y="6076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2778840" y="60706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778840" y="6071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778840" y="6071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778840" y="6071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2778840" y="60652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778840" y="60656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778840" y="606564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783520" y="60656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2783520" y="605952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783520" y="6059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783520" y="6059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783520" y="6059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783520" y="6059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2783520" y="6054480"/>
                <a:ext cx="360" cy="5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783520" y="6054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783520" y="6054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783520" y="6054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2783520" y="604836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783520" y="604872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788560" y="6048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788560" y="6048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788560" y="6048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2788560" y="604296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788560" y="6043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788560" y="6043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788560" y="6043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2788560" y="60372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788560" y="6037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788560" y="6037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788560" y="6037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788560" y="603756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2793960" y="60314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793960" y="6031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793960" y="6031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793960" y="6031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793960" y="6031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2793960" y="60256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793960" y="6026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793960" y="6026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793960" y="6026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793960" y="6026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2793960" y="601992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793960" y="6020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793960" y="602028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798640" y="6020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798640" y="6020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2798640" y="601416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798640" y="6014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798640" y="6014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798640" y="6014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798640" y="6014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98640" y="6014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2798640" y="60084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798640" y="6008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798640" y="6008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798640" y="6008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798640" y="60087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2803320" y="60030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803320" y="6003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803320" y="6003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803320" y="6003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803320" y="6003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803320" y="6003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2803320" y="59968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803320" y="5997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803320" y="5997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803320" y="5997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803320" y="5997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2803320" y="59914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803320" y="599184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808360" y="5991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808360" y="5991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808360" y="5991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808360" y="5991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2808360" y="598572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808360" y="5986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808360" y="5986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808360" y="5986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808360" y="5986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808360" y="5986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2808360" y="597996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808360" y="5980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808360" y="5980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808360" y="598032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813400" y="5980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813400" y="5980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813400" y="5980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2813400" y="59742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813400" y="5974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813400" y="5974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813400" y="5974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813400" y="5974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813400" y="5974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2813400" y="59684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813400" y="5968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813400" y="5968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813400" y="59688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818440" y="5968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818440" y="5968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818440" y="5968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2818440" y="5963760"/>
                <a:ext cx="360" cy="5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818440" y="5963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818440" y="5963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818440" y="5963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818440" y="5963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818440" y="5963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818440" y="5963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2818440" y="59576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818440" y="5958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818440" y="5958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818440" y="5958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818440" y="59580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823120" y="5958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823120" y="5958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2823120" y="59518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823120" y="595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823120" y="595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823120" y="595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823120" y="595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823120" y="595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823120" y="595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823120" y="595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2823120" y="594612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823120" y="594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823120" y="594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823120" y="594648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828520" y="594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828520" y="594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828520" y="594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828520" y="594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>
                <a:off x="2828520" y="594036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828520" y="5940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828520" y="5940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828520" y="5940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828520" y="5940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828520" y="5940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828520" y="5940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828520" y="5940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828520" y="5940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2828520" y="59346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828520" y="59349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833200" y="5934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833200" y="5934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833200" y="5934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833200" y="5934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833200" y="5934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833200" y="5934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833200" y="5934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2833200" y="59292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833200" y="5929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833200" y="5929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833200" y="5929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833200" y="5929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833200" y="5929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833200" y="59295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838240" y="5929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838240" y="5929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838240" y="5929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838240" y="59234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838240" y="5923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838240" y="5923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838240" y="5923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838240" y="5923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838240" y="5923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838240" y="5923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838240" y="5923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838240" y="5923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838240" y="5923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2838240" y="59176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2836800" y="5889240"/>
              <a:ext cx="64080" cy="28080"/>
              <a:chOff x="2836800" y="5889240"/>
              <a:chExt cx="64080" cy="28080"/>
            </a:xfrm>
          </p:grpSpPr>
          <p:sp>
            <p:nvSpPr>
              <p:cNvPr id="479" name=""/>
              <p:cNvSpPr/>
              <p:nvPr/>
            </p:nvSpPr>
            <p:spPr>
              <a:xfrm>
                <a:off x="2836800" y="59169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841480" y="5916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841480" y="5916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841480" y="5916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841480" y="5916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841480" y="5916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841480" y="5916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841480" y="5916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841480" y="5916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841480" y="5916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841480" y="5916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2841480" y="59112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841480" y="5911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841480" y="5911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841480" y="5911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841480" y="5911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841480" y="5911560"/>
                <a:ext cx="540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846880" y="5911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846880" y="5911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846880" y="5911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846880" y="5911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846880" y="5911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846880" y="5911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846880" y="5911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846880" y="5911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2846880" y="59058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846880" y="5906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846880" y="5906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846880" y="5906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846880" y="5906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846880" y="5906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846880" y="59061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51560" y="5906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851560" y="5906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851560" y="5906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851560" y="5906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851560" y="5906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851560" y="5906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851560" y="5906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851560" y="5906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2851560" y="59000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85156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85156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85156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85156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85156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85156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851560" y="59004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8562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8562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8562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8562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8562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8562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8562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8562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8562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8562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8562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8562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2856240" y="58946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85624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856240" y="589500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86164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86164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86164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86164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86164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86164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86164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86164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86164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86164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86164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86164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86164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86164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86164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861640" y="58950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86632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86632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86632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86632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86632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86632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86632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86632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86632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86632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86632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86632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86632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86632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2866320" y="58892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866320" y="58896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8710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8710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8710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8710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8710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8710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8710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8710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8710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8710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8710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8710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8710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8710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8710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871000" y="5889600"/>
                <a:ext cx="540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8764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8764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8764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8764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8764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8764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8764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8764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8764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8764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8764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8764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8764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8764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876400" y="58896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88108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88108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88108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88108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88108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88108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88108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88108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88108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88108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88108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88108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88108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88108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88108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881080" y="58896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885760" y="58896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88576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88576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88576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88576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88576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88576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88576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88576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88576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88576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88576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88576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88576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88576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885760" y="58950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89080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89080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89080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89080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89080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9080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89080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89080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89080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89080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89080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89080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89080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89080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89080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890800" y="589500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89584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895840" y="58950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8958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8958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8958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8958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958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8958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8958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8958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8958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8958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8958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8958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895840" y="59004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90052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90052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90052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90052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90052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90052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900520" y="59004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900520" y="5906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900520" y="5906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900520" y="5906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900520" y="5906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2901600" y="5906520"/>
              <a:ext cx="74160" cy="160200"/>
              <a:chOff x="2901600" y="5906520"/>
              <a:chExt cx="74160" cy="160200"/>
            </a:xfrm>
          </p:grpSpPr>
          <p:sp>
            <p:nvSpPr>
              <p:cNvPr id="680" name=""/>
              <p:cNvSpPr/>
              <p:nvPr/>
            </p:nvSpPr>
            <p:spPr>
              <a:xfrm>
                <a:off x="2901600" y="5906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901600" y="5906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901600" y="5906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901600" y="5906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901600" y="590652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906280" y="5906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906280" y="5906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906280" y="5906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906280" y="5906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906280" y="5906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906280" y="590652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906280" y="5911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906280" y="5911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906280" y="5911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906280" y="5911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906280" y="5911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906280" y="5911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906280" y="5911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906280" y="5911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906280" y="591192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911680" y="5911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911680" y="5911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911680" y="5911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911680" y="5911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911680" y="591192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911680" y="5917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911680" y="5917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911680" y="5917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911680" y="5917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911680" y="5917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911680" y="5917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911680" y="5917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911680" y="5917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911680" y="5917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911680" y="5917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911680" y="591768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916360" y="59176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916360" y="5923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916360" y="5923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916360" y="5923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916360" y="5923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916360" y="5923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916360" y="5923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916360" y="5923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916360" y="5923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916360" y="5923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916360" y="59234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916360" y="5929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916360" y="5929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916360" y="5929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916360" y="59295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921400" y="5929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921400" y="5929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921400" y="5929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921400" y="5929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921400" y="5929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921400" y="592956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921400" y="5935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921400" y="5935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921400" y="5935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921400" y="5935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921400" y="5935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921400" y="5935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921400" y="5935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921400" y="593532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926080" y="593532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926080" y="5941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926080" y="5941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926080" y="5941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926080" y="5941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926080" y="5941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926080" y="5941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926080" y="5941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926080" y="5941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926080" y="59410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926080" y="5946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926080" y="5946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926080" y="5946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926080" y="5946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926080" y="594684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931120" y="5946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931120" y="5946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931120" y="59468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931120" y="5952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931120" y="5952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931120" y="5952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931120" y="5952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931120" y="5952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931120" y="5952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931120" y="5952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931120" y="59526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931120" y="595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931120" y="595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931120" y="59583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936160" y="595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936160" y="595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2936160" y="595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2936160" y="595836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936160" y="596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936160" y="596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936160" y="596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936160" y="596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936160" y="596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936160" y="596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936160" y="5964120"/>
                <a:ext cx="360" cy="5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2936160" y="5969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2936160" y="5969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936160" y="5969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936160" y="59691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940840" y="5969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940840" y="5969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2940840" y="596916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2940840" y="5974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940840" y="5974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940840" y="5974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940840" y="5974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2940840" y="5974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940840" y="597492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940840" y="5980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940840" y="5980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940840" y="5980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940840" y="598068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946240" y="5980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946240" y="5980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946240" y="59806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946240" y="5986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946240" y="5986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946240" y="5986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946240" y="5986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946240" y="5986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946240" y="59864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946240" y="59922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946240" y="59922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946240" y="59922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946240" y="59922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946240" y="59922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950920" y="59922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950920" y="5997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950920" y="5997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950920" y="5997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950920" y="5997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950920" y="599796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950920" y="6003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950920" y="6003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950920" y="6003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950920" y="6003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950920" y="6003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950920" y="60037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950920" y="600948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955960" y="6009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955960" y="6009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955960" y="6009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955960" y="60094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955960" y="6015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955960" y="6015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955960" y="6015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955960" y="6015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2955960" y="6015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955960" y="60152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955960" y="6021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955960" y="6021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955960" y="60210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960640" y="6021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960640" y="60210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960640" y="6026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960640" y="6026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960640" y="6026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960640" y="6026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960640" y="602676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960640" y="6032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960640" y="6032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2960640" y="6032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960640" y="6032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960640" y="603252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960640" y="603828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966040" y="6038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966040" y="6038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966040" y="6038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966040" y="60382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966040" y="6044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966040" y="6044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966040" y="6044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966040" y="60440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966040" y="6049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966040" y="6049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966040" y="6049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966040" y="60498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970720" y="60498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970720" y="6055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970720" y="6055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970720" y="6055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970720" y="6055560"/>
                <a:ext cx="360" cy="5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970720" y="606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970720" y="606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970720" y="606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970720" y="606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970720" y="60606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970720" y="6066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970720" y="60663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975400" y="6066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"/>
            <p:cNvGrpSpPr/>
            <p:nvPr/>
          </p:nvGrpSpPr>
          <p:grpSpPr>
            <a:xfrm>
              <a:off x="2974680" y="6064920"/>
              <a:ext cx="162720" cy="427320"/>
              <a:chOff x="2974680" y="6064920"/>
              <a:chExt cx="162720" cy="427320"/>
            </a:xfrm>
          </p:grpSpPr>
          <p:sp>
            <p:nvSpPr>
              <p:cNvPr id="881" name=""/>
              <p:cNvSpPr/>
              <p:nvPr/>
            </p:nvSpPr>
            <p:spPr>
              <a:xfrm>
                <a:off x="2974680" y="606492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974680" y="6070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974680" y="6070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974680" y="6070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974680" y="607032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974680" y="6076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974680" y="6076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974680" y="6076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974680" y="6076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974680" y="60760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974680" y="608184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979720" y="6081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979720" y="6081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979720" y="60818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979720" y="6087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979720" y="6087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979720" y="6087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979720" y="60876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979720" y="6093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979720" y="6093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979720" y="6093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2979720" y="6093360"/>
                <a:ext cx="468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2984760" y="6099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2984760" y="6099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2984760" y="6099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2984760" y="609912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984760" y="6104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2984760" y="6104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984760" y="6104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2984760" y="61048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2984760" y="61106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984760" y="61106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2984760" y="6110640"/>
                <a:ext cx="468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989440" y="6116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989440" y="6116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2989440" y="6116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989440" y="61164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989440" y="6122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989440" y="6122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2989440" y="6122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989440" y="612216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989440" y="6127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2989440" y="612792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994120" y="612792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2994120" y="6133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2994120" y="6133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994120" y="6133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2994120" y="61336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2994120" y="6139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994120" y="6139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994120" y="61394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994120" y="6144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994120" y="6144840"/>
                <a:ext cx="540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999520" y="6144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999520" y="61448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999520" y="6150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999520" y="6150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2999520" y="6150960"/>
                <a:ext cx="360" cy="5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999520" y="6156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2999520" y="6156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999520" y="6156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999520" y="61560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999520" y="61617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004200" y="6161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004200" y="616176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004200" y="6167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004200" y="6167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004200" y="61675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04200" y="6173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004200" y="6173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004200" y="61732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004200" y="617904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008880" y="6179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08880" y="6179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008880" y="61790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008880" y="6184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008880" y="6184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008880" y="61848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08880" y="6190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008880" y="6190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008880" y="6190560"/>
                <a:ext cx="504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014280" y="6195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014280" y="6195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14280" y="619596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014280" y="6201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014280" y="6201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014280" y="620172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014280" y="6207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14280" y="620748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019320" y="62074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019320" y="6213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019320" y="6213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019320" y="62132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019320" y="6219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019320" y="6219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019320" y="62190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019320" y="6224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019320" y="62247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024000" y="62247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024000" y="6230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024000" y="623052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024000" y="6236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024000" y="6236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024000" y="62362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3024000" y="6242040"/>
                <a:ext cx="540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3029400" y="6242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3029400" y="6242040"/>
                <a:ext cx="360" cy="5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029400" y="6247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3029400" y="6247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029400" y="62470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3029400" y="6252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029400" y="62528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3029400" y="62586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3034080" y="6258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3034080" y="62586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3034080" y="6264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034080" y="6264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034080" y="626436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034080" y="6270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3034080" y="6270120"/>
                <a:ext cx="468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038760" y="6275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3038760" y="6275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038760" y="62758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038760" y="62816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3038760" y="62816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038760" y="62816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3038760" y="62874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043440" y="62874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043440" y="6293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043440" y="6293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043440" y="629316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043440" y="6298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043440" y="6298560"/>
                <a:ext cx="504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048840" y="6304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048840" y="630432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048840" y="6310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048840" y="6310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048840" y="63100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048840" y="63162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053520" y="63162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53520" y="6321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053520" y="6321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3520" y="63216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053520" y="6327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053520" y="6327360"/>
                <a:ext cx="468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058560" y="6333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058560" y="633312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058560" y="6338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058560" y="6338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058560" y="6338880"/>
                <a:ext cx="5040" cy="5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063600" y="6344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063600" y="63442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63600" y="6349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63600" y="63496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63600" y="635544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068640" y="63554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068640" y="63612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068640" y="63612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068640" y="6366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068640" y="63669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073320" y="636696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073320" y="6372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073320" y="637272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073320" y="637848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078000" y="63784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078000" y="6384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078000" y="63842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078000" y="6390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078000" y="6390000"/>
                <a:ext cx="504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083400" y="6395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083400" y="639576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083400" y="6401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083400" y="6401520"/>
                <a:ext cx="468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088080" y="6407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088080" y="64072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088080" y="641304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092760" y="64130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092760" y="6418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092760" y="64188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092760" y="642420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098160" y="64242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098160" y="6429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098160" y="6429960"/>
                <a:ext cx="4680" cy="5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102840" y="643536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102840" y="6441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102840" y="6441120"/>
                <a:ext cx="468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107880" y="6446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107880" y="64468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107880" y="645264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3112560" y="64526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3112560" y="645804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117960" y="64580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117960" y="64638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117960" y="64695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122640" y="646956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122640" y="647532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127320" y="64753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127320" y="6481080"/>
                <a:ext cx="504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132720" y="6486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132720" y="6486840"/>
                <a:ext cx="468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1" name=""/>
            <p:cNvSpPr/>
            <p:nvPr/>
          </p:nvSpPr>
          <p:spPr>
            <a:xfrm>
              <a:off x="3137400" y="649296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137400" y="6492960"/>
              <a:ext cx="46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142440" y="6498000"/>
              <a:ext cx="32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146040" y="6502680"/>
              <a:ext cx="14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146040" y="6502680"/>
              <a:ext cx="468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151080" y="6509880"/>
              <a:ext cx="46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156120" y="6514560"/>
              <a:ext cx="50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161520" y="6514560"/>
              <a:ext cx="468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166200" y="6521760"/>
              <a:ext cx="46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171240" y="6526440"/>
              <a:ext cx="46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176280" y="6526440"/>
              <a:ext cx="50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181680" y="6531480"/>
              <a:ext cx="46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186720" y="6536520"/>
              <a:ext cx="828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195360" y="6543360"/>
              <a:ext cx="97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205080" y="6543360"/>
              <a:ext cx="100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215520" y="6548400"/>
              <a:ext cx="20160" cy="5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236040" y="6553800"/>
              <a:ext cx="23400" cy="6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836720" y="5123520"/>
              <a:ext cx="522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334240" y="3752640"/>
              <a:ext cx="1071360" cy="7264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2482200" y="4467240"/>
              <a:ext cx="2520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2507400" y="4462200"/>
              <a:ext cx="1836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2526120" y="4455360"/>
              <a:ext cx="1008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536560" y="4455720"/>
              <a:ext cx="972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2546280" y="4450320"/>
              <a:ext cx="100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2556720" y="4443480"/>
              <a:ext cx="468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2561760" y="4438440"/>
              <a:ext cx="46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566800" y="4438800"/>
              <a:ext cx="50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2572200" y="4433760"/>
              <a:ext cx="46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2577240" y="4426560"/>
              <a:ext cx="468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582280" y="4426920"/>
              <a:ext cx="468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2587320" y="4421880"/>
              <a:ext cx="46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V="1">
              <a:off x="2592360" y="4414680"/>
              <a:ext cx="504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597760" y="441504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2597760" y="4410000"/>
              <a:ext cx="32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2601000" y="4402800"/>
              <a:ext cx="468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606040" y="4403160"/>
              <a:ext cx="14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2606040" y="4398120"/>
              <a:ext cx="46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611080" y="439848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V="1">
              <a:off x="2611080" y="4390920"/>
              <a:ext cx="468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V="1">
              <a:off x="2616120" y="4386240"/>
              <a:ext cx="180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616120" y="4386600"/>
              <a:ext cx="46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2621160" y="438120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621160" y="4381560"/>
              <a:ext cx="50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2626560" y="4374360"/>
              <a:ext cx="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2626560" y="436932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626560" y="4369680"/>
              <a:ext cx="46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>
              <a:off x="2631600" y="4363200"/>
              <a:ext cx="0" cy="6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631600" y="4363200"/>
              <a:ext cx="468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2636640" y="4357800"/>
              <a:ext cx="0" cy="5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636640" y="435780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2636640" y="4351320"/>
              <a:ext cx="4680" cy="6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641680" y="4351320"/>
              <a:ext cx="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>
              <a:off x="2641680" y="4345920"/>
              <a:ext cx="0" cy="5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>
              <a:off x="2641680" y="4340520"/>
              <a:ext cx="50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647080" y="434088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V="1">
              <a:off x="2647080" y="4334400"/>
              <a:ext cx="0" cy="6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647080" y="4334400"/>
              <a:ext cx="468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V="1">
              <a:off x="2652120" y="4329000"/>
              <a:ext cx="0" cy="5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652120" y="432900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>
              <a:off x="2652120" y="4322520"/>
              <a:ext cx="0" cy="6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652120" y="4322520"/>
              <a:ext cx="468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V="1">
              <a:off x="2656800" y="4317120"/>
              <a:ext cx="0" cy="5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656800" y="431712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V="1">
              <a:off x="2656800" y="4310640"/>
              <a:ext cx="3240" cy="6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660400" y="4310640"/>
              <a:ext cx="14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2660400" y="4305240"/>
              <a:ext cx="14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660400" y="430560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2660400" y="4298400"/>
              <a:ext cx="648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666880" y="4298760"/>
              <a:ext cx="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V="1">
              <a:off x="2666880" y="429336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666880" y="429372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V="1">
              <a:off x="2666880" y="4286520"/>
              <a:ext cx="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666880" y="4286880"/>
              <a:ext cx="32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V="1">
              <a:off x="2670480" y="4281480"/>
              <a:ext cx="180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670480" y="428184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2670480" y="4276440"/>
              <a:ext cx="180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670480" y="4276800"/>
              <a:ext cx="50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675880" y="427680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2675880" y="4269600"/>
              <a:ext cx="144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675880" y="426996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2675880" y="4264560"/>
              <a:ext cx="14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675880" y="4264920"/>
              <a:ext cx="46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2680920" y="4257720"/>
              <a:ext cx="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680920" y="425808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>
              <a:off x="2680920" y="425268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680920" y="425304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2680920" y="4247640"/>
              <a:ext cx="46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685960" y="424800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685960" y="424800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2685960" y="4240800"/>
              <a:ext cx="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685960" y="424116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V="1">
              <a:off x="2685960" y="4235760"/>
              <a:ext cx="46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691000" y="423612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V="1">
              <a:off x="2691000" y="4228920"/>
              <a:ext cx="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691000" y="422928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691000" y="422928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2691000" y="422388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91000" y="4224240"/>
              <a:ext cx="46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2695680" y="4217040"/>
              <a:ext cx="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695680" y="421740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695680" y="421740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V="1">
              <a:off x="2695680" y="421200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695680" y="421236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>
              <a:off x="2695680" y="4205160"/>
              <a:ext cx="504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701080" y="420552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V="1">
              <a:off x="2701080" y="420012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701080" y="420048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701080" y="420048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2701080" y="4194000"/>
              <a:ext cx="0" cy="6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701080" y="4194000"/>
              <a:ext cx="468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2706120" y="4188600"/>
              <a:ext cx="0" cy="5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706120" y="418860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706120" y="418860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2706120" y="418320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706120" y="418356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706120" y="418356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V="1">
              <a:off x="2706120" y="4176360"/>
              <a:ext cx="468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711160" y="417672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V="1">
              <a:off x="2711160" y="417132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711160" y="417168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711160" y="417168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V="1">
              <a:off x="2711160" y="4165200"/>
              <a:ext cx="0" cy="6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711160" y="416520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711160" y="4165200"/>
              <a:ext cx="46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2716200" y="4159800"/>
              <a:ext cx="0" cy="5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716200" y="415980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2716200" y="4153320"/>
              <a:ext cx="0" cy="6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716200" y="4153320"/>
              <a:ext cx="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716200" y="4153320"/>
              <a:ext cx="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>
              <a:off x="2716200" y="4147920"/>
              <a:ext cx="0" cy="5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716200" y="414792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716200" y="4147920"/>
              <a:ext cx="50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2721600" y="414252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721600" y="414288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721600" y="414288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2721600" y="4136400"/>
              <a:ext cx="0" cy="6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721600" y="4136400"/>
              <a:ext cx="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V="1">
              <a:off x="2721600" y="4131000"/>
              <a:ext cx="0" cy="5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721600" y="4131000"/>
              <a:ext cx="2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724840" y="413100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2724840" y="4124520"/>
              <a:ext cx="1800" cy="6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724840" y="4124520"/>
              <a:ext cx="180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724840" y="4124520"/>
              <a:ext cx="180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V="1">
              <a:off x="2724840" y="4119120"/>
              <a:ext cx="180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724840" y="411948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724840" y="411948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V="1">
              <a:off x="2724840" y="4112280"/>
              <a:ext cx="180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724840" y="4112640"/>
              <a:ext cx="50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730240" y="4112640"/>
              <a:ext cx="14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2730240" y="4107240"/>
              <a:ext cx="14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730240" y="410760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730240" y="410760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V="1">
              <a:off x="2730240" y="4100400"/>
              <a:ext cx="144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730240" y="4100760"/>
              <a:ext cx="14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730240" y="4100760"/>
              <a:ext cx="14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2730240" y="4095360"/>
              <a:ext cx="46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735280" y="409572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735280" y="409572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V="1">
              <a:off x="2735280" y="4088520"/>
              <a:ext cx="144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735280" y="4088880"/>
              <a:ext cx="14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735280" y="4088880"/>
              <a:ext cx="14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2735280" y="4083480"/>
              <a:ext cx="14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735280" y="408384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735280" y="408384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735280" y="4083840"/>
              <a:ext cx="46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V="1">
              <a:off x="2739960" y="4078800"/>
              <a:ext cx="180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739960" y="407916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739960" y="407916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V="1">
              <a:off x="2739960" y="4071600"/>
              <a:ext cx="180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739960" y="407196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739960" y="407196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V="1">
              <a:off x="2739960" y="4066920"/>
              <a:ext cx="180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739960" y="406728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739960" y="4067280"/>
              <a:ext cx="46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V="1">
              <a:off x="2745000" y="4059720"/>
              <a:ext cx="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745000" y="406008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745000" y="406008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745000" y="406008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V="1">
              <a:off x="2745000" y="405504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745000" y="405540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745000" y="405540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2745000" y="405000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745000" y="405036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745000" y="4050360"/>
              <a:ext cx="50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750400" y="405036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2750400" y="4043160"/>
              <a:ext cx="144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750400" y="404352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750400" y="404352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V="1">
              <a:off x="2750400" y="4038120"/>
              <a:ext cx="14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750400" y="403848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750400" y="403848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750400" y="403848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V="1">
              <a:off x="2750400" y="4031280"/>
              <a:ext cx="144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750400" y="4031640"/>
              <a:ext cx="468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755440" y="403164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V="1">
              <a:off x="2755440" y="402624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755440" y="402660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755440" y="402660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755440" y="402660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V="1">
              <a:off x="2755440" y="4019400"/>
              <a:ext cx="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1" name=""/>
            <p:cNvGrpSpPr/>
            <p:nvPr/>
          </p:nvGrpSpPr>
          <p:grpSpPr>
            <a:xfrm>
              <a:off x="2755440" y="3816720"/>
              <a:ext cx="74520" cy="204480"/>
              <a:chOff x="2755440" y="3816720"/>
              <a:chExt cx="74520" cy="204480"/>
            </a:xfrm>
          </p:grpSpPr>
          <p:sp>
            <p:nvSpPr>
              <p:cNvPr id="1282" name=""/>
              <p:cNvSpPr/>
              <p:nvPr/>
            </p:nvSpPr>
            <p:spPr>
              <a:xfrm>
                <a:off x="2755440" y="4020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2755440" y="4020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2755440" y="4020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V="1">
                <a:off x="2755440" y="4014720"/>
                <a:ext cx="468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2760120" y="4014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2760120" y="4014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flipV="1">
                <a:off x="2760120" y="40089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2760120" y="4008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2760120" y="4008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2760120" y="4008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V="1">
                <a:off x="2760120" y="40032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2760120" y="40032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2760120" y="40032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2760120" y="40032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V="1">
                <a:off x="2760120" y="3997440"/>
                <a:ext cx="468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2764800" y="3997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2764800" y="3997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2764800" y="3997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V="1">
                <a:off x="2764800" y="39913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2764800" y="3991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2764800" y="3991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2764800" y="3991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V="1">
                <a:off x="2764800" y="39855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2764800" y="3985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2764800" y="3985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764800" y="398556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V="1">
                <a:off x="2770200" y="39794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2770200" y="3979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770200" y="3979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2770200" y="3979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2770200" y="3979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V="1">
                <a:off x="2770200" y="39736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2770200" y="3973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2770200" y="3973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2770200" y="3973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V="1">
                <a:off x="2770200" y="39679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2770200" y="3967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2770200" y="396792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2774880" y="3967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flipV="1">
                <a:off x="2774880" y="39621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2774880" y="3962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2774880" y="3962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2774880" y="3962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2774880" y="3962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V="1">
                <a:off x="2774880" y="3956760"/>
                <a:ext cx="360" cy="5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2774880" y="3956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2774880" y="3956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2774880" y="3956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V="1">
                <a:off x="2774880" y="39510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2774880" y="39510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2779920" y="3951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2779920" y="3951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2779920" y="3951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flipV="1">
                <a:off x="2779920" y="39448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2779920" y="3944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2779920" y="3944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2779920" y="3944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V="1">
                <a:off x="2779920" y="39391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2779920" y="3939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2779920" y="3939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2779920" y="3939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2779920" y="393912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V="1">
                <a:off x="2785320" y="39333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2785320" y="3933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2785320" y="3933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2785320" y="3933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2785320" y="3933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V="1">
                <a:off x="2785320" y="39276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2785320" y="3927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2785320" y="3927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2785320" y="3927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2785320" y="3927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V="1">
                <a:off x="2785320" y="39214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2785320" y="3921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2785320" y="392148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2790000" y="3921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2790000" y="3921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V="1">
                <a:off x="2790000" y="39157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2790000" y="3915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2790000" y="3915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2790000" y="3915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2790000" y="3915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2790000" y="3915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V="1">
                <a:off x="2790000" y="39099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2790000" y="3909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2790000" y="3909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2790000" y="3909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2790000" y="39099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V="1">
                <a:off x="2794680" y="39038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2794680" y="3903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794680" y="3903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794680" y="3903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794680" y="3903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2794680" y="3903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V="1">
                <a:off x="2794680" y="38980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2794680" y="3898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2794680" y="3898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2794680" y="3898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2794680" y="3898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V="1">
                <a:off x="2794680" y="38923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2794680" y="389232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2799720" y="3892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2799720" y="3892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2799720" y="3892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2799720" y="3892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flipV="1">
                <a:off x="2799720" y="38862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2799720" y="38862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2799720" y="38862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2799720" y="38862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799720" y="38862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2799720" y="38862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V="1">
                <a:off x="2799720" y="38804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2799720" y="3880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2799720" y="3880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2799720" y="388044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2804760" y="3880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2804760" y="3880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2804760" y="3880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V="1">
                <a:off x="2804760" y="38746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2804760" y="3874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2804760" y="3874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2804760" y="3874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2804760" y="3874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2804760" y="3874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V="1">
                <a:off x="2804760" y="38689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2804760" y="3868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2804760" y="3868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2804760" y="386892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2809800" y="3868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809800" y="3868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2809800" y="3868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V="1">
                <a:off x="2809800" y="3863520"/>
                <a:ext cx="360" cy="5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2809800" y="3863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2809800" y="3863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2809800" y="3863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2809800" y="3863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2809800" y="3863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2809800" y="3863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 flipV="1">
                <a:off x="2809800" y="38577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2809800" y="3857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2809800" y="3857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2809800" y="3857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2809800" y="38577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2814480" y="3857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2814480" y="3857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flipV="1">
                <a:off x="2814480" y="38516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2814480" y="38516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2814480" y="38516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814480" y="38516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814480" y="38516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2814480" y="38516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2814480" y="38516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2814480" y="38516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flipV="1">
                <a:off x="2814480" y="38458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2814480" y="3845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2814480" y="3845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2814480" y="384588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2819880" y="3845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2819880" y="3845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2819880" y="3845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819880" y="3845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flipV="1">
                <a:off x="2819880" y="38401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2819880" y="3840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2819880" y="3840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2819880" y="3840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2819880" y="3840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2819880" y="3840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2819880" y="3840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2819880" y="3840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2819880" y="3840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flipV="1">
                <a:off x="2819880" y="38343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819880" y="38343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824560" y="3834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824560" y="3834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824560" y="3834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824560" y="3834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824560" y="3834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824560" y="3834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824560" y="3834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flipV="1">
                <a:off x="2824560" y="38282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824560" y="3828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2824560" y="3828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2824560" y="3828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2824560" y="3828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2824560" y="3828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2824560" y="382824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829600" y="3828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2829600" y="3828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829600" y="3828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 flipV="1">
                <a:off x="2829600" y="38224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829600" y="3822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2829600" y="3822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2829600" y="3822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2829600" y="3822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829600" y="3822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2829600" y="3822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2829600" y="3822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2829600" y="3822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2829600" y="3822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 flipV="1">
                <a:off x="2829600" y="38167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2" name=""/>
            <p:cNvGrpSpPr/>
            <p:nvPr/>
          </p:nvGrpSpPr>
          <p:grpSpPr>
            <a:xfrm>
              <a:off x="2830320" y="3786480"/>
              <a:ext cx="64080" cy="29880"/>
              <a:chOff x="2830320" y="3786480"/>
              <a:chExt cx="64080" cy="29880"/>
            </a:xfrm>
          </p:grpSpPr>
          <p:sp>
            <p:nvSpPr>
              <p:cNvPr id="1483" name=""/>
              <p:cNvSpPr/>
              <p:nvPr/>
            </p:nvSpPr>
            <p:spPr>
              <a:xfrm>
                <a:off x="2830320" y="3816000"/>
                <a:ext cx="432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2834640" y="3816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2834640" y="3816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2834640" y="3816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2834640" y="3816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2834640" y="3816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2834640" y="3816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2834640" y="3816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2834640" y="3816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2834640" y="3816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2834640" y="3816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flipV="1">
                <a:off x="2834640" y="38102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834640" y="3810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2834640" y="3810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2834640" y="3810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834640" y="3810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2834640" y="381024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2840040" y="3810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840040" y="3810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2840040" y="3810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2840040" y="3810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840040" y="3810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840040" y="3810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2840040" y="3810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840040" y="3810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V="1">
                <a:off x="2840040" y="38041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840040" y="380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840040" y="380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840040" y="380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840040" y="380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840040" y="380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840040" y="3804120"/>
                <a:ext cx="432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844720" y="380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844720" y="380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844720" y="380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2844720" y="380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2844720" y="380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2844720" y="380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844720" y="380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2844720" y="380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V="1">
                <a:off x="2844720" y="37983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284472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284472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284472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84472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84472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84472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844720" y="37983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8497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8497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28497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8497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28497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28497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8497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8497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8497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8497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8497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8497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flipV="1">
                <a:off x="2849760" y="37922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84976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849760" y="379224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85480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85480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85480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85480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85480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85480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85480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85480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85480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85480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85480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85480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85480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85480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85480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854800" y="379224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85984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285984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85984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85984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85984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85984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85984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85984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85984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85984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85984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85984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85984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85984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V="1">
                <a:off x="2859840" y="37864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859840" y="3786480"/>
                <a:ext cx="432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8641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8641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8641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8641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8641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8641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28641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28641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28641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28641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28641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28641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8641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8641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8641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864160" y="378648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8695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8695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8695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8695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8695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28695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28695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28695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28695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28695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28695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28695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28695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28695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2869560" y="3786480"/>
                <a:ext cx="432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287424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287424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287424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287424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287424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287424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287424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287424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287424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287424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287424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287424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287424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287424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287424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874240" y="378648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879280" y="37864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87928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87928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87928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87928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87928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287928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287928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287928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287928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287928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287928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287928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287928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287928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2879280" y="379224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288396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288396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288396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288396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288396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288396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288396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288396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288396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288396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288396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288396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288396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288396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288396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2883960" y="379224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288936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2889360" y="37922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28893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28893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28893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28893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28893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28893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28893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28893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28893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28893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28893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28893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2889360" y="3798360"/>
                <a:ext cx="432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289404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289404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289404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289404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289404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289404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2894040" y="37983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2894040" y="380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894040" y="380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894040" y="380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894040" y="380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3" name=""/>
            <p:cNvGrpSpPr/>
            <p:nvPr/>
          </p:nvGrpSpPr>
          <p:grpSpPr>
            <a:xfrm>
              <a:off x="2894400" y="3804840"/>
              <a:ext cx="74160" cy="162000"/>
              <a:chOff x="2894400" y="3804840"/>
              <a:chExt cx="74160" cy="162000"/>
            </a:xfrm>
          </p:grpSpPr>
          <p:sp>
            <p:nvSpPr>
              <p:cNvPr id="1684" name=""/>
              <p:cNvSpPr/>
              <p:nvPr/>
            </p:nvSpPr>
            <p:spPr>
              <a:xfrm>
                <a:off x="2894400" y="3804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894400" y="3804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894400" y="3804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894400" y="3804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2894400" y="380484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2899080" y="3804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2899080" y="3804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2899080" y="3804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2899080" y="3804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2899080" y="3804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899080" y="38048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899080" y="381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899080" y="381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899080" y="381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2899080" y="381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899080" y="381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899080" y="381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2899080" y="381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899080" y="381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899080" y="381060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904480" y="381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2904480" y="381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904480" y="381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2904480" y="381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904480" y="38106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2904480" y="3816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904480" y="3816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904480" y="3816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904480" y="3816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2904480" y="3816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2904480" y="3816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2904480" y="3816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904480" y="3816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2904480" y="3816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2904480" y="3816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2904480" y="38163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2909160" y="38163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909160" y="3822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909160" y="3822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909160" y="3822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909160" y="3822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909160" y="3822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2909160" y="3822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2909160" y="3822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2909160" y="3822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909160" y="3822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909160" y="38221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2909160" y="3827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2909160" y="3827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2909160" y="3827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2909160" y="382788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2914200" y="3827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2914200" y="3827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2914200" y="3827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2914200" y="3827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2914200" y="3827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2914200" y="38278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2914200" y="3834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2914200" y="3834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2914200" y="3834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2914200" y="3834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2914200" y="3834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2914200" y="3834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914200" y="3834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2914200" y="38340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2918880" y="38340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2918880" y="3839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918880" y="3839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2918880" y="3839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2918880" y="3839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2918880" y="3839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2918880" y="3839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2918880" y="3839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2918880" y="3839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2918880" y="38397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2918880" y="3845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2918880" y="3845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2918880" y="3845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918880" y="3845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918880" y="384552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923920" y="3845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923920" y="3845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923920" y="38455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923920" y="3851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923920" y="3851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923920" y="3851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2923920" y="3851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923920" y="3851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2923920" y="3851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2923920" y="3851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923920" y="38512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923920" y="3857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923920" y="3857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2923920" y="385704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2928960" y="3857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2928960" y="3857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2928960" y="3857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2928960" y="38570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2928960" y="3862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2928960" y="3862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2928960" y="3862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2928960" y="3862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2928960" y="3862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2928960" y="3862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2928960" y="3862800"/>
                <a:ext cx="360" cy="5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2928960" y="38682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928960" y="38682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2928960" y="38682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2928960" y="38682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2933640" y="38682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933640" y="38682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933640" y="38682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933640" y="3873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933640" y="3873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2933640" y="3873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2933640" y="3873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2933640" y="3873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933640" y="38739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933640" y="3879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933640" y="3879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933640" y="3879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2933640" y="387972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939040" y="3879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2939040" y="3879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2939040" y="38797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2939040" y="3885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2939040" y="3885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2939040" y="3885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2939040" y="3885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2939040" y="3885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2939040" y="38854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2939040" y="3891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2939040" y="3891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2939040" y="3891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2939040" y="3891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2939040" y="38916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2943720" y="38916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2943720" y="3897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2943720" y="3897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2943720" y="3897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2943720" y="3897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2943720" y="38973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2943720" y="3903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2943720" y="3903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2943720" y="3903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2943720" y="3903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2943720" y="3903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2943720" y="39031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2943720" y="390888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2948760" y="3908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2948760" y="3908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2948760" y="3908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2948760" y="39088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2948760" y="39146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2948760" y="39146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2948760" y="39146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2948760" y="39146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2948760" y="39146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2948760" y="39146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2948760" y="3920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2948760" y="3920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2948760" y="39207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2953440" y="3920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2953440" y="39207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2953440" y="3926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2953440" y="3926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2953440" y="3926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2953440" y="3926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2953440" y="39265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2953440" y="3932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2953440" y="3932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2953440" y="3932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2953440" y="3932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2953440" y="39322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2953440" y="393804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2958840" y="3938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2958840" y="3938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2958840" y="3938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2958840" y="39380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2958840" y="3943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2958840" y="3943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2958840" y="3943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2958840" y="39438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2958840" y="3949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2958840" y="3949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2958840" y="3949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2958840" y="39495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2963520" y="39495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963520" y="3955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963520" y="3955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2963520" y="3955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2963520" y="3955320"/>
                <a:ext cx="360" cy="5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2963520" y="3960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2963520" y="3960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2963520" y="3960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2963520" y="3960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2963520" y="39607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2963520" y="396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963520" y="396648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2968200" y="396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4" name=""/>
            <p:cNvGrpSpPr/>
            <p:nvPr/>
          </p:nvGrpSpPr>
          <p:grpSpPr>
            <a:xfrm>
              <a:off x="2967840" y="3967560"/>
              <a:ext cx="164520" cy="435600"/>
              <a:chOff x="2967840" y="3967560"/>
              <a:chExt cx="164520" cy="435600"/>
            </a:xfrm>
          </p:grpSpPr>
          <p:sp>
            <p:nvSpPr>
              <p:cNvPr id="1885" name=""/>
              <p:cNvSpPr/>
              <p:nvPr/>
            </p:nvSpPr>
            <p:spPr>
              <a:xfrm>
                <a:off x="2967840" y="39675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2967840" y="3973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2967840" y="3973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2967840" y="3973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2967840" y="39733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2967840" y="3979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2967840" y="3979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2967840" y="3979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2967840" y="3979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2967840" y="39790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2967840" y="398484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2972880" y="3984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2972880" y="3984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2972880" y="39848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2972880" y="399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2972880" y="399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2972880" y="399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2972880" y="39906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2972880" y="3996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2972880" y="3996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2972880" y="3996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2972880" y="3996720"/>
                <a:ext cx="468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2977920" y="4002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2977920" y="4002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2977920" y="4002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2977920" y="40024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2977920" y="4008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2977920" y="4008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2977920" y="4008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2977920" y="40082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2977920" y="4014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2977920" y="4014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2977920" y="4014000"/>
                <a:ext cx="468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2982600" y="4020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2982600" y="4020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2982600" y="4020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2982600" y="40201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2982600" y="4025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2982600" y="4025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2982600" y="4025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2982600" y="40258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2982600" y="40316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2982600" y="403164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987640" y="40316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987640" y="4037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987640" y="4037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2987640" y="4037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987640" y="40374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2987640" y="4043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2987640" y="4043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2987640" y="40431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2987640" y="4049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2987640" y="4049280"/>
                <a:ext cx="540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2993040" y="4049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2993040" y="40492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2993040" y="4055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2993040" y="4055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2993040" y="4055040"/>
                <a:ext cx="360" cy="5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2993040" y="4060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2993040" y="4060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2993040" y="4060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2993040" y="40600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993040" y="40662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997720" y="40662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997720" y="40662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2997720" y="4071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2997720" y="4071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2997720" y="40719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2997720" y="4077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997720" y="4077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2997720" y="40777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2997720" y="408384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002760" y="4083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3002760" y="4083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3002760" y="40838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3002760" y="40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002760" y="40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002760" y="40896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002760" y="4095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3002760" y="4095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3002760" y="4095360"/>
                <a:ext cx="504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3007800" y="4101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007800" y="4101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007800" y="41011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007800" y="4106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007800" y="4106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3007800" y="41068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3007800" y="4113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007800" y="41130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012840" y="41130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3012840" y="4118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3012840" y="4118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3012840" y="41187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3012840" y="4124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3012840" y="4124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3012840" y="41245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3012840" y="4130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3012840" y="413028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3017520" y="41302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3017520" y="4136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017520" y="41364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3017520" y="4142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3017520" y="4142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3017520" y="41421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3017520" y="4147920"/>
                <a:ext cx="540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3022920" y="4147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3022920" y="4147920"/>
                <a:ext cx="360" cy="5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3022920" y="4152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3022920" y="4152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3022920" y="41529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3022920" y="4159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3022920" y="41590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3022920" y="416484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3027600" y="4164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3027600" y="41648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3027600" y="417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3027600" y="417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3027600" y="41706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3027600" y="4176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027600" y="4176720"/>
                <a:ext cx="468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032640" y="4182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032640" y="4182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3032640" y="41824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032640" y="4188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3032640" y="4188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3032640" y="41882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3032640" y="41940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3037680" y="41940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037680" y="4199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037680" y="4199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3037680" y="41997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3037680" y="4205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3037680" y="4205520"/>
                <a:ext cx="504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3042720" y="42116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3042720" y="42116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3042720" y="4217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3042720" y="4217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042720" y="42174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3042720" y="42231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047760" y="42231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047760" y="4229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047760" y="4229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3047760" y="42292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047760" y="4235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3047760" y="4235040"/>
                <a:ext cx="468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3052440" y="4240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3052440" y="42408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3052440" y="4246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3052440" y="4246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3052440" y="4246560"/>
                <a:ext cx="5040" cy="5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3057840" y="4251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3057840" y="42519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3057840" y="4257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3057840" y="42577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3057840" y="426348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3062520" y="42634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62520" y="4269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3062520" y="42692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062520" y="4275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3062520" y="42753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067560" y="42753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3067560" y="4281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3067560" y="42811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3067560" y="428688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3072240" y="42868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3072240" y="42926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3072240" y="42926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3072240" y="4298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072240" y="4298400"/>
                <a:ext cx="504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077640" y="4304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077640" y="43045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3077640" y="4310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3077640" y="4310280"/>
                <a:ext cx="468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3082680" y="4316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3082680" y="43160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3082680" y="43221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3087360" y="43221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3087360" y="4327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087360" y="43279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087360" y="433368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092760" y="43336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092760" y="4339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092760" y="4339440"/>
                <a:ext cx="4680" cy="5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097440" y="43448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097440" y="435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3097440" y="4350600"/>
                <a:ext cx="468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102480" y="4356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3102480" y="43563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3102480" y="436212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3107160" y="43621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3107160" y="436824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3112560" y="43682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3112560" y="43740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3112560" y="43797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3117600" y="43797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3117600" y="438552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122280" y="43855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122280" y="4391640"/>
                <a:ext cx="504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127680" y="4397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127680" y="4397400"/>
                <a:ext cx="468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5" name=""/>
            <p:cNvSpPr/>
            <p:nvPr/>
          </p:nvSpPr>
          <p:spPr>
            <a:xfrm>
              <a:off x="3132360" y="440316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132360" y="4403160"/>
              <a:ext cx="468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137400" y="4410360"/>
              <a:ext cx="46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142440" y="441504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142440" y="4415040"/>
              <a:ext cx="468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147480" y="4422240"/>
              <a:ext cx="50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152880" y="4426920"/>
              <a:ext cx="288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156120" y="4426920"/>
              <a:ext cx="684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3162960" y="4434120"/>
              <a:ext cx="32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3166200" y="4438800"/>
              <a:ext cx="468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3171240" y="4438800"/>
              <a:ext cx="46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3176280" y="4443840"/>
              <a:ext cx="504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181680" y="4450680"/>
              <a:ext cx="972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191760" y="4455720"/>
              <a:ext cx="1008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202200" y="4455720"/>
              <a:ext cx="972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212280" y="4462560"/>
              <a:ext cx="2016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232440" y="4467600"/>
              <a:ext cx="2376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332800" y="4165200"/>
              <a:ext cx="38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714760" y="4176720"/>
              <a:ext cx="0" cy="30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2661840" y="4266360"/>
              <a:ext cx="298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261360" y="3984480"/>
              <a:ext cx="1480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oose value of input randomly using its known distribution function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261360" y="4995000"/>
              <a:ext cx="138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AutoNum type="arabicParenR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lculate value of output using this value of inpu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61360" y="5877720"/>
              <a:ext cx="1453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AutoNum type="arabicParenR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eat steps 1 and 2 many times to build up a distribution function of the outpu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2597760" y="5123520"/>
              <a:ext cx="522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3337560" y="5123520"/>
              <a:ext cx="651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2631600" y="4481280"/>
              <a:ext cx="522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2601000" y="6557040"/>
              <a:ext cx="590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2" name=""/>
          <p:cNvGrpSpPr/>
          <p:nvPr/>
        </p:nvGrpSpPr>
        <p:grpSpPr>
          <a:xfrm>
            <a:off x="276120" y="1352520"/>
            <a:ext cx="7581960" cy="5391360"/>
            <a:chOff x="276120" y="1352520"/>
            <a:chExt cx="7581960" cy="5391360"/>
          </a:xfrm>
        </p:grpSpPr>
        <p:sp>
          <p:nvSpPr>
            <p:cNvPr id="2113" name=""/>
            <p:cNvSpPr/>
            <p:nvPr/>
          </p:nvSpPr>
          <p:spPr>
            <a:xfrm>
              <a:off x="276120" y="1352520"/>
              <a:ext cx="7581960" cy="5391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 rot="16200000">
              <a:off x="69120" y="2810520"/>
              <a:ext cx="1300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cre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rot="16200000">
              <a:off x="3240" y="5106960"/>
              <a:ext cx="143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tinuo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1487520" y="1511280"/>
              <a:ext cx="271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bability Density Fun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867200" y="1511280"/>
              <a:ext cx="275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bability Mass Fun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1569960" y="2097000"/>
              <a:ext cx="2594160" cy="17017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781280" y="3417840"/>
              <a:ext cx="90360" cy="3808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2301840" y="3044880"/>
              <a:ext cx="90360" cy="75384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2820960" y="2284560"/>
              <a:ext cx="84240" cy="151416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3335400" y="3044880"/>
              <a:ext cx="90360" cy="75384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3855960" y="3417840"/>
              <a:ext cx="88920" cy="3808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1544760" y="3798720"/>
              <a:ext cx="25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1544760" y="3611520"/>
              <a:ext cx="25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544760" y="3417840"/>
              <a:ext cx="25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1544760" y="323208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1544760" y="304488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1544760" y="285120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1544760" y="266544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544760" y="24782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1544760" y="228456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1544760" y="2097000"/>
              <a:ext cx="25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 flipV="1">
              <a:off x="1569960" y="379872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V="1">
              <a:off x="2090880" y="379872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 flipV="1">
              <a:off x="2610000" y="3798720"/>
              <a:ext cx="144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V="1">
              <a:off x="3124080" y="379872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 flipV="1">
              <a:off x="3643200" y="3798720"/>
              <a:ext cx="180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 flipV="1">
              <a:off x="4164120" y="3798720"/>
              <a:ext cx="144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1296000" y="37400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1296000" y="35542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1296000" y="33624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1296000" y="31748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1296000" y="29876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1296000" y="27939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1296000" y="26049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1296000" y="24210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3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1296000" y="22273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1296000" y="20397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4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723320" y="38782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243880" y="38782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764800" y="38782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3283920" y="38782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804480" y="38782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,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448000" y="4041720"/>
              <a:ext cx="983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itial Capital Outla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 rot="16200000">
              <a:off x="896400" y="2875680"/>
              <a:ext cx="529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robabil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7" name=""/>
            <p:cNvGrpSpPr/>
            <p:nvPr/>
          </p:nvGrpSpPr>
          <p:grpSpPr>
            <a:xfrm>
              <a:off x="4567320" y="2035080"/>
              <a:ext cx="3030840" cy="2125440"/>
              <a:chOff x="4567320" y="2035080"/>
              <a:chExt cx="3030840" cy="2125440"/>
            </a:xfrm>
          </p:grpSpPr>
          <p:sp>
            <p:nvSpPr>
              <p:cNvPr id="2158" name=""/>
              <p:cNvSpPr/>
              <p:nvPr/>
            </p:nvSpPr>
            <p:spPr>
              <a:xfrm>
                <a:off x="4981680" y="2091960"/>
                <a:ext cx="2512800" cy="1711800"/>
              </a:xfrm>
              <a:prstGeom prst="rect">
                <a:avLst/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4956120" y="3804120"/>
                <a:ext cx="255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4956120" y="3515400"/>
                <a:ext cx="25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4956120" y="3234960"/>
                <a:ext cx="255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4956120" y="2948040"/>
                <a:ext cx="2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4956120" y="2661120"/>
                <a:ext cx="25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4956120" y="2380680"/>
                <a:ext cx="2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4956120" y="2091960"/>
                <a:ext cx="25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flipV="1">
                <a:off x="4981680" y="3804120"/>
                <a:ext cx="144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 flipV="1">
                <a:off x="5481720" y="3804120"/>
                <a:ext cx="144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 flipV="1">
                <a:off x="5987880" y="3804120"/>
                <a:ext cx="180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 flipV="1">
                <a:off x="6488280" y="3804120"/>
                <a:ext cx="144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 flipV="1">
                <a:off x="6994440" y="3804120"/>
                <a:ext cx="180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 flipV="1">
                <a:off x="7494480" y="3804120"/>
                <a:ext cx="180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4981680" y="3804120"/>
                <a:ext cx="5000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 flipV="1">
                <a:off x="5481720" y="3659400"/>
                <a:ext cx="144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5481720" y="3659760"/>
                <a:ext cx="201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flipV="1">
                <a:off x="5683320" y="3379320"/>
                <a:ext cx="0" cy="28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5683320" y="3379320"/>
                <a:ext cx="3045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 flipV="1">
                <a:off x="5987880" y="2803680"/>
                <a:ext cx="1800" cy="57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5987880" y="2803680"/>
                <a:ext cx="500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 flipV="1">
                <a:off x="6488280" y="2523240"/>
                <a:ext cx="1440" cy="28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6488280" y="2523240"/>
                <a:ext cx="1047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V="1">
                <a:off x="6593040" y="2380680"/>
                <a:ext cx="1440" cy="142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6593040" y="2380680"/>
                <a:ext cx="401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4743360" y="37468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4743360" y="345816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4743360" y="31780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743360" y="289116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743360" y="260244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743360" y="232344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4743360" y="20350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4871160" y="387396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5331600" y="3873960"/>
                <a:ext cx="255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,00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5838120" y="3873960"/>
                <a:ext cx="255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,50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6338160" y="3873960"/>
                <a:ext cx="255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,00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6842880" y="3873960"/>
                <a:ext cx="255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,50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7342920" y="3873960"/>
                <a:ext cx="255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,00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764320" y="4038480"/>
                <a:ext cx="983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Initial Capital Outla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 rot="16200000">
                <a:off x="4073760" y="2872800"/>
                <a:ext cx="1108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umulative Probabilit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8" name=""/>
            <p:cNvSpPr/>
            <p:nvPr/>
          </p:nvSpPr>
          <p:spPr>
            <a:xfrm>
              <a:off x="1712880" y="4413240"/>
              <a:ext cx="2448000" cy="16621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689120" y="6075360"/>
              <a:ext cx="2376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689120" y="5796000"/>
              <a:ext cx="2376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689120" y="5516640"/>
              <a:ext cx="2376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1689120" y="5251320"/>
              <a:ext cx="2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689120" y="4971960"/>
              <a:ext cx="2376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689120" y="4692600"/>
              <a:ext cx="2376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689120" y="4413240"/>
              <a:ext cx="2376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V="1">
              <a:off x="1712880" y="6075000"/>
              <a:ext cx="1800" cy="25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 flipV="1">
              <a:off x="2117880" y="6075000"/>
              <a:ext cx="1440" cy="25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 flipV="1">
              <a:off x="2523960" y="6075000"/>
              <a:ext cx="1800" cy="25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 flipV="1">
              <a:off x="2940120" y="6075000"/>
              <a:ext cx="1440" cy="25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 flipV="1">
              <a:off x="3348000" y="6075000"/>
              <a:ext cx="1800" cy="25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 flipV="1">
              <a:off x="3754440" y="6075000"/>
              <a:ext cx="1440" cy="25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 flipV="1">
              <a:off x="4160880" y="6075000"/>
              <a:ext cx="0" cy="25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050920" y="6048360"/>
              <a:ext cx="66960" cy="1440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11"/>
                  </a:moveTo>
                  <a:lnTo>
                    <a:pt x="27" y="0"/>
                  </a:lnTo>
                  <a:lnTo>
                    <a:pt x="55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117880" y="6035760"/>
              <a:ext cx="33120" cy="12600"/>
            </a:xfrm>
            <a:custGeom>
              <a:avLst/>
              <a:gdLst/>
              <a:ahLst/>
              <a:rect l="l" t="t" r="r" b="b"/>
              <a:pathLst>
                <a:path w="28" h="11">
                  <a:moveTo>
                    <a:pt x="0" y="11"/>
                  </a:moveTo>
                  <a:lnTo>
                    <a:pt x="19" y="0"/>
                  </a:lnTo>
                  <a:lnTo>
                    <a:pt x="28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flipV="1">
              <a:off x="2151000" y="6021360"/>
              <a:ext cx="23760" cy="14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174760" y="6021360"/>
              <a:ext cx="2232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 flipV="1">
              <a:off x="2197080" y="6008400"/>
              <a:ext cx="22320" cy="12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V="1">
              <a:off x="2219400" y="5995800"/>
              <a:ext cx="11160" cy="12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 flipV="1">
              <a:off x="2230560" y="5981760"/>
              <a:ext cx="23760" cy="14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254320" y="5981760"/>
              <a:ext cx="936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V="1">
              <a:off x="2263680" y="5968800"/>
              <a:ext cx="12960" cy="12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V="1">
              <a:off x="2276640" y="5954760"/>
              <a:ext cx="10800" cy="14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287440" y="5954760"/>
              <a:ext cx="180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 flipV="1">
              <a:off x="2287440" y="5941800"/>
              <a:ext cx="11160" cy="12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V="1">
              <a:off x="2298600" y="5927760"/>
              <a:ext cx="11160" cy="14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309760" y="5927760"/>
              <a:ext cx="1116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 flipV="1">
              <a:off x="2320920" y="5914800"/>
              <a:ext cx="1440" cy="12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320920" y="5902200"/>
              <a:ext cx="11160" cy="1296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332080" y="590220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332080" y="5888160"/>
              <a:ext cx="11160" cy="140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343240" y="5888160"/>
              <a:ext cx="1260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2355840" y="5875200"/>
              <a:ext cx="0" cy="12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2355840" y="5861160"/>
              <a:ext cx="11160" cy="140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367000" y="5861160"/>
              <a:ext cx="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367000" y="5848200"/>
              <a:ext cx="360" cy="1296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367000" y="5848200"/>
              <a:ext cx="9360" cy="180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 flipV="1">
              <a:off x="2376360" y="5835240"/>
              <a:ext cx="1800" cy="12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376360" y="5823000"/>
              <a:ext cx="12960" cy="126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10"/>
                  </a:move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389320" y="5823000"/>
              <a:ext cx="14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389320" y="5810400"/>
              <a:ext cx="11160" cy="1260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400480" y="581040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400480" y="5796000"/>
              <a:ext cx="1440" cy="1440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400480" y="5796000"/>
              <a:ext cx="10800" cy="14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411280" y="5783400"/>
              <a:ext cx="1800" cy="1260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411280" y="578340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411280" y="5769000"/>
              <a:ext cx="11160" cy="1440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lnTo>
                    <a:pt x="0" y="11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V="1">
              <a:off x="2422440" y="5756040"/>
              <a:ext cx="0" cy="12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422440" y="5756400"/>
              <a:ext cx="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422440" y="5742000"/>
              <a:ext cx="11160" cy="1440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1"/>
                  </a:move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2433600" y="5742000"/>
              <a:ext cx="180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433600" y="5729400"/>
              <a:ext cx="1800" cy="1260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433600" y="5729400"/>
              <a:ext cx="180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433600" y="5716440"/>
              <a:ext cx="11160" cy="1296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444760" y="571644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444760" y="5702400"/>
              <a:ext cx="1440" cy="1404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2444760" y="5702400"/>
              <a:ext cx="11160" cy="14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455920" y="5689440"/>
              <a:ext cx="1440" cy="1296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455920" y="5689440"/>
              <a:ext cx="14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455920" y="5675400"/>
              <a:ext cx="1440" cy="1404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455920" y="5675400"/>
              <a:ext cx="12600" cy="144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2468520" y="5662440"/>
              <a:ext cx="360" cy="1296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2468520" y="566244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2468520" y="5649840"/>
              <a:ext cx="360" cy="1260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2468520" y="5649840"/>
              <a:ext cx="11160" cy="36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2479680" y="5635800"/>
              <a:ext cx="360" cy="1404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2479680" y="5635800"/>
              <a:ext cx="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479680" y="5622840"/>
              <a:ext cx="360" cy="1296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479680" y="562284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2479680" y="5608800"/>
              <a:ext cx="9360" cy="140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489040" y="5608800"/>
              <a:ext cx="180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2489040" y="5608800"/>
              <a:ext cx="180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2489040" y="5595840"/>
              <a:ext cx="1800" cy="1296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2489040" y="5595840"/>
              <a:ext cx="1296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2502000" y="5581800"/>
              <a:ext cx="1440" cy="1404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502000" y="5581800"/>
              <a:ext cx="14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2502000" y="5568840"/>
              <a:ext cx="1440" cy="1296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502000" y="5568840"/>
              <a:ext cx="14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2502000" y="5556240"/>
              <a:ext cx="11160" cy="126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1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2513160" y="5556240"/>
              <a:ext cx="14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2513160" y="5543640"/>
              <a:ext cx="1440" cy="1260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2513160" y="5543640"/>
              <a:ext cx="14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2513160" y="5543640"/>
              <a:ext cx="14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2513160" y="5530680"/>
              <a:ext cx="10800" cy="1296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2523960" y="553068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2523960" y="5516640"/>
              <a:ext cx="1800" cy="1404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2523960" y="5516640"/>
              <a:ext cx="180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2523960" y="5504040"/>
              <a:ext cx="1800" cy="1260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2523960" y="5504040"/>
              <a:ext cx="180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2523960" y="5504040"/>
              <a:ext cx="11160" cy="14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2535120" y="5489640"/>
              <a:ext cx="360" cy="1440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2535120" y="5489640"/>
              <a:ext cx="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2535120" y="5477040"/>
              <a:ext cx="360" cy="1260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2535120" y="5477040"/>
              <a:ext cx="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2535120" y="5477040"/>
              <a:ext cx="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2535120" y="5464080"/>
              <a:ext cx="11160" cy="1296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1"/>
                  </a:move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2546280" y="546408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2546280" y="5450040"/>
              <a:ext cx="1800" cy="1404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2546280" y="5450040"/>
              <a:ext cx="180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2546280" y="5437080"/>
              <a:ext cx="1800" cy="1296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2546280" y="543708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2546280" y="5437080"/>
              <a:ext cx="11160" cy="36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2557440" y="5423040"/>
              <a:ext cx="1440" cy="1404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2557440" y="5423040"/>
              <a:ext cx="14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2557440" y="5410080"/>
              <a:ext cx="1440" cy="1296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2557440" y="5410080"/>
              <a:ext cx="14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2557440" y="5410080"/>
              <a:ext cx="14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2557440" y="5396040"/>
              <a:ext cx="1440" cy="1404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2557440" y="5396040"/>
              <a:ext cx="11160" cy="14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2568600" y="5396040"/>
              <a:ext cx="14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568600" y="5383080"/>
              <a:ext cx="1440" cy="1296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568600" y="5383080"/>
              <a:ext cx="14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568600" y="5370480"/>
              <a:ext cx="1440" cy="1260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2568600" y="537048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568600" y="537048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568600" y="5356080"/>
              <a:ext cx="12600" cy="1440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1"/>
                  </a:move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581200" y="535608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581200" y="535608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2581200" y="5343480"/>
              <a:ext cx="360" cy="1260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581200" y="534348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2581200" y="5329080"/>
              <a:ext cx="360" cy="1440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2581200" y="532908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2581200" y="5329080"/>
              <a:ext cx="11160" cy="180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2592360" y="5316480"/>
              <a:ext cx="360" cy="1260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2592360" y="531648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592360" y="531648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2592360" y="5303880"/>
              <a:ext cx="360" cy="1260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2592360" y="5303880"/>
              <a:ext cx="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592360" y="5303880"/>
              <a:ext cx="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2592360" y="5291280"/>
              <a:ext cx="360" cy="1260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592360" y="5291280"/>
              <a:ext cx="9720" cy="14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2602080" y="5278320"/>
              <a:ext cx="1440" cy="1296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602080" y="527832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602080" y="527832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602080" y="5264280"/>
              <a:ext cx="1440" cy="1404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2602080" y="5264280"/>
              <a:ext cx="14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602080" y="5264280"/>
              <a:ext cx="14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602080" y="5251320"/>
              <a:ext cx="1440" cy="1296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602080" y="5251320"/>
              <a:ext cx="12600" cy="36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614680" y="525132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614680" y="5237280"/>
              <a:ext cx="1440" cy="1404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614680" y="5237280"/>
              <a:ext cx="14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2614680" y="5237280"/>
              <a:ext cx="14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614680" y="5224320"/>
              <a:ext cx="1440" cy="1296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2614680" y="5224320"/>
              <a:ext cx="14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614680" y="5224320"/>
              <a:ext cx="14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614680" y="5210280"/>
              <a:ext cx="11160" cy="140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625840" y="5210280"/>
              <a:ext cx="14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625840" y="5210280"/>
              <a:ext cx="14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2625840" y="5197320"/>
              <a:ext cx="1440" cy="1296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625840" y="5197320"/>
              <a:ext cx="14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625840" y="5197320"/>
              <a:ext cx="14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625840" y="5184720"/>
              <a:ext cx="1440" cy="1260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625840" y="518472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625840" y="518472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625840" y="5170320"/>
              <a:ext cx="11160" cy="1440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637000" y="5170320"/>
              <a:ext cx="14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2637000" y="5170320"/>
              <a:ext cx="14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637000" y="5170320"/>
              <a:ext cx="14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637000" y="5157720"/>
              <a:ext cx="1440" cy="1260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637000" y="5157720"/>
              <a:ext cx="14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637000" y="5157720"/>
              <a:ext cx="14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37000" y="5143680"/>
              <a:ext cx="1440" cy="1404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637000" y="5143680"/>
              <a:ext cx="14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637000" y="5143680"/>
              <a:ext cx="10800" cy="14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647800" y="5130720"/>
              <a:ext cx="360" cy="1296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647800" y="513072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647800" y="513072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647800" y="5118120"/>
              <a:ext cx="360" cy="1260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647800" y="511812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647800" y="511812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2647800" y="511812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647800" y="5103720"/>
              <a:ext cx="360" cy="1440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647800" y="5103720"/>
              <a:ext cx="1116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658960" y="5103720"/>
              <a:ext cx="180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658960" y="5091120"/>
              <a:ext cx="1800" cy="1260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658960" y="5091120"/>
              <a:ext cx="180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658960" y="5091120"/>
              <a:ext cx="180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658960" y="5091120"/>
              <a:ext cx="180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658960" y="5076720"/>
              <a:ext cx="1800" cy="1440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658960" y="5076720"/>
              <a:ext cx="180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658960" y="5076720"/>
              <a:ext cx="180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2658960" y="5064120"/>
              <a:ext cx="1800" cy="1260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2658960" y="5064120"/>
              <a:ext cx="11160" cy="14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2670120" y="5064120"/>
              <a:ext cx="180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670120" y="5064120"/>
              <a:ext cx="180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670120" y="5051520"/>
              <a:ext cx="1800" cy="1260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670120" y="505152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2670120" y="505152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670120" y="5038560"/>
              <a:ext cx="1800" cy="129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2670120" y="5038560"/>
              <a:ext cx="180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670120" y="5038560"/>
              <a:ext cx="180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2670120" y="5038560"/>
              <a:ext cx="180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2670120" y="5024520"/>
              <a:ext cx="11160" cy="140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4" name=""/>
            <p:cNvGrpSpPr/>
            <p:nvPr/>
          </p:nvGrpSpPr>
          <p:grpSpPr>
            <a:xfrm>
              <a:off x="2681280" y="4559400"/>
              <a:ext cx="171000" cy="466560"/>
              <a:chOff x="2681280" y="4559400"/>
              <a:chExt cx="171000" cy="466560"/>
            </a:xfrm>
          </p:grpSpPr>
          <p:sp>
            <p:nvSpPr>
              <p:cNvPr id="2395" name=""/>
              <p:cNvSpPr/>
              <p:nvPr/>
            </p:nvSpPr>
            <p:spPr>
              <a:xfrm>
                <a:off x="2681280" y="50248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2681280" y="50248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2681280" y="50248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2681280" y="501120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2681280" y="5011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2681280" y="5011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2681280" y="499824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2681280" y="4998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2681280" y="4998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2681280" y="4998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2681280" y="4984560"/>
                <a:ext cx="11880" cy="133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1"/>
                    </a:move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2693160" y="4984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2693160" y="4984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2693160" y="4984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2693160" y="497124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2693160" y="4971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2693160" y="4971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2693160" y="4971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2693160" y="495792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2693160" y="49579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2693160" y="49579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2693160" y="495792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2704320" y="494460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2704320" y="49446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2704320" y="49446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2704320" y="49446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2704320" y="493128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2704320" y="4931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2704320" y="4931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2704320" y="4931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2704320" y="4931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2704320" y="491796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2704320" y="4917960"/>
                <a:ext cx="1044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2715120" y="49179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2715120" y="49179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2715120" y="490464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2715120" y="49046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2715120" y="49046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2715120" y="49046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2715120" y="489132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2715120" y="4891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2715120" y="4891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2715120" y="4891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2715120" y="4891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2715120" y="4878000"/>
                <a:ext cx="12240" cy="133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1"/>
                    </a:move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2727360" y="4878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2727360" y="4878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2727360" y="4878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2727360" y="486468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2727360" y="4864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2727360" y="4864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2727360" y="4864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2727360" y="4864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2727360" y="485136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2727360" y="4851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2727360" y="4851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2727360" y="4851360"/>
                <a:ext cx="1044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2738160" y="483804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2738160" y="4838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2738160" y="4838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2738160" y="4838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2738160" y="4838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2738160" y="482472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2738160" y="48247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2738160" y="48247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2738160" y="48247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2738160" y="48247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2738160" y="481140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2738160" y="481140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2749320" y="48114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2749320" y="48114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2749320" y="48114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2749320" y="479808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2749320" y="4798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2749320" y="4798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2749320" y="4798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2749320" y="4798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2749320" y="478476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2749320" y="4784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2749320" y="4784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2749320" y="4784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2749320" y="478476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2760120" y="4784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2760120" y="4772520"/>
                <a:ext cx="1080" cy="1188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2760120" y="47725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2760120" y="47725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2760120" y="47725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2760120" y="47725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2760120" y="475920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2760120" y="4759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2760120" y="4759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2760120" y="4759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2760120" y="4759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2760120" y="4759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2760120" y="474588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1"/>
                    </a:move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2772360" y="47458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2772360" y="47458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2772360" y="47458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2772360" y="47458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2772360" y="473256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2772360" y="4732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2772360" y="4732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2772360" y="4732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2772360" y="4732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2772360" y="4732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2772360" y="471924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2772360" y="4719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2772360" y="4719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2772360" y="4719240"/>
                <a:ext cx="1044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2783160" y="4719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2783160" y="4719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2783160" y="470592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2783160" y="47059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2783160" y="47059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2783160" y="47059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2783160" y="47059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2783160" y="47059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2783160" y="47059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2783160" y="469260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2783160" y="46926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2783160" y="46926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2783160" y="469260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2793960" y="46926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2793960" y="46926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2793960" y="467928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2793960" y="4679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2793960" y="4679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2793960" y="4679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2793960" y="4679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2793960" y="4679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2793960" y="4679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2793960" y="466596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2793960" y="46659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2793960" y="46659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2793960" y="46659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2793960" y="4665960"/>
                <a:ext cx="11880" cy="108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0" y="0"/>
                    </a:move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2806200" y="46659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2806200" y="46659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2806200" y="465228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2806200" y="4652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2806200" y="4652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2806200" y="4652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2806200" y="4652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2806200" y="4652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2806200" y="4652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2806200" y="463932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2806200" y="4639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2806200" y="4639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2806200" y="4639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2806200" y="463932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2817360" y="4639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2817360" y="4639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2817360" y="4639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2817360" y="462564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2817360" y="46256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2817360" y="46256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2817360" y="46256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2817360" y="46256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2817360" y="46256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2817360" y="46256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2817360" y="46256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2817360" y="461268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2817360" y="4612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2817360" y="4612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2817360" y="461268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2828160" y="4612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2828160" y="4612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2828160" y="4612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2828160" y="4612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2828160" y="4612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2828160" y="459900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2828160" y="4599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2828160" y="4599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2828160" y="4599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2828160" y="4599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2828160" y="4599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2828160" y="4599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2828160" y="4599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2828160" y="4599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2828160" y="458604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1"/>
                    </a:move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2840400" y="4586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2840400" y="4586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2840400" y="4586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2840400" y="4586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2840400" y="4586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2840400" y="4586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2840400" y="4586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2840400" y="4586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2840400" y="4586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2840400" y="457236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2840400" y="4572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2840400" y="4572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2840400" y="4572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2840400" y="4572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2840400" y="4572360"/>
                <a:ext cx="1044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2851200" y="4572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2851200" y="4572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2851200" y="4572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2851200" y="4572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2851200" y="455940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5" name=""/>
            <p:cNvGrpSpPr/>
            <p:nvPr/>
          </p:nvGrpSpPr>
          <p:grpSpPr>
            <a:xfrm>
              <a:off x="2851200" y="4494240"/>
              <a:ext cx="147600" cy="66600"/>
              <a:chOff x="2851200" y="4494240"/>
              <a:chExt cx="147600" cy="66600"/>
            </a:xfrm>
          </p:grpSpPr>
          <p:sp>
            <p:nvSpPr>
              <p:cNvPr id="2596" name=""/>
              <p:cNvSpPr/>
              <p:nvPr/>
            </p:nvSpPr>
            <p:spPr>
              <a:xfrm>
                <a:off x="2851200" y="4559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2851200" y="4559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2851200" y="4559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2851200" y="4559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2851200" y="4559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2851200" y="4559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2851200" y="4559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2851200" y="4559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2851200" y="4559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2851200" y="455976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2862000" y="4559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2862000" y="454608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2862000" y="4546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2862000" y="4546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2862000" y="4546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2862000" y="4546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2862000" y="4546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2862000" y="4546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2862000" y="4546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2862000" y="4546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2862000" y="4546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2862000" y="4546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2862000" y="4546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2862000" y="4546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2862000" y="454608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2873160" y="453276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2873160" y="4532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2873160" y="4532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2873160" y="4532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2873160" y="4532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2873160" y="4532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2873160" y="4532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2873160" y="4532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2873160" y="4532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2873160" y="4532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2873160" y="4532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2873160" y="4532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2873160" y="4532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2873160" y="4532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2873160" y="4532760"/>
                <a:ext cx="11880" cy="108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0" y="0"/>
                    </a:move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2885040" y="451944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288504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288504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288504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288504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288504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288504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288504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288504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288504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288504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288504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288504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288504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288504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2885040" y="451944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289620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289620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289620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289620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2896200" y="4507200"/>
                <a:ext cx="1080" cy="1188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289620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289620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289620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289620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289620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289620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289620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289620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289620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2896200" y="4507200"/>
                <a:ext cx="1044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290664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290664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290664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290664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290664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290664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290664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290664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290664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290664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290664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290664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290664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290664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290664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2906640" y="4507200"/>
                <a:ext cx="11880" cy="108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0" y="0"/>
                    </a:move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291888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291888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291888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291888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291888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291888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2918880" y="449424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29188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29188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29188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29188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29188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29188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29188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29188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2918880" y="449424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29296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29296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29296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29296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29296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29296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29296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29296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29296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29296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29296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29296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29296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29296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2929680" y="449424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294084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294084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294084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294084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294084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294084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294084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294084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294084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294084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294084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294084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294084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294084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294084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2940840" y="4494240"/>
                <a:ext cx="11880" cy="108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0" y="0"/>
                    </a:move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295272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295272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295272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295272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295272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295272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295272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295272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2952720" y="449424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295272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295272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295272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295272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295272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295272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2952720" y="4507200"/>
                <a:ext cx="1044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296352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296352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296352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296352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296352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296352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296352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296352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296352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296352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296352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296352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296352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296352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296352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2963520" y="450720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297468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297468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297468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297468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297468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297468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297468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297468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297468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2974680" y="4507200"/>
                <a:ext cx="1080" cy="1188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297468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297468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297468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297468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2974680" y="451944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298548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298548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298548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298548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298548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298548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298548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298548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298548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298548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298548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298548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298548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298548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2985480" y="451944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2985480" y="4532760"/>
                <a:ext cx="11880" cy="108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0" y="0"/>
                    </a:move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2997720" y="4532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2997720" y="4532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2997720" y="4532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6" name=""/>
            <p:cNvGrpSpPr/>
            <p:nvPr/>
          </p:nvGrpSpPr>
          <p:grpSpPr>
            <a:xfrm>
              <a:off x="2998800" y="4532400"/>
              <a:ext cx="156960" cy="374040"/>
              <a:chOff x="2998800" y="4532400"/>
              <a:chExt cx="156960" cy="374040"/>
            </a:xfrm>
          </p:grpSpPr>
          <p:sp>
            <p:nvSpPr>
              <p:cNvPr id="2797" name=""/>
              <p:cNvSpPr/>
              <p:nvPr/>
            </p:nvSpPr>
            <p:spPr>
              <a:xfrm>
                <a:off x="2998800" y="45324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2998800" y="45324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2998800" y="45324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2998800" y="45324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2998800" y="45324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2998800" y="45324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2998800" y="45324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2998800" y="45324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2998800" y="45324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2998800" y="45324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2998800" y="453240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2998800" y="454536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3009600" y="4545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3009600" y="4545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3009600" y="4545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3009600" y="4545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3009600" y="4545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3009600" y="4545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3009600" y="4545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3009600" y="4545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3009600" y="4545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3009600" y="4545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3009600" y="4545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3009600" y="4545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3009600" y="454536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3009600" y="4559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3009600" y="4559040"/>
                <a:ext cx="1044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3020040" y="4559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3020040" y="4559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3020040" y="4559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3020040" y="4559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3020040" y="4559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3020040" y="4559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3020040" y="4559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3020040" y="4559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3020040" y="4559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3020040" y="455904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3020040" y="4572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3020040" y="4572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3020040" y="4572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3020040" y="4572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3020040" y="4572360"/>
                <a:ext cx="11880" cy="108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0" y="0"/>
                    </a:move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3032280" y="4572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3032280" y="4572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3032280" y="4572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3032280" y="4572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3032280" y="457236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3032280" y="4585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3032280" y="4585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3032280" y="4585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3032280" y="4585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3032280" y="4585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3032280" y="4585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3032280" y="4585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3032280" y="4585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3032280" y="4585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3032280" y="458568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0"/>
                    </a:moveTo>
                    <a:lnTo>
                      <a:pt x="0" y="0"/>
                    </a:lnTo>
                    <a:lnTo>
                      <a:pt x="9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3043080" y="4599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3043080" y="4599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3043080" y="4599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3043080" y="4599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3043080" y="4599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3043080" y="4599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3043080" y="4599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3043080" y="4599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3043080" y="459900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3043080" y="4612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3043080" y="4612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3043080" y="4612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3043080" y="4612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3043080" y="4612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3043080" y="461232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3053880" y="4612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3053880" y="4612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3053880" y="461232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3053880" y="46256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3053880" y="46256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3053880" y="46256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3053880" y="46256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3053880" y="46256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3053880" y="46256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3053880" y="46256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3053880" y="462564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3053880" y="4639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3053880" y="4639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3053880" y="4639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3053880" y="4639320"/>
                <a:ext cx="11880" cy="108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0" y="0"/>
                    </a:move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3065760" y="4639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3065760" y="4639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3065760" y="4639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3065760" y="463932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3065760" y="4652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3065760" y="4652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3065760" y="4652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3065760" y="4652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3065760" y="4652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3065760" y="4652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3065760" y="465228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3065760" y="46659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3065760" y="46659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3065760" y="466596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3076920" y="46659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3076920" y="46659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3076920" y="46659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3076920" y="466596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3076920" y="4679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3076920" y="4679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3076920" y="4679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3076920" y="4679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3076920" y="4679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3076920" y="4679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3076920" y="467928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3076920" y="46926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3076920" y="46926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3076920" y="4692600"/>
                <a:ext cx="1044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3087360" y="46926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3087360" y="46926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3087360" y="469260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3087360" y="47059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3087360" y="47059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3087360" y="47059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3087360" y="47059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3087360" y="47059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3087360" y="47059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3087360" y="470592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3087360" y="47196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3087360" y="47196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3087360" y="471960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3098160" y="47196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3098160" y="47196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3098160" y="471960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3098160" y="4732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3098160" y="4732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3098160" y="4732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3098160" y="4732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3098160" y="4732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3098160" y="473256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3098160" y="4746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3098160" y="4746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3098160" y="4746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3098160" y="4746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3098160" y="474624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0"/>
                    </a:moveTo>
                    <a:lnTo>
                      <a:pt x="0" y="0"/>
                    </a:lnTo>
                    <a:lnTo>
                      <a:pt x="1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3110400" y="4759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3110400" y="4759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3110400" y="4759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3110400" y="4759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3110400" y="4759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3110400" y="475956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3110400" y="47728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3110400" y="47728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3110400" y="47728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3110400" y="47728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3110400" y="4772880"/>
                <a:ext cx="1080" cy="1188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3110400" y="47851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3110400" y="478512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3121200" y="47851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3121200" y="47851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3121200" y="47851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3121200" y="478512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3121200" y="4798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3121200" y="4798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3121200" y="4798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3121200" y="4798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3121200" y="479844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3121200" y="4811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3121200" y="4811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3121200" y="4811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3121200" y="4811760"/>
                <a:ext cx="1044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3131640" y="481176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3131640" y="4825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3131640" y="4825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3131640" y="4825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3131640" y="4825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3131640" y="482508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3131640" y="4838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3131640" y="4838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3131640" y="4838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3131640" y="4838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3131640" y="483876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3131640" y="4851720"/>
                <a:ext cx="12240" cy="108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0" y="0"/>
                    </a:move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3143880" y="48517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3143880" y="48517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3143880" y="485172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3143880" y="48654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3143880" y="48654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3143880" y="48654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3143880" y="48654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3143880" y="486540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3143880" y="48787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3143880" y="48787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3143880" y="48787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3143880" y="4878720"/>
                <a:ext cx="10440" cy="1332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0"/>
                    </a:moveTo>
                    <a:lnTo>
                      <a:pt x="0" y="0"/>
                    </a:lnTo>
                    <a:lnTo>
                      <a:pt x="9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3154680" y="4892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3154680" y="4892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3154680" y="4892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3154680" y="4892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3154680" y="489204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3154680" y="4905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3154680" y="4905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3154680" y="4905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7" name=""/>
            <p:cNvGrpSpPr/>
            <p:nvPr/>
          </p:nvGrpSpPr>
          <p:grpSpPr>
            <a:xfrm>
              <a:off x="3156120" y="4905360"/>
              <a:ext cx="383760" cy="996480"/>
              <a:chOff x="3156120" y="4905360"/>
              <a:chExt cx="383760" cy="996480"/>
            </a:xfrm>
          </p:grpSpPr>
          <p:sp>
            <p:nvSpPr>
              <p:cNvPr id="2998" name=""/>
              <p:cNvSpPr/>
              <p:nvPr/>
            </p:nvSpPr>
            <p:spPr>
              <a:xfrm>
                <a:off x="3156120" y="490536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3156120" y="4918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3156120" y="4918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3156120" y="491868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3166920" y="491868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3166920" y="4932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3166920" y="4932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3166920" y="4932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3166920" y="4932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3166920" y="493200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3166920" y="4945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3166920" y="4945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3166920" y="4945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3166920" y="494532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3166920" y="4958640"/>
                <a:ext cx="11880" cy="108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0" y="0"/>
                    </a:move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3179160" y="49586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3179160" y="49586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3179160" y="495864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3179160" y="49719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3179160" y="49719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3179160" y="49719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3179160" y="497196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3179160" y="4985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179160" y="4985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3179160" y="4985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3179160" y="498528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0"/>
                    </a:moveTo>
                    <a:lnTo>
                      <a:pt x="0" y="0"/>
                    </a:lnTo>
                    <a:lnTo>
                      <a:pt x="9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3189960" y="49989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3189960" y="49989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3189960" y="49989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3189960" y="499896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3189960" y="50119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3189960" y="50119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3189960" y="501192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189960" y="50256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3189960" y="50256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3189960" y="50256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3189960" y="5025600"/>
                <a:ext cx="10440" cy="129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0"/>
                    </a:moveTo>
                    <a:lnTo>
                      <a:pt x="0" y="0"/>
                    </a:lnTo>
                    <a:lnTo>
                      <a:pt x="9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3200760" y="5038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3200760" y="5038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3200760" y="5038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3200760" y="5038560"/>
                <a:ext cx="1080" cy="1224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3200760" y="50511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3200760" y="50511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3200760" y="505116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3200760" y="50644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3200760" y="50644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3200760" y="506448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3211920" y="506448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3211920" y="50778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3211920" y="50778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3211920" y="507780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3211920" y="50911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3211920" y="50911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3211920" y="50911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3211920" y="509112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3211920" y="5104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3211920" y="5104440"/>
                <a:ext cx="11880" cy="108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0" y="0"/>
                    </a:move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3224160" y="510444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3224160" y="5117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3224160" y="5117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3224160" y="5117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3224160" y="511776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3224160" y="5131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3224160" y="5131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3224160" y="513108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3224160" y="514440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3234960" y="51444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3234960" y="514440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3234960" y="5158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3234960" y="5158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3234960" y="515808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3234960" y="5171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3234960" y="5171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3234960" y="5171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3234960" y="517104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0"/>
                    </a:moveTo>
                    <a:lnTo>
                      <a:pt x="0" y="0"/>
                    </a:lnTo>
                    <a:lnTo>
                      <a:pt x="9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3246120" y="51847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3246120" y="51847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3246120" y="518472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3246120" y="5197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3246120" y="5197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3246120" y="519768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3246120" y="5211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3246120" y="5211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3246120" y="521136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0"/>
                    </a:moveTo>
                    <a:lnTo>
                      <a:pt x="0" y="0"/>
                    </a:lnTo>
                    <a:lnTo>
                      <a:pt x="1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3258360" y="5224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3258360" y="5224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3258360" y="522468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3258360" y="5238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3258360" y="5238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3258360" y="523800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3258360" y="5251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3258360" y="5251320"/>
                <a:ext cx="1044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3268800" y="525132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3268800" y="52646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3268800" y="52646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3268800" y="526464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3268800" y="52779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3268800" y="52779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3268800" y="527796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3268800" y="529128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3279960" y="529128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3279960" y="53046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3279960" y="53046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3279960" y="5304600"/>
                <a:ext cx="1080" cy="1188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3279960" y="53168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3279960" y="53168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3279960" y="531684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3279960" y="5330160"/>
                <a:ext cx="11880" cy="108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0" y="0"/>
                    </a:move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3292200" y="53301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3292200" y="533016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3292200" y="53434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3292200" y="534348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3292200" y="53568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3292200" y="53568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3292200" y="535680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0"/>
                    </a:moveTo>
                    <a:lnTo>
                      <a:pt x="0" y="0"/>
                    </a:lnTo>
                    <a:lnTo>
                      <a:pt x="9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3303000" y="53701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3303000" y="53701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3303000" y="537012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3303000" y="53838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3303000" y="538380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3303000" y="5396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3303000" y="5396760"/>
                <a:ext cx="1044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3313800" y="539676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3313800" y="5410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3313800" y="5410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3313800" y="541044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3313800" y="5423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3313800" y="542376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3313800" y="543708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3324960" y="5437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3324960" y="543708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3324960" y="54504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3324960" y="545040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3324960" y="54637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3324960" y="546372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0"/>
                    </a:moveTo>
                    <a:lnTo>
                      <a:pt x="0" y="0"/>
                    </a:lnTo>
                    <a:lnTo>
                      <a:pt x="1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3336840" y="5477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3336840" y="5477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3336840" y="547704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3336840" y="5490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3336840" y="549036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3336840" y="550368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3348000" y="5503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3348000" y="550368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3348000" y="5517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3348000" y="551736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3348000" y="5530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3348000" y="553032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0"/>
                    </a:moveTo>
                    <a:lnTo>
                      <a:pt x="0" y="0"/>
                    </a:lnTo>
                    <a:lnTo>
                      <a:pt x="9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3359160" y="5544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3359160" y="5544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3359160" y="554400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3359160" y="55569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3359160" y="5556960"/>
                <a:ext cx="11880" cy="12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0"/>
                    </a:moveTo>
                    <a:lnTo>
                      <a:pt x="0" y="0"/>
                    </a:lnTo>
                    <a:lnTo>
                      <a:pt x="10" y="1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3371040" y="5569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3371040" y="556956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3371040" y="55828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3371040" y="558288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3371040" y="5596200"/>
                <a:ext cx="1044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3381840" y="559620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3381840" y="56095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3381840" y="56095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3381840" y="560952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0"/>
                    </a:moveTo>
                    <a:lnTo>
                      <a:pt x="0" y="0"/>
                    </a:lnTo>
                    <a:lnTo>
                      <a:pt x="9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3393000" y="56228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3393000" y="562284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3393000" y="56361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3393000" y="563616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3393000" y="5649480"/>
                <a:ext cx="11880" cy="108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0" y="0"/>
                    </a:move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3405240" y="564948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3405240" y="56628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3405240" y="566280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3405240" y="567648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3416040" y="567648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3416040" y="568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3416040" y="568944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3416040" y="570312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3427200" y="570312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3427200" y="5716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3427200" y="5716440"/>
                <a:ext cx="10440" cy="1332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0"/>
                    </a:moveTo>
                    <a:lnTo>
                      <a:pt x="0" y="0"/>
                    </a:lnTo>
                    <a:lnTo>
                      <a:pt x="9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3438000" y="5729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3438000" y="572976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3438000" y="5743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3438000" y="5743080"/>
                <a:ext cx="11880" cy="133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0"/>
                    </a:moveTo>
                    <a:lnTo>
                      <a:pt x="0" y="0"/>
                    </a:lnTo>
                    <a:lnTo>
                      <a:pt x="1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3449880" y="57564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3449880" y="5756400"/>
                <a:ext cx="108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3449880" y="576972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0"/>
                    </a:moveTo>
                    <a:lnTo>
                      <a:pt x="0" y="11"/>
                    </a:lnTo>
                    <a:lnTo>
                      <a:pt x="9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3461040" y="5783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3461040" y="578304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3461040" y="579636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3472200" y="579636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3472200" y="5810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3472200" y="581004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0"/>
                    </a:moveTo>
                    <a:lnTo>
                      <a:pt x="0" y="0"/>
                    </a:lnTo>
                    <a:lnTo>
                      <a:pt x="1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3484080" y="5823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3484080" y="5823000"/>
                <a:ext cx="10800" cy="11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0" y="0"/>
                    </a:lnTo>
                    <a:lnTo>
                      <a:pt x="9" y="1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3495240" y="5835240"/>
                <a:ext cx="1080" cy="1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3495240" y="5848560"/>
                <a:ext cx="1044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3506040" y="584856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3506040" y="58618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3506040" y="5861880"/>
                <a:ext cx="11880" cy="133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0"/>
                    </a:moveTo>
                    <a:lnTo>
                      <a:pt x="0" y="0"/>
                    </a:lnTo>
                    <a:lnTo>
                      <a:pt x="1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3517920" y="5875560"/>
                <a:ext cx="108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3517920" y="5888520"/>
                <a:ext cx="108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3529080" y="588852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0"/>
                    </a:moveTo>
                    <a:lnTo>
                      <a:pt x="9" y="0"/>
                    </a:lnTo>
                    <a:lnTo>
                      <a:pt x="9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8" name=""/>
            <p:cNvSpPr/>
            <p:nvPr/>
          </p:nvSpPr>
          <p:spPr>
            <a:xfrm>
              <a:off x="3540240" y="59022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3540240" y="5902200"/>
              <a:ext cx="9360" cy="1296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0" y="0"/>
                  </a:lnTo>
                  <a:lnTo>
                    <a:pt x="9" y="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3549600" y="5915160"/>
              <a:ext cx="18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3549600" y="5927760"/>
              <a:ext cx="11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3560760" y="5927760"/>
              <a:ext cx="1260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3573360" y="5942160"/>
              <a:ext cx="111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3584520" y="595476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3584520" y="5954760"/>
              <a:ext cx="111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3595680" y="5969160"/>
              <a:ext cx="111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3606840" y="5981760"/>
              <a:ext cx="11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3618000" y="5981760"/>
              <a:ext cx="237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3641760" y="5994360"/>
              <a:ext cx="111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3652920" y="6008760"/>
              <a:ext cx="2232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3675240" y="6021360"/>
              <a:ext cx="21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3697200" y="6021360"/>
              <a:ext cx="2232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3719520" y="6035760"/>
              <a:ext cx="34920" cy="12600"/>
            </a:xfrm>
            <a:custGeom>
              <a:avLst/>
              <a:gdLst/>
              <a:ahLst/>
              <a:rect l="l" t="t" r="r" b="b"/>
              <a:pathLst>
                <a:path w="28" h="11">
                  <a:moveTo>
                    <a:pt x="0" y="0"/>
                  </a:moveTo>
                  <a:lnTo>
                    <a:pt x="9" y="0"/>
                  </a:lnTo>
                  <a:lnTo>
                    <a:pt x="28" y="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3754440" y="6048360"/>
              <a:ext cx="68400" cy="12600"/>
            </a:xfrm>
            <a:custGeom>
              <a:avLst/>
              <a:gdLst/>
              <a:ahLst/>
              <a:rect l="l" t="t" r="r" b="b"/>
              <a:pathLst>
                <a:path w="56" h="11">
                  <a:moveTo>
                    <a:pt x="0" y="0"/>
                  </a:moveTo>
                  <a:lnTo>
                    <a:pt x="28" y="0"/>
                  </a:lnTo>
                  <a:lnTo>
                    <a:pt x="56" y="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1688400" y="6153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2040480" y="61531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2423520" y="61531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2851920" y="61531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3234600" y="61531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3652200" y="61531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,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4047480" y="61531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2457720" y="6354720"/>
              <a:ext cx="983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itial Capital Outla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3" name=""/>
            <p:cNvGrpSpPr/>
            <p:nvPr/>
          </p:nvGrpSpPr>
          <p:grpSpPr>
            <a:xfrm>
              <a:off x="1103400" y="4346640"/>
              <a:ext cx="538200" cy="1784160"/>
              <a:chOff x="1103400" y="4346640"/>
              <a:chExt cx="538200" cy="1784160"/>
            </a:xfrm>
          </p:grpSpPr>
          <p:sp>
            <p:nvSpPr>
              <p:cNvPr id="3224" name=""/>
              <p:cNvSpPr/>
              <p:nvPr/>
            </p:nvSpPr>
            <p:spPr>
              <a:xfrm>
                <a:off x="1309320" y="6008760"/>
                <a:ext cx="311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000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1309320" y="5729400"/>
                <a:ext cx="311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000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1309320" y="5450040"/>
                <a:ext cx="311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000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1309320" y="5184720"/>
                <a:ext cx="311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000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1309320" y="4905360"/>
                <a:ext cx="311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000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1329840" y="4626000"/>
                <a:ext cx="311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00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1329840" y="4346640"/>
                <a:ext cx="311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001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23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5600" y="5103720"/>
                <a:ext cx="9684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2" name=""/>
              <p:cNvSpPr/>
              <p:nvPr/>
            </p:nvSpPr>
            <p:spPr>
              <a:xfrm rot="16200000">
                <a:off x="471240" y="5183280"/>
                <a:ext cx="1386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robability Density Func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3" name=""/>
            <p:cNvSpPr/>
            <p:nvPr/>
          </p:nvSpPr>
          <p:spPr>
            <a:xfrm>
              <a:off x="4991040" y="4411800"/>
              <a:ext cx="2514600" cy="166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4962600" y="607860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4962600" y="5797440"/>
              <a:ext cx="2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4962600" y="552456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4962600" y="5243400"/>
              <a:ext cx="2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4962600" y="496260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4962600" y="4692600"/>
              <a:ext cx="2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4962600" y="441180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 flipV="1">
              <a:off x="4991040" y="6078600"/>
              <a:ext cx="18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 flipV="1">
              <a:off x="5410080" y="6078600"/>
              <a:ext cx="18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 flipV="1">
              <a:off x="5826240" y="607860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 flipV="1">
              <a:off x="6253200" y="607860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 flipV="1">
              <a:off x="6669000" y="6078600"/>
              <a:ext cx="18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 flipV="1">
              <a:off x="7088040" y="6078600"/>
              <a:ext cx="18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 flipV="1">
              <a:off x="7504200" y="607860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5337000" y="6078600"/>
              <a:ext cx="73080" cy="1440"/>
            </a:xfrm>
            <a:custGeom>
              <a:avLst/>
              <a:gdLst/>
              <a:ahLst/>
              <a:rect l="l" t="t" r="r" b="b"/>
              <a:pathLst>
                <a:path w="88" h="0">
                  <a:moveTo>
                    <a:pt x="0" y="0"/>
                  </a:moveTo>
                  <a:lnTo>
                    <a:pt x="50" y="0"/>
                  </a:lnTo>
                  <a:lnTo>
                    <a:pt x="8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5410080" y="6078600"/>
              <a:ext cx="28800" cy="1440"/>
            </a:xfrm>
            <a:custGeom>
              <a:avLst/>
              <a:gdLst/>
              <a:ahLst/>
              <a:rect l="l" t="t" r="r" b="b"/>
              <a:pathLst>
                <a:path w="38" h="0">
                  <a:moveTo>
                    <a:pt x="0" y="0"/>
                  </a:moveTo>
                  <a:lnTo>
                    <a:pt x="25" y="0"/>
                  </a:lnTo>
                  <a:lnTo>
                    <a:pt x="3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5438880" y="6068880"/>
              <a:ext cx="31680" cy="9720"/>
            </a:xfrm>
            <a:custGeom>
              <a:avLst/>
              <a:gdLst/>
              <a:ahLst/>
              <a:rect l="l" t="t" r="r" b="b"/>
              <a:pathLst>
                <a:path w="37" h="13">
                  <a:moveTo>
                    <a:pt x="0" y="13"/>
                  </a:moveTo>
                  <a:lnTo>
                    <a:pt x="24" y="0"/>
                  </a:lnTo>
                  <a:lnTo>
                    <a:pt x="3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5470560" y="6068880"/>
              <a:ext cx="19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5489640" y="6068880"/>
              <a:ext cx="20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5510160" y="6068880"/>
              <a:ext cx="22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5532480" y="6068880"/>
              <a:ext cx="9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5541840" y="6068880"/>
              <a:ext cx="9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5551560" y="6068880"/>
              <a:ext cx="9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5560920" y="6058080"/>
              <a:ext cx="11160" cy="1080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5572080" y="6058080"/>
              <a:ext cx="11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5583240" y="6058080"/>
              <a:ext cx="9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5592600" y="6058080"/>
              <a:ext cx="11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5603760" y="6058080"/>
              <a:ext cx="7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5611680" y="6058080"/>
              <a:ext cx="11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5622840" y="6058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5622840" y="6058080"/>
              <a:ext cx="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 flipV="1">
              <a:off x="5632560" y="6046560"/>
              <a:ext cx="1116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5643720" y="60469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5643720" y="6046920"/>
              <a:ext cx="1080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5654520" y="60469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5654520" y="6046920"/>
              <a:ext cx="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5664240" y="6046920"/>
              <a:ext cx="9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5673600" y="60469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5673600" y="6037200"/>
              <a:ext cx="9720" cy="972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5683320" y="60372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5683320" y="60372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5683320" y="603720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5694480" y="60372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5694480" y="6037200"/>
              <a:ext cx="936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5703840" y="60372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5703840" y="6027840"/>
              <a:ext cx="1116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5715000" y="60278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5715000" y="60278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5715000" y="6027840"/>
              <a:ext cx="111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5726160" y="60278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5726160" y="60278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5726160" y="6027840"/>
              <a:ext cx="7920" cy="144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 flipV="1">
              <a:off x="5734080" y="601632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5734080" y="60166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5734080" y="6016680"/>
              <a:ext cx="111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5745240" y="60166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5745240" y="60166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5745240" y="6016680"/>
              <a:ext cx="93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5754600" y="60166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 flipV="1">
              <a:off x="5754600" y="600660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5754600" y="6006960"/>
              <a:ext cx="972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5764320" y="60069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5764320" y="60069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5764320" y="60069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5764320" y="6006960"/>
              <a:ext cx="1260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5776920" y="60069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5776920" y="60069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 flipV="1">
              <a:off x="5776920" y="599760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5776920" y="5997600"/>
              <a:ext cx="93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5786280" y="5997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5786280" y="5997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5786280" y="5997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5786280" y="5997600"/>
              <a:ext cx="9720" cy="144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5796000" y="59976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 flipV="1">
              <a:off x="5796000" y="598752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5796000" y="59878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5796000" y="5987880"/>
              <a:ext cx="93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5805360" y="59878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5805360" y="59878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5805360" y="59878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5805360" y="598788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 flipV="1">
              <a:off x="5816520" y="5977080"/>
              <a:ext cx="180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5816520" y="5977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5816520" y="5977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5816520" y="5977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5816520" y="5977080"/>
              <a:ext cx="972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5826240" y="59770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5826240" y="59770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 flipV="1">
              <a:off x="5826240" y="596700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5826240" y="5967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5826240" y="596736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5837400" y="5967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5837400" y="5967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5837400" y="5967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5837400" y="5967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5837400" y="5967360"/>
              <a:ext cx="1080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 flipV="1">
              <a:off x="5848200" y="595800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5848200" y="59580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5848200" y="59580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5848200" y="59580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5848200" y="5958000"/>
              <a:ext cx="7920" cy="144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5856120" y="59580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5856120" y="59580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 flipV="1">
              <a:off x="5856120" y="594792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5856120" y="5948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5856120" y="5948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5856120" y="594828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5867280" y="5948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5867280" y="5948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5867280" y="5948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 flipV="1">
              <a:off x="5867280" y="593892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5867280" y="59389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5867280" y="5938920"/>
              <a:ext cx="972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5877000" y="59389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5877000" y="59389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5877000" y="59389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5877000" y="59389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 flipV="1">
              <a:off x="5877000" y="592740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5877000" y="5927760"/>
              <a:ext cx="936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5886360" y="5927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5886360" y="5927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5886360" y="5927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5886360" y="5927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5886360" y="5927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5886360" y="5927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5886360" y="591660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5897520" y="5916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5897520" y="5916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5897520" y="5916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5897520" y="5916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5897520" y="5916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5897520" y="5916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5897520" y="5907240"/>
              <a:ext cx="1116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5908680" y="59072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5908680" y="59072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5908680" y="59072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5908680" y="59072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5908680" y="59072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5908680" y="59072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5908680" y="5896080"/>
              <a:ext cx="9360" cy="1116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13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5918040" y="5896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5918040" y="5896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5918040" y="5896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5918040" y="5896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5918040" y="5896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5918040" y="5896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5918040" y="5886360"/>
              <a:ext cx="9720" cy="97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5927760" y="5886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5927760" y="5886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5927760" y="5886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5927760" y="5886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5927760" y="5886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5927760" y="5886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 flipV="1">
              <a:off x="5927760" y="587700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5927760" y="5877000"/>
              <a:ext cx="111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5938920" y="58770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5938920" y="58770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5938920" y="58770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5938920" y="58770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5938920" y="58770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5938920" y="58770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5938920" y="5867280"/>
              <a:ext cx="9360" cy="97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13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5948280" y="5867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5948280" y="5867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5948280" y="5867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5948280" y="5867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5948280" y="5867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5948280" y="5867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 flipV="1">
              <a:off x="5948280" y="5855760"/>
              <a:ext cx="18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5948280" y="58561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5948280" y="5856120"/>
              <a:ext cx="972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5958000" y="58561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5958000" y="58561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5958000" y="58561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5958000" y="58561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 flipV="1">
              <a:off x="5958000" y="584676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5958000" y="58467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5958000" y="58467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5958000" y="5846760"/>
              <a:ext cx="1260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5970600" y="58467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5970600" y="58467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5970600" y="58467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 flipV="1">
              <a:off x="5970600" y="583740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5970600" y="5837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5970600" y="5837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5970600" y="5837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5970600" y="5837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5970600" y="5837400"/>
              <a:ext cx="7920" cy="144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5978520" y="5837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5978520" y="5837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 flipV="1">
              <a:off x="5978520" y="582732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5978520" y="5827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5978520" y="5827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5978520" y="5827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5978520" y="5827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9" name=""/>
            <p:cNvGrpSpPr/>
            <p:nvPr/>
          </p:nvGrpSpPr>
          <p:grpSpPr>
            <a:xfrm>
              <a:off x="5978520" y="5546880"/>
              <a:ext cx="185400" cy="282240"/>
              <a:chOff x="5978520" y="5546880"/>
              <a:chExt cx="185400" cy="282240"/>
            </a:xfrm>
          </p:grpSpPr>
          <p:sp>
            <p:nvSpPr>
              <p:cNvPr id="3430" name=""/>
              <p:cNvSpPr/>
              <p:nvPr/>
            </p:nvSpPr>
            <p:spPr>
              <a:xfrm>
                <a:off x="5978520" y="582768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5978520" y="582768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 flipV="1">
                <a:off x="5989680" y="581760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5989680" y="58179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5989680" y="58179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5989680" y="58179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5989680" y="58179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5989680" y="58179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5989680" y="58179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 flipV="1">
                <a:off x="5989680" y="5806440"/>
                <a:ext cx="14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5989680" y="580680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5999400" y="58068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5999400" y="58068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5999400" y="58068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5999400" y="58068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5999400" y="58068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 flipV="1">
                <a:off x="5999400" y="5797080"/>
                <a:ext cx="18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5999400" y="5797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5999400" y="5797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5999400" y="5797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5999400" y="579708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6009480" y="579708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6009480" y="579708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6009480" y="579708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 flipV="1">
                <a:off x="6009480" y="578700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6009480" y="57873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6009480" y="57873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6009480" y="57873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6009480" y="57873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6009480" y="57873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6009480" y="578736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 flipV="1">
                <a:off x="6020640" y="5775840"/>
                <a:ext cx="14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6020640" y="57762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6020640" y="57762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6020640" y="57762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6020640" y="57762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6020640" y="57762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6020640" y="57762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 flipV="1">
                <a:off x="6020640" y="576648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6020640" y="576648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6020640" y="576648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6030360" y="57664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6030360" y="57664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6030360" y="57664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6030360" y="57664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 flipV="1">
                <a:off x="6030360" y="5756400"/>
                <a:ext cx="180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6030360" y="575676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6030360" y="575676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6030360" y="575676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6030360" y="575676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6030360" y="575676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6030360" y="575676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 flipV="1">
                <a:off x="6040440" y="574740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6040440" y="57474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6040440" y="57474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6040440" y="57474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6040440" y="57474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6040440" y="57474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6040440" y="57474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6040440" y="57474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 flipV="1">
                <a:off x="6040440" y="5735880"/>
                <a:ext cx="14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6040440" y="573624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6050160" y="57362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6050160" y="57362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6050160" y="57362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6050160" y="57362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6050160" y="57362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 flipV="1">
                <a:off x="6050160" y="572652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6050160" y="5726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6050160" y="5726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6050160" y="5726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6050160" y="5726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6050160" y="572652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6061320" y="5726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 flipV="1">
                <a:off x="6061320" y="571644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6061320" y="5716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6061320" y="5716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6061320" y="5716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6061320" y="5716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6061320" y="5716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6061320" y="5716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 flipV="1">
                <a:off x="6061320" y="570744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6061320" y="57074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6061320" y="57074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6061320" y="570744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6071040" y="57074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6071040" y="57074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6071040" y="57074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6071040" y="57074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 flipV="1">
                <a:off x="6071040" y="5697000"/>
                <a:ext cx="180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6071040" y="569736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6071040" y="569736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6071040" y="569736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6071040" y="569736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6071040" y="569736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6071040" y="569736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 flipV="1">
                <a:off x="6081120" y="5685840"/>
                <a:ext cx="14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6081120" y="56862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6081120" y="56862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6081120" y="56862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6081120" y="56862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6081120" y="56862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6081120" y="56862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 flipV="1">
                <a:off x="6081120" y="567684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6081120" y="56768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6081120" y="56768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6081120" y="56768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6081120" y="567684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6092280" y="56768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6092280" y="56768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 flipV="1">
                <a:off x="6092280" y="566712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6092280" y="56671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6092280" y="56671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6092280" y="56671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6092280" y="56671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6092280" y="56671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6092280" y="56671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 flipV="1">
                <a:off x="6092280" y="5655600"/>
                <a:ext cx="14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6092280" y="56559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6092280" y="565596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6100560" y="56559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6100560" y="56559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6100560" y="56559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6100560" y="56559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6100560" y="56559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 flipV="1">
                <a:off x="6100560" y="564588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6100560" y="56462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6100560" y="56462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6100560" y="56462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6100560" y="56462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6100560" y="56462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6100560" y="564624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 flipV="1">
                <a:off x="6112080" y="563652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6112080" y="5636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6112080" y="5636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6112080" y="5636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6112080" y="5636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6112080" y="5636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6112080" y="5636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 flipV="1">
                <a:off x="6112080" y="562644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6112080" y="5626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6112080" y="5626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6112080" y="5626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6112080" y="562680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6121800" y="5626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6121800" y="5626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 flipV="1">
                <a:off x="6121800" y="5615280"/>
                <a:ext cx="14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6121800" y="56156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6121800" y="56156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6121800" y="56156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6121800" y="56156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6121800" y="56156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6121800" y="56156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6121800" y="56156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 flipV="1">
                <a:off x="6121800" y="560592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6121800" y="56059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6121800" y="560592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6131520" y="56059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6131520" y="56059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6131520" y="56059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6131520" y="56059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 flipV="1">
                <a:off x="6131520" y="559656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6131520" y="55965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6131520" y="55965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6131520" y="55965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6131520" y="55965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6131520" y="55965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6131520" y="55965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 flipV="1">
                <a:off x="6131520" y="558648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6131520" y="5586840"/>
                <a:ext cx="1080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6142680" y="55868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6142680" y="55868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6142680" y="55868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6142680" y="55868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6142680" y="55868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 flipV="1">
                <a:off x="6142680" y="5577120"/>
                <a:ext cx="18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6142680" y="55771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6142680" y="55771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6142680" y="55771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6142680" y="55771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6142680" y="55771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6142680" y="55771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6142680" y="55771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 flipV="1">
                <a:off x="6150960" y="5565600"/>
                <a:ext cx="180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6150960" y="55659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6150960" y="55659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6150960" y="55659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6150960" y="55659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6150960" y="55659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6150960" y="55659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 flipV="1">
                <a:off x="6150960" y="5555880"/>
                <a:ext cx="180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6150960" y="555624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6150960" y="555624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6150960" y="555624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6150960" y="555624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6150960" y="555624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6162120" y="555624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 flipV="1">
                <a:off x="6162120" y="5546880"/>
                <a:ext cx="18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6162120" y="55468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6162120" y="55468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0" name=""/>
            <p:cNvGrpSpPr/>
            <p:nvPr/>
          </p:nvGrpSpPr>
          <p:grpSpPr>
            <a:xfrm>
              <a:off x="6162840" y="5263920"/>
              <a:ext cx="142200" cy="284040"/>
              <a:chOff x="6162840" y="5263920"/>
              <a:chExt cx="142200" cy="284040"/>
            </a:xfrm>
          </p:grpSpPr>
          <p:sp>
            <p:nvSpPr>
              <p:cNvPr id="3631" name=""/>
              <p:cNvSpPr/>
              <p:nvPr/>
            </p:nvSpPr>
            <p:spPr>
              <a:xfrm>
                <a:off x="6162840" y="55465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6162840" y="55465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6162840" y="55465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6162840" y="55465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 flipV="1">
                <a:off x="6162840" y="5535000"/>
                <a:ext cx="180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6162840" y="55353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6162840" y="55353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6162840" y="55353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6162840" y="553536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6172560" y="55353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6172560" y="55353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 flipV="1">
                <a:off x="6172560" y="552492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6172560" y="552528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6172560" y="552528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6172560" y="552528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6172560" y="552528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6172560" y="552528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6172560" y="552528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6172560" y="552528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 flipV="1">
                <a:off x="6172560" y="551592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6172560" y="55159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6172560" y="55159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6172560" y="551592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6182280" y="5515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6182280" y="5515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6182280" y="5515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 flipV="1">
                <a:off x="6182280" y="5506560"/>
                <a:ext cx="18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6182280" y="55065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6182280" y="55065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6182280" y="55065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6182280" y="55065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6182280" y="55065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6182280" y="55065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 flipV="1">
                <a:off x="6182280" y="5494680"/>
                <a:ext cx="180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6182280" y="54950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6182280" y="549504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6193440" y="54950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6193440" y="54950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6193440" y="54950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6193440" y="54950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 flipV="1">
                <a:off x="6193440" y="548496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6193440" y="54853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6193440" y="54853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6193440" y="54853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6193440" y="54853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6193440" y="54853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6193440" y="54853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6193440" y="54853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 flipV="1">
                <a:off x="6193440" y="547560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6193440" y="547560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6203520" y="54756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6203520" y="54756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6203520" y="54756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6203520" y="54756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6203520" y="54756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 flipV="1">
                <a:off x="6203520" y="546552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6203520" y="546588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6203520" y="546588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6203520" y="546588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6203520" y="546588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6203520" y="546588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6203520" y="546588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6203520" y="54561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6212880" y="54561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6212880" y="54561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6212880" y="54561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6212880" y="54561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6212880" y="54561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6212880" y="54561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 flipV="1">
                <a:off x="6212880" y="5444640"/>
                <a:ext cx="14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6212880" y="54450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6212880" y="54450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6212880" y="54450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6212880" y="54450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6212880" y="54450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6212880" y="54450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6212880" y="544500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 flipV="1">
                <a:off x="6222600" y="5435280"/>
                <a:ext cx="18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6222600" y="54352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6222600" y="54352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6222600" y="54352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6222600" y="54352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6222600" y="54352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6222600" y="54352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 flipV="1">
                <a:off x="6222600" y="5425200"/>
                <a:ext cx="180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6222600" y="54255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6222600" y="54255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6222600" y="54255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6222600" y="54255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6222600" y="54255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6222600" y="54255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 flipV="1">
                <a:off x="6233760" y="5415840"/>
                <a:ext cx="18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6233760" y="54158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6233760" y="54158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6233760" y="54158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6233760" y="54158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6233760" y="54158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6233760" y="54158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 flipV="1">
                <a:off x="6233760" y="5404320"/>
                <a:ext cx="180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6233760" y="54046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6233760" y="54046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6233760" y="54046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6233760" y="54046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6233760" y="54046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6233760" y="540468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 flipV="1">
                <a:off x="6243840" y="539424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6243840" y="53946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6243840" y="53946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6243840" y="53946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6243840" y="53946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6243840" y="53946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6243840" y="53946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6243840" y="53946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 flipV="1">
                <a:off x="6243840" y="538524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6243840" y="53852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6243840" y="53852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6243840" y="53852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6243840" y="53852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6243840" y="538524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6253560" y="53852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 flipV="1">
                <a:off x="6253560" y="5373720"/>
                <a:ext cx="180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6253560" y="5374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6253560" y="5374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6253560" y="5374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6253560" y="5374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6253560" y="5374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6253560" y="5374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 flipV="1">
                <a:off x="6253560" y="5364360"/>
                <a:ext cx="18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6253560" y="53643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6253560" y="53643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6253560" y="53643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6253560" y="536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6264720" y="53643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6264720" y="53643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 flipV="1">
                <a:off x="6264720" y="5354280"/>
                <a:ext cx="180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6264720" y="53546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6264720" y="53546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6264720" y="53546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6264720" y="53546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6264720" y="53546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6264720" y="53546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6264720" y="53546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 flipV="1">
                <a:off x="6264720" y="5344920"/>
                <a:ext cx="18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6264720" y="5344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6264720" y="5344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6264720" y="53449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6273000" y="5344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6273000" y="5344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6273000" y="5344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 flipV="1">
                <a:off x="6273000" y="5334840"/>
                <a:ext cx="180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6273000" y="5335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6273000" y="5335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6273000" y="5335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6273000" y="5335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6273000" y="5335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6273000" y="5335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 flipV="1">
                <a:off x="6273000" y="5323320"/>
                <a:ext cx="180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6273000" y="532368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6273000" y="532368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6273000" y="532368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6284160" y="532368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6284160" y="532368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6284160" y="532368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 flipV="1">
                <a:off x="6284160" y="531432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6284160" y="53143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6284160" y="53143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6284160" y="53143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6284160" y="53143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6284160" y="53143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6284160" y="53143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6284160" y="53143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 flipV="1">
                <a:off x="6284160" y="530388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6284160" y="53042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6284160" y="530424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6293880" y="530424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6293880" y="530424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6293880" y="530424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6293880" y="530424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 flipV="1">
                <a:off x="6293880" y="5294880"/>
                <a:ext cx="18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6293880" y="52948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6293880" y="52948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6293880" y="52948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6293880" y="52948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6293880" y="52948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6293880" y="52948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 flipV="1">
                <a:off x="6293880" y="5283000"/>
                <a:ext cx="180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6293880" y="528336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6303600" y="52833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6303600" y="52833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6303600" y="52833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6303600" y="52833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6303600" y="52833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 flipV="1">
                <a:off x="6303600" y="527400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6303600" y="52740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6303600" y="52740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6303600" y="52740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6303600" y="52740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6303600" y="52740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6303600" y="52740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 flipV="1">
                <a:off x="6303600" y="526392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1" name=""/>
            <p:cNvGrpSpPr/>
            <p:nvPr/>
          </p:nvGrpSpPr>
          <p:grpSpPr>
            <a:xfrm>
              <a:off x="6303960" y="4992840"/>
              <a:ext cx="174240" cy="272520"/>
              <a:chOff x="6303960" y="4992840"/>
              <a:chExt cx="174240" cy="272520"/>
            </a:xfrm>
          </p:grpSpPr>
          <p:sp>
            <p:nvSpPr>
              <p:cNvPr id="3832" name=""/>
              <p:cNvSpPr/>
              <p:nvPr/>
            </p:nvSpPr>
            <p:spPr>
              <a:xfrm>
                <a:off x="6303960" y="526356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6315120" y="52635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6315120" y="52635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6315120" y="52635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6315120" y="52635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6315120" y="52635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6315120" y="52635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 flipV="1">
                <a:off x="6315120" y="5252040"/>
                <a:ext cx="14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6315120" y="52524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6315120" y="52524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6315120" y="52524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6315120" y="52524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6315120" y="52524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6315120" y="525240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 flipV="1">
                <a:off x="6324840" y="5243040"/>
                <a:ext cx="18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6324840" y="52430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6324840" y="52430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6324840" y="52430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6324840" y="52430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6324840" y="52430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6324840" y="52430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 flipV="1">
                <a:off x="6324840" y="5232960"/>
                <a:ext cx="180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6324840" y="523332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6324840" y="523332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6324840" y="523332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6324840" y="523332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6324840" y="523332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6324840" y="523332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 flipV="1">
                <a:off x="6334560" y="522360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6334560" y="52236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6334560" y="52236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6334560" y="52236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6334560" y="52236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6334560" y="52236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6334560" y="52236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6334560" y="52236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 flipV="1">
                <a:off x="6334560" y="521352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6334560" y="521388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6334560" y="521388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6334560" y="521388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6334560" y="521388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6344280" y="521388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6344280" y="521388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 flipV="1">
                <a:off x="6344280" y="5203080"/>
                <a:ext cx="18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6344280" y="5203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6344280" y="5203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6344280" y="5203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6344280" y="5203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6344280" y="5203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6344280" y="5203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 flipV="1">
                <a:off x="6344280" y="5192640"/>
                <a:ext cx="180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6344280" y="519300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6344280" y="519300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6344280" y="51930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6355440" y="51930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6355440" y="51930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6355440" y="51930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 flipV="1">
                <a:off x="6355440" y="518364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6355440" y="51836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6355440" y="51836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6355440" y="51836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6355440" y="51836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6355440" y="51836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6355440" y="51836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 flipV="1">
                <a:off x="6355440" y="517356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6355440" y="51739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6355440" y="517392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6365520" y="51739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6365520" y="51739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6365520" y="51739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6365520" y="51739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6365520" y="51739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 flipV="1">
                <a:off x="6365520" y="5162040"/>
                <a:ext cx="14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6365520" y="51624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6365520" y="51624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6365520" y="51624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6365520" y="51624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6365520" y="51624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6365520" y="51624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6365520" y="51530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12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6374880" y="51530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6374880" y="51530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6374880" y="51530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6374880" y="51530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6374880" y="51530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6374880" y="51530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 flipV="1">
                <a:off x="6374880" y="514296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6374880" y="51433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6374880" y="51433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6374880" y="51433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6374880" y="51433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6374880" y="51433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6374880" y="514332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 flipV="1">
                <a:off x="6386400" y="5132520"/>
                <a:ext cx="14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6386400" y="513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6386400" y="513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6386400" y="513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6386400" y="513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6386400" y="513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6386400" y="513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6386400" y="513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 flipV="1">
                <a:off x="6386400" y="512208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6386400" y="51224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6386400" y="51224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6386400" y="512244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6395760" y="51224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6395760" y="51224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6395760" y="51224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 flipV="1">
                <a:off x="6395760" y="5113080"/>
                <a:ext cx="18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6395760" y="5113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6395760" y="5113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6395760" y="5113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6395760" y="5113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6395760" y="5113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6395760" y="5113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 flipV="1">
                <a:off x="6395760" y="5103000"/>
                <a:ext cx="180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6395760" y="510336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6405840" y="51033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6405840" y="51033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6405840" y="51033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6405840" y="51033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6405840" y="51033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 flipV="1">
                <a:off x="6405840" y="509364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6405840" y="50936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6405840" y="50936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6405840" y="50936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6405840" y="50936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6405840" y="50936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6405840" y="509364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6417000" y="50936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 flipV="1">
                <a:off x="6417000" y="5082120"/>
                <a:ext cx="14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6417000" y="508248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6417000" y="508248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6417000" y="508248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6417000" y="508248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6417000" y="508248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6417000" y="508248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 flipV="1">
                <a:off x="6417000" y="507240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6417000" y="50727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6417000" y="50727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6417000" y="507276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6425280" y="50727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6425280" y="50727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6425280" y="50727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 flipV="1">
                <a:off x="6425280" y="506340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6425280" y="50634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6425280" y="50634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6425280" y="50634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6425280" y="50634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6425280" y="50634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6425280" y="50634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6425280" y="505332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13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6436440" y="50533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6436440" y="50533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6436440" y="50533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6436440" y="50533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6436440" y="50533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6436440" y="50533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 flipV="1">
                <a:off x="6436440" y="5042520"/>
                <a:ext cx="14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6436440" y="504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6436440" y="504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6436440" y="504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6436440" y="504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6436440" y="504252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6446160" y="504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6446160" y="504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 flipV="1">
                <a:off x="6446160" y="503244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6446160" y="5032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6446160" y="5032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6446160" y="5032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6446160" y="5032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6446160" y="5032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6446160" y="5032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 flipV="1">
                <a:off x="6446160" y="502308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6446160" y="502308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6455520" y="5023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6455520" y="5023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6455520" y="5023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6455520" y="5023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6455520" y="5023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 flipV="1">
                <a:off x="6455520" y="5011560"/>
                <a:ext cx="180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6455520" y="5011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6455520" y="5011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6455520" y="5011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6455520" y="501192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6467040" y="5011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6467040" y="5011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 flipV="1">
                <a:off x="6467040" y="5001840"/>
                <a:ext cx="180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6467040" y="5002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6467040" y="5002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6467040" y="5002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6467040" y="5002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6467040" y="5002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6467040" y="5002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6467040" y="5002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6467040" y="49928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13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6476760" y="49928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6476760" y="49928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6476760" y="49928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6476760" y="49928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2" name=""/>
            <p:cNvGrpSpPr/>
            <p:nvPr/>
          </p:nvGrpSpPr>
          <p:grpSpPr>
            <a:xfrm>
              <a:off x="6477120" y="4711680"/>
              <a:ext cx="385200" cy="282240"/>
              <a:chOff x="6477120" y="4711680"/>
              <a:chExt cx="385200" cy="282240"/>
            </a:xfrm>
          </p:grpSpPr>
          <p:sp>
            <p:nvSpPr>
              <p:cNvPr id="4033" name=""/>
              <p:cNvSpPr/>
              <p:nvPr/>
            </p:nvSpPr>
            <p:spPr>
              <a:xfrm>
                <a:off x="6477120" y="499248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6477120" y="499248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 flipV="1">
                <a:off x="6477120" y="498240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6477120" y="49827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6477120" y="49827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6477120" y="498276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6486480" y="498276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6486480" y="498276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6486480" y="498276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 flipV="1">
                <a:off x="6486480" y="4973400"/>
                <a:ext cx="18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6486480" y="497340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6486480" y="497340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6486480" y="497340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6486480" y="497340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6486480" y="497340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6486480" y="497340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 flipV="1">
                <a:off x="6496560" y="4961520"/>
                <a:ext cx="14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6496560" y="496188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6496560" y="496188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6496560" y="496188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6496560" y="496188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6496560" y="496188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6496560" y="496188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6496560" y="496188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 flipV="1">
                <a:off x="6496560" y="495252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6496560" y="495252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6508080" y="495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6508080" y="495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6508080" y="495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6508080" y="495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6508080" y="495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 flipV="1">
                <a:off x="6508080" y="494244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6508080" y="4942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6508080" y="4942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6508080" y="494280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6517440" y="4942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6517440" y="4942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6517440" y="4942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 flipV="1">
                <a:off x="6517440" y="493344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6517440" y="49334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6517440" y="49334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6517440" y="49334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6517440" y="49334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6517440" y="493344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6527160" y="49334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 flipV="1">
                <a:off x="6527160" y="4921560"/>
                <a:ext cx="180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6527160" y="4921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6527160" y="4921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6527160" y="4921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6527160" y="4921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6527160" y="4921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6527160" y="4921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6527160" y="49122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12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6538680" y="4912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6538680" y="4912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6538680" y="4912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6538680" y="4912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6538680" y="4912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6538680" y="4912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6538680" y="4912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6538680" y="49028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6546600" y="49028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6546600" y="49028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6546600" y="49028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6546600" y="49028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6546600" y="49028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6546600" y="49028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 flipV="1">
                <a:off x="6546600" y="4890960"/>
                <a:ext cx="180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6546600" y="48913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6546600" y="489132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6558120" y="48913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6558120" y="48913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6558120" y="48913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6558120" y="48913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 flipV="1">
                <a:off x="6558120" y="4881960"/>
                <a:ext cx="18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6558120" y="48819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6558120" y="488196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6568200" y="48819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6568200" y="48819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6568200" y="48819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6568200" y="48819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 flipV="1">
                <a:off x="6568200" y="487188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6568200" y="48722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6568200" y="48722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6568200" y="487224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6577560" y="487224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6577560" y="487224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6577560" y="487224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6577560" y="487224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 flipV="1">
                <a:off x="6577560" y="4862520"/>
                <a:ext cx="18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6577560" y="48625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6577560" y="486252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6589080" y="486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6589080" y="486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6589080" y="486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6589080" y="486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 flipV="1">
                <a:off x="6589080" y="485244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6589080" y="4852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6589080" y="485280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6599160" y="4852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6599160" y="4852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6599160" y="4852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6599160" y="4852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 flipV="1">
                <a:off x="6599160" y="4841280"/>
                <a:ext cx="14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6599160" y="48416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6599160" y="484164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6608520" y="48416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6608520" y="48416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6608520" y="48416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6608520" y="48416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 flipV="1">
                <a:off x="6608520" y="483192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6608520" y="48319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6608520" y="483192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6618240" y="4831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6618240" y="4831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6618240" y="4831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6618240" y="4831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 flipV="1">
                <a:off x="6618240" y="4821840"/>
                <a:ext cx="180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6618240" y="482220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6629760" y="4822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6629760" y="4822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6629760" y="4822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6629760" y="4822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6629760" y="4822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6629760" y="482220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 flipV="1">
                <a:off x="6639480" y="481284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6639480" y="48128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6639480" y="48128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6639480" y="48128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6639480" y="48128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6639480" y="481284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6649200" y="48128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 flipV="1">
                <a:off x="6649200" y="4800960"/>
                <a:ext cx="180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6649200" y="480132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6649200" y="480132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6649200" y="480132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6660720" y="48013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6660720" y="48013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6660720" y="48013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 flipV="1">
                <a:off x="6660720" y="479196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6660720" y="479196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6668640" y="47919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6668640" y="47919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6668640" y="47919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6668640" y="47919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6668640" y="47919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 flipV="1">
                <a:off x="6680160" y="478188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6680160" y="47822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6680160" y="47822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6680160" y="47822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6680160" y="478224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6689880" y="478224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6689880" y="478224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6689880" y="478224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6689880" y="4772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12"/>
                    </a:move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6699960" y="477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6699960" y="477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6699960" y="477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6699960" y="477252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6711120" y="477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6711120" y="477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 flipV="1">
                <a:off x="6711120" y="4761000"/>
                <a:ext cx="14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6711120" y="476136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6720840" y="47613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6720840" y="47613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6720840" y="47613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6720840" y="476136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6730920" y="47613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 flipV="1">
                <a:off x="6730920" y="475128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6730920" y="47516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6730920" y="475164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6740280" y="475164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6740280" y="475164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6740280" y="475164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6751800" y="47516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 flipV="1">
                <a:off x="6751800" y="474192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6751800" y="474192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6761520" y="4741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6761520" y="4741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6761520" y="474192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6771240" y="47419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6771240" y="47419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6771240" y="474192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 flipV="1">
                <a:off x="6782760" y="473184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6782760" y="47322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6782760" y="473220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6791040" y="47322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6791040" y="473220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6802200" y="47322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6802200" y="473220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 flipV="1">
                <a:off x="6811920" y="4721400"/>
                <a:ext cx="18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6811920" y="472140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6811920" y="472140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6822000" y="47214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6822000" y="4721400"/>
                <a:ext cx="11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6833520" y="4721400"/>
                <a:ext cx="9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6842880" y="47214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6842880" y="47116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6852600" y="471168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6852600" y="4711680"/>
                <a:ext cx="9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3" name=""/>
            <p:cNvSpPr/>
            <p:nvPr/>
          </p:nvSpPr>
          <p:spPr>
            <a:xfrm>
              <a:off x="6862680" y="4711680"/>
              <a:ext cx="12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6875640" y="47116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6875640" y="4711680"/>
              <a:ext cx="9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6885000" y="4711680"/>
              <a:ext cx="9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6894360" y="4702320"/>
              <a:ext cx="11160" cy="9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6905520" y="4702320"/>
              <a:ext cx="7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6913440" y="4702320"/>
              <a:ext cx="11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6924600" y="4702320"/>
              <a:ext cx="11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6935760" y="4702320"/>
              <a:ext cx="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6945480" y="4702320"/>
              <a:ext cx="10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6956280" y="4702320"/>
              <a:ext cx="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6966000" y="4692600"/>
              <a:ext cx="19080" cy="97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0" y="13"/>
                  </a:moveTo>
                  <a:lnTo>
                    <a:pt x="12" y="0"/>
                  </a:lnTo>
                  <a:lnTo>
                    <a:pt x="2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6985080" y="4692600"/>
              <a:ext cx="22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7007400" y="4692600"/>
              <a:ext cx="20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7027920" y="4692600"/>
              <a:ext cx="28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7056360" y="4692600"/>
              <a:ext cx="31680" cy="1800"/>
            </a:xfrm>
            <a:custGeom>
              <a:avLst/>
              <a:gdLst/>
              <a:ahLst/>
              <a:rect l="l" t="t" r="r" b="b"/>
              <a:pathLst>
                <a:path w="37" h="0">
                  <a:moveTo>
                    <a:pt x="0" y="0"/>
                  </a:moveTo>
                  <a:lnTo>
                    <a:pt x="11" y="0"/>
                  </a:lnTo>
                  <a:lnTo>
                    <a:pt x="3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7088040" y="4692600"/>
              <a:ext cx="69840" cy="1800"/>
            </a:xfrm>
            <a:custGeom>
              <a:avLst/>
              <a:gdLst/>
              <a:ahLst/>
              <a:rect l="l" t="t" r="r" b="b"/>
              <a:pathLst>
                <a:path w="87" h="0">
                  <a:moveTo>
                    <a:pt x="0" y="0"/>
                  </a:moveTo>
                  <a:lnTo>
                    <a:pt x="38" y="0"/>
                  </a:lnTo>
                  <a:lnTo>
                    <a:pt x="8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4848120" y="6006960"/>
              <a:ext cx="5400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4743360" y="60134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4757760" y="5726160"/>
              <a:ext cx="1303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4743360" y="57340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4757760" y="5456160"/>
              <a:ext cx="1303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4743360" y="54626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4757760" y="5175360"/>
              <a:ext cx="130320" cy="10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4743360" y="51800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4757760" y="4890960"/>
              <a:ext cx="1303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4743360" y="48988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4848120" y="4621320"/>
              <a:ext cx="5400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4743360" y="46274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4757760" y="4340160"/>
              <a:ext cx="1303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4743360" y="43466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4962600" y="6154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5316480" y="6148440"/>
              <a:ext cx="1573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5317200" y="61545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5703840" y="6148440"/>
              <a:ext cx="20808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5704920" y="61545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6130800" y="6148440"/>
              <a:ext cx="20808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6131880" y="61545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6548400" y="6148440"/>
              <a:ext cx="20808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6549120" y="61545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6966000" y="6148440"/>
              <a:ext cx="20808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6966720" y="61545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,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7381800" y="6148440"/>
              <a:ext cx="2095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7382880" y="61545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5948280" y="6350040"/>
              <a:ext cx="90036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5946840" y="6353280"/>
              <a:ext cx="983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itial Capital Outla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79" name="" descr=""/>
            <p:cNvPicPr/>
            <p:nvPr/>
          </p:nvPicPr>
          <p:blipFill>
            <a:blip r:embed="rId2"/>
            <a:stretch/>
          </p:blipFill>
          <p:spPr>
            <a:xfrm>
              <a:off x="4611600" y="5140440"/>
              <a:ext cx="10152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0" name=""/>
            <p:cNvSpPr/>
            <p:nvPr/>
          </p:nvSpPr>
          <p:spPr>
            <a:xfrm rot="16200000">
              <a:off x="4001040" y="5116320"/>
              <a:ext cx="1273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robability Mass Fun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4962600" y="607860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4962600" y="5797440"/>
              <a:ext cx="2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4962600" y="552456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4962600" y="5243400"/>
              <a:ext cx="2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4962600" y="496260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4962600" y="4692600"/>
              <a:ext cx="2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4962600" y="441180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 flipV="1">
              <a:off x="4991040" y="6078600"/>
              <a:ext cx="18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 flipV="1">
              <a:off x="5410080" y="6078600"/>
              <a:ext cx="18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 flipV="1">
              <a:off x="5826240" y="607860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 flipV="1">
              <a:off x="6253200" y="607860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 flipV="1">
              <a:off x="6669000" y="6078600"/>
              <a:ext cx="18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 flipV="1">
              <a:off x="7088040" y="6078600"/>
              <a:ext cx="18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 flipV="1">
              <a:off x="7504200" y="607860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5337000" y="6078600"/>
              <a:ext cx="73080" cy="1440"/>
            </a:xfrm>
            <a:custGeom>
              <a:avLst/>
              <a:gdLst/>
              <a:ahLst/>
              <a:rect l="l" t="t" r="r" b="b"/>
              <a:pathLst>
                <a:path w="88" h="0">
                  <a:moveTo>
                    <a:pt x="0" y="0"/>
                  </a:moveTo>
                  <a:lnTo>
                    <a:pt x="50" y="0"/>
                  </a:lnTo>
                  <a:lnTo>
                    <a:pt x="8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5410080" y="6078600"/>
              <a:ext cx="28800" cy="1440"/>
            </a:xfrm>
            <a:custGeom>
              <a:avLst/>
              <a:gdLst/>
              <a:ahLst/>
              <a:rect l="l" t="t" r="r" b="b"/>
              <a:pathLst>
                <a:path w="38" h="0">
                  <a:moveTo>
                    <a:pt x="0" y="0"/>
                  </a:moveTo>
                  <a:lnTo>
                    <a:pt x="25" y="0"/>
                  </a:lnTo>
                  <a:lnTo>
                    <a:pt x="3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5438880" y="6068880"/>
              <a:ext cx="31680" cy="9720"/>
            </a:xfrm>
            <a:custGeom>
              <a:avLst/>
              <a:gdLst/>
              <a:ahLst/>
              <a:rect l="l" t="t" r="r" b="b"/>
              <a:pathLst>
                <a:path w="37" h="13">
                  <a:moveTo>
                    <a:pt x="0" y="13"/>
                  </a:moveTo>
                  <a:lnTo>
                    <a:pt x="24" y="0"/>
                  </a:lnTo>
                  <a:lnTo>
                    <a:pt x="3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5470560" y="6068880"/>
              <a:ext cx="19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5489640" y="6068880"/>
              <a:ext cx="20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5510160" y="6068880"/>
              <a:ext cx="22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5532480" y="6068880"/>
              <a:ext cx="9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5541840" y="6068880"/>
              <a:ext cx="9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5551560" y="6068880"/>
              <a:ext cx="9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5560920" y="6058080"/>
              <a:ext cx="11160" cy="1080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5572080" y="6058080"/>
              <a:ext cx="11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5583240" y="6058080"/>
              <a:ext cx="9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5592600" y="6058080"/>
              <a:ext cx="11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5603760" y="6058080"/>
              <a:ext cx="7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5611680" y="6058080"/>
              <a:ext cx="11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5622840" y="6058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5622840" y="6058080"/>
              <a:ext cx="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 flipV="1">
              <a:off x="5632560" y="6046560"/>
              <a:ext cx="1116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5643720" y="60469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5643720" y="6046920"/>
              <a:ext cx="1080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5654520" y="60469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5654520" y="6046920"/>
              <a:ext cx="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5664240" y="6046920"/>
              <a:ext cx="9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5673600" y="60469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5673600" y="6037200"/>
              <a:ext cx="9720" cy="972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5683320" y="60372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5683320" y="60372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5683320" y="603720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5694480" y="60372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5694480" y="6037200"/>
              <a:ext cx="936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5703840" y="60372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5703840" y="6027840"/>
              <a:ext cx="1116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5715000" y="60278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5715000" y="60278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5715000" y="6027840"/>
              <a:ext cx="111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5726160" y="60278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5726160" y="60278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5726160" y="6027840"/>
              <a:ext cx="7920" cy="144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 flipV="1">
              <a:off x="5734080" y="601632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5734080" y="60166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5734080" y="6016680"/>
              <a:ext cx="111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5745240" y="60166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5745240" y="60166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5745240" y="6016680"/>
              <a:ext cx="93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5754600" y="60166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 flipV="1">
              <a:off x="5754600" y="600660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5754600" y="6006960"/>
              <a:ext cx="972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5764320" y="60069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5764320" y="60069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5764320" y="60069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5764320" y="6006960"/>
              <a:ext cx="1260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5776920" y="60069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5776920" y="60069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 flipV="1">
              <a:off x="5776920" y="599760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5776920" y="5997600"/>
              <a:ext cx="93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5786280" y="5997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5786280" y="5997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5786280" y="5997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5786280" y="5997600"/>
              <a:ext cx="9720" cy="144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5796000" y="59976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 flipV="1">
              <a:off x="5796000" y="598752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5796000" y="59878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5796000" y="5987880"/>
              <a:ext cx="93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5805360" y="59878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5805360" y="59878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5805360" y="59878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5805360" y="598788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 flipV="1">
              <a:off x="5816520" y="5977080"/>
              <a:ext cx="180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5816520" y="5977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5816520" y="5977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5816520" y="5977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5816520" y="5977080"/>
              <a:ext cx="972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5826240" y="59770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5826240" y="59770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 flipV="1">
              <a:off x="5826240" y="596700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5826240" y="5967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5826240" y="596736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5837400" y="5967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5837400" y="5967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5837400" y="5967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5837400" y="5967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5837400" y="5967360"/>
              <a:ext cx="1080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 flipV="1">
              <a:off x="5848200" y="595800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5848200" y="59580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5848200" y="59580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5848200" y="59580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5848200" y="5958000"/>
              <a:ext cx="7920" cy="144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5856120" y="59580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5856120" y="59580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 flipV="1">
              <a:off x="5856120" y="594792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5856120" y="5948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5856120" y="5948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5856120" y="594828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5867280" y="5948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5867280" y="5948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5867280" y="5948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 flipV="1">
              <a:off x="5867280" y="593892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5867280" y="59389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5867280" y="5938920"/>
              <a:ext cx="972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5877000" y="59389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5877000" y="59389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5877000" y="59389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5877000" y="59389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 flipV="1">
              <a:off x="5877000" y="592740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5877000" y="5927760"/>
              <a:ext cx="936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5886360" y="5927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5886360" y="5927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5886360" y="5927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5886360" y="5927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5886360" y="5927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5886360" y="5927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5886360" y="591660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5897520" y="5916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5897520" y="5916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5897520" y="5916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5897520" y="5916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5897520" y="5916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5897520" y="5916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5897520" y="5907240"/>
              <a:ext cx="1116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5908680" y="59072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5908680" y="59072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5908680" y="59072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5908680" y="59072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5908680" y="59072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5908680" y="59072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5908680" y="5896080"/>
              <a:ext cx="9360" cy="1116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13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5918040" y="5896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5918040" y="5896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5918040" y="5896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5918040" y="5896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5918040" y="5896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5918040" y="5896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5918040" y="5886360"/>
              <a:ext cx="9720" cy="97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5927760" y="5886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5927760" y="5886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5927760" y="5886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5927760" y="5886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5927760" y="5886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5927760" y="5886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 flipV="1">
              <a:off x="5927760" y="587700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5927760" y="5877000"/>
              <a:ext cx="111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5938920" y="58770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5938920" y="58770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5938920" y="58770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5938920" y="58770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5938920" y="58770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5938920" y="58770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5938920" y="5867280"/>
              <a:ext cx="9360" cy="97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13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5948280" y="5867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5948280" y="5867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5948280" y="5867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5948280" y="5867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5948280" y="5867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5948280" y="5867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9" name=""/>
            <p:cNvSpPr/>
            <p:nvPr/>
          </p:nvSpPr>
          <p:spPr>
            <a:xfrm flipV="1">
              <a:off x="5948280" y="5855760"/>
              <a:ext cx="18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5948280" y="58561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5948280" y="5856120"/>
              <a:ext cx="972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5958000" y="58561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5958000" y="58561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5958000" y="58561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5958000" y="58561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6" name=""/>
            <p:cNvSpPr/>
            <p:nvPr/>
          </p:nvSpPr>
          <p:spPr>
            <a:xfrm flipV="1">
              <a:off x="5958000" y="584676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5958000" y="58467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5958000" y="58467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5958000" y="5846760"/>
              <a:ext cx="1260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5970600" y="58467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5970600" y="58467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5970600" y="58467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 flipV="1">
              <a:off x="5970600" y="583740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5970600" y="5837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5970600" y="5837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5970600" y="5837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5970600" y="5837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5970600" y="5837400"/>
              <a:ext cx="7920" cy="144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5978520" y="5837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5978520" y="5837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1" name=""/>
            <p:cNvSpPr/>
            <p:nvPr/>
          </p:nvSpPr>
          <p:spPr>
            <a:xfrm flipV="1">
              <a:off x="5978520" y="582732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5978520" y="5827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5978520" y="5827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5978520" y="5827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5978520" y="5827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5978520" y="5827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5978520" y="582768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8" name=""/>
            <p:cNvSpPr/>
            <p:nvPr/>
          </p:nvSpPr>
          <p:spPr>
            <a:xfrm flipV="1">
              <a:off x="5989680" y="581832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5989680" y="58183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5989680" y="58183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5989680" y="58183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5989680" y="58183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5989680" y="58183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5989680" y="58183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5" name=""/>
            <p:cNvSpPr/>
            <p:nvPr/>
          </p:nvSpPr>
          <p:spPr>
            <a:xfrm flipV="1">
              <a:off x="5989680" y="580680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5989680" y="5807160"/>
              <a:ext cx="93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5999040" y="58071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5999040" y="58071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5999040" y="58071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5999040" y="58071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5999040" y="58071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2" name=""/>
            <p:cNvSpPr/>
            <p:nvPr/>
          </p:nvSpPr>
          <p:spPr>
            <a:xfrm flipV="1">
              <a:off x="5999040" y="579708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5999040" y="57974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5999040" y="57974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5999040" y="57974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5999040" y="5797440"/>
              <a:ext cx="972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6008760" y="57974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6008760" y="57974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6008760" y="57974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0" name=""/>
            <p:cNvSpPr/>
            <p:nvPr/>
          </p:nvSpPr>
          <p:spPr>
            <a:xfrm flipV="1">
              <a:off x="6008760" y="578592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6008760" y="57862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6008760" y="57862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6008760" y="57862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6008760" y="57862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6008760" y="57862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6008760" y="578628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7" name=""/>
            <p:cNvSpPr/>
            <p:nvPr/>
          </p:nvSpPr>
          <p:spPr>
            <a:xfrm flipV="1">
              <a:off x="6019920" y="5775480"/>
              <a:ext cx="144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6019920" y="57754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6019920" y="57754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6019920" y="57754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6019920" y="57754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6019920" y="57754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6019920" y="57754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4" name=""/>
            <p:cNvSpPr/>
            <p:nvPr/>
          </p:nvSpPr>
          <p:spPr>
            <a:xfrm flipV="1">
              <a:off x="6019920" y="576540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6019920" y="57657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6019920" y="576576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6031080" y="57657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6031080" y="57657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6031080" y="57657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6031080" y="57657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1" name=""/>
            <p:cNvSpPr/>
            <p:nvPr/>
          </p:nvSpPr>
          <p:spPr>
            <a:xfrm flipV="1">
              <a:off x="6031080" y="575640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6031080" y="5756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6031080" y="5756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6031080" y="5756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6031080" y="5756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6031080" y="5756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6031080" y="5756400"/>
              <a:ext cx="9360" cy="144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8" name=""/>
            <p:cNvSpPr/>
            <p:nvPr/>
          </p:nvSpPr>
          <p:spPr>
            <a:xfrm flipV="1">
              <a:off x="6040440" y="574632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6040440" y="5746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6040440" y="5746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6040440" y="5746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6040440" y="5746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6040440" y="5746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6040440" y="5746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6040440" y="5746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6" name=""/>
            <p:cNvSpPr/>
            <p:nvPr/>
          </p:nvSpPr>
          <p:spPr>
            <a:xfrm flipV="1">
              <a:off x="6040440" y="573516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6040440" y="5735520"/>
              <a:ext cx="93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6049800" y="57355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6049800" y="57355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6049800" y="57355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6049800" y="57355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6049800" y="57355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 flipV="1">
              <a:off x="6049800" y="572616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6049800" y="57261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6049800" y="57261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6049800" y="57261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6049800" y="57261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6049800" y="5726160"/>
              <a:ext cx="111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6060960" y="57261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 flipV="1">
              <a:off x="6060960" y="571608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6060960" y="57164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6060960" y="57164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6060960" y="57164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6060960" y="57164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6060960" y="57164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6060960" y="57164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7" name=""/>
            <p:cNvSpPr/>
            <p:nvPr/>
          </p:nvSpPr>
          <p:spPr>
            <a:xfrm flipV="1">
              <a:off x="6060960" y="570708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6060960" y="5707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6060960" y="5707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6060960" y="5707080"/>
              <a:ext cx="972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6070680" y="57070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6070680" y="57070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6070680" y="57070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6070680" y="57070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5" name=""/>
            <p:cNvSpPr/>
            <p:nvPr/>
          </p:nvSpPr>
          <p:spPr>
            <a:xfrm flipV="1">
              <a:off x="6070680" y="569700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6070680" y="5697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6070680" y="5697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6070680" y="5697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6070680" y="5697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6070680" y="5697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6070680" y="5697360"/>
              <a:ext cx="93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2" name=""/>
            <p:cNvSpPr/>
            <p:nvPr/>
          </p:nvSpPr>
          <p:spPr>
            <a:xfrm flipV="1">
              <a:off x="6080040" y="5686560"/>
              <a:ext cx="180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6080040" y="56865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6080040" y="56865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6080040" y="56865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6080040" y="56865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6080040" y="56865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6080040" y="56865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9" name=""/>
            <p:cNvSpPr/>
            <p:nvPr/>
          </p:nvSpPr>
          <p:spPr>
            <a:xfrm flipV="1">
              <a:off x="6080040" y="567648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6080040" y="5676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6080040" y="5676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6080040" y="5676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6080040" y="567684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6091200" y="567684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6091200" y="567684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6" name=""/>
            <p:cNvSpPr/>
            <p:nvPr/>
          </p:nvSpPr>
          <p:spPr>
            <a:xfrm flipV="1">
              <a:off x="6091200" y="5665320"/>
              <a:ext cx="32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6091200" y="566568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6091200" y="566568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6091200" y="566568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6091200" y="566568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6091200" y="566568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6091200" y="566568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3" name=""/>
            <p:cNvSpPr/>
            <p:nvPr/>
          </p:nvSpPr>
          <p:spPr>
            <a:xfrm flipV="1">
              <a:off x="6091200" y="5654160"/>
              <a:ext cx="32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6091200" y="565452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6091200" y="5654520"/>
              <a:ext cx="9720" cy="180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6100920" y="56545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6100920" y="56545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6100920" y="56545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6100920" y="56545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6100920" y="56545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1" name=""/>
            <p:cNvSpPr/>
            <p:nvPr/>
          </p:nvSpPr>
          <p:spPr>
            <a:xfrm flipV="1">
              <a:off x="6100920" y="564516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6100920" y="56451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6100920" y="56451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6100920" y="56451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6100920" y="56451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6100920" y="56451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6100920" y="5645160"/>
              <a:ext cx="1080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8" name=""/>
            <p:cNvSpPr/>
            <p:nvPr/>
          </p:nvSpPr>
          <p:spPr>
            <a:xfrm flipV="1">
              <a:off x="6111720" y="563580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6111720" y="5635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6111720" y="5635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6111720" y="5635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6111720" y="5635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6111720" y="5635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6111720" y="5635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5" name=""/>
            <p:cNvSpPr/>
            <p:nvPr/>
          </p:nvSpPr>
          <p:spPr>
            <a:xfrm flipV="1">
              <a:off x="6111720" y="562572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6111720" y="5626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6111720" y="5626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6111720" y="5626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6111720" y="5626080"/>
              <a:ext cx="972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6121440" y="56260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6121440" y="56260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2" name=""/>
            <p:cNvSpPr/>
            <p:nvPr/>
          </p:nvSpPr>
          <p:spPr>
            <a:xfrm flipV="1">
              <a:off x="6121440" y="561456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6121440" y="5614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6121440" y="5614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6121440" y="5614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6121440" y="5614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6121440" y="5614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6121440" y="5614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6121440" y="5614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0" name=""/>
            <p:cNvSpPr/>
            <p:nvPr/>
          </p:nvSpPr>
          <p:spPr>
            <a:xfrm flipV="1">
              <a:off x="6121440" y="560556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6121440" y="5605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6121440" y="5605560"/>
              <a:ext cx="936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6130800" y="56055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6130800" y="56055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6130800" y="56055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6130800" y="56055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7" name=""/>
            <p:cNvSpPr/>
            <p:nvPr/>
          </p:nvSpPr>
          <p:spPr>
            <a:xfrm flipV="1">
              <a:off x="6130800" y="559548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6130800" y="5595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6130800" y="5595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6130800" y="5595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6130800" y="5595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6130800" y="5595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6130800" y="5595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4" name=""/>
            <p:cNvSpPr/>
            <p:nvPr/>
          </p:nvSpPr>
          <p:spPr>
            <a:xfrm flipV="1">
              <a:off x="6130800" y="558648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6130800" y="5586480"/>
              <a:ext cx="111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6141960" y="5586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6141960" y="5586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6141960" y="5586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6141960" y="5586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6141960" y="5586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1" name=""/>
            <p:cNvSpPr/>
            <p:nvPr/>
          </p:nvSpPr>
          <p:spPr>
            <a:xfrm flipV="1">
              <a:off x="6141960" y="557640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6141960" y="55767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6141960" y="55767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6141960" y="55767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6141960" y="55767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6141960" y="55767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6141960" y="55767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6141960" y="5576760"/>
              <a:ext cx="7920" cy="180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9" name=""/>
            <p:cNvSpPr/>
            <p:nvPr/>
          </p:nvSpPr>
          <p:spPr>
            <a:xfrm flipV="1">
              <a:off x="6149880" y="5565240"/>
              <a:ext cx="18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6149880" y="55656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6149880" y="55656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6149880" y="55656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6149880" y="55656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6149880" y="55656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6149880" y="55656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 flipV="1">
              <a:off x="6149880" y="555624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6149880" y="55562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6149880" y="55562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6149880" y="55562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6149880" y="55562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6149880" y="5556240"/>
              <a:ext cx="129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6162840" y="55562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 flipV="1">
              <a:off x="6162840" y="554688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6162840" y="5546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6162840" y="5546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5978520" y="5827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5978520" y="582768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 flipV="1">
              <a:off x="5989680" y="581832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5989680" y="58183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5989680" y="58183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5989680" y="58183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5989680" y="58183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5989680" y="58183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5989680" y="58183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 flipV="1">
              <a:off x="5989680" y="580680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5989680" y="5807160"/>
              <a:ext cx="93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5999040" y="58071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5999040" y="58071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5999040" y="58071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5999040" y="58071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5999040" y="58071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 flipV="1">
              <a:off x="5999040" y="579708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5999040" y="57974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5999040" y="57974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5999040" y="57974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5999040" y="5797440"/>
              <a:ext cx="972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6008760" y="57974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6008760" y="57974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6008760" y="57974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 flipV="1">
              <a:off x="6008760" y="578592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6008760" y="57862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6008760" y="57862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6008760" y="57862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6008760" y="57862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6008760" y="57862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6008760" y="578628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 flipV="1">
              <a:off x="6019920" y="5775480"/>
              <a:ext cx="144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6019920" y="57754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6019920" y="57754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6019920" y="57754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6019920" y="57754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6019920" y="57754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3" name=""/>
            <p:cNvSpPr/>
            <p:nvPr/>
          </p:nvSpPr>
          <p:spPr>
            <a:xfrm>
              <a:off x="6019920" y="57754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4" name=""/>
            <p:cNvSpPr/>
            <p:nvPr/>
          </p:nvSpPr>
          <p:spPr>
            <a:xfrm flipV="1">
              <a:off x="6019920" y="576540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6019920" y="57657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6019920" y="576576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6031080" y="57657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6031080" y="57657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6031080" y="57657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6031080" y="57657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1" name=""/>
            <p:cNvSpPr/>
            <p:nvPr/>
          </p:nvSpPr>
          <p:spPr>
            <a:xfrm flipV="1">
              <a:off x="6031080" y="575640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6031080" y="5756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6031080" y="5756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6031080" y="5756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5" name=""/>
            <p:cNvSpPr/>
            <p:nvPr/>
          </p:nvSpPr>
          <p:spPr>
            <a:xfrm>
              <a:off x="6031080" y="5756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6031080" y="5756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6031080" y="5756400"/>
              <a:ext cx="9360" cy="144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8" name=""/>
            <p:cNvSpPr/>
            <p:nvPr/>
          </p:nvSpPr>
          <p:spPr>
            <a:xfrm flipV="1">
              <a:off x="6040440" y="574632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6040440" y="5746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0" name=""/>
            <p:cNvSpPr/>
            <p:nvPr/>
          </p:nvSpPr>
          <p:spPr>
            <a:xfrm>
              <a:off x="6040440" y="5746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6040440" y="5746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6040440" y="5746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6040440" y="5746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6040440" y="5746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6040440" y="5746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6" name=""/>
            <p:cNvSpPr/>
            <p:nvPr/>
          </p:nvSpPr>
          <p:spPr>
            <a:xfrm flipV="1">
              <a:off x="6040440" y="573516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6040440" y="5735520"/>
              <a:ext cx="93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6049800" y="57355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6049800" y="57355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6049800" y="57355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6049800" y="57355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6049800" y="57355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3" name=""/>
            <p:cNvSpPr/>
            <p:nvPr/>
          </p:nvSpPr>
          <p:spPr>
            <a:xfrm flipV="1">
              <a:off x="6049800" y="572616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6049800" y="57261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6049800" y="57261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6049800" y="57261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6049800" y="57261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6049800" y="5726160"/>
              <a:ext cx="111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6060960" y="57261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0" name=""/>
            <p:cNvSpPr/>
            <p:nvPr/>
          </p:nvSpPr>
          <p:spPr>
            <a:xfrm flipV="1">
              <a:off x="6060960" y="571608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6060960" y="57164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6060960" y="57164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6060960" y="57164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6060960" y="57164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6060960" y="57164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6060960" y="57164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7" name=""/>
            <p:cNvSpPr/>
            <p:nvPr/>
          </p:nvSpPr>
          <p:spPr>
            <a:xfrm flipV="1">
              <a:off x="6060960" y="570708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6060960" y="5707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6060960" y="5707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6060960" y="5707080"/>
              <a:ext cx="972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1" name=""/>
            <p:cNvSpPr/>
            <p:nvPr/>
          </p:nvSpPr>
          <p:spPr>
            <a:xfrm>
              <a:off x="6070680" y="57070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6070680" y="57070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6070680" y="57070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6070680" y="57070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5" name=""/>
            <p:cNvSpPr/>
            <p:nvPr/>
          </p:nvSpPr>
          <p:spPr>
            <a:xfrm flipV="1">
              <a:off x="6070680" y="569700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6070680" y="5697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6070680" y="5697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6070680" y="5697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6070680" y="5697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6070680" y="5697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6070680" y="5697360"/>
              <a:ext cx="93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2" name=""/>
            <p:cNvSpPr/>
            <p:nvPr/>
          </p:nvSpPr>
          <p:spPr>
            <a:xfrm flipV="1">
              <a:off x="6080040" y="5686560"/>
              <a:ext cx="180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6080040" y="56865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6080040" y="56865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6080040" y="56865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6080040" y="56865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6080040" y="56865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6080040" y="56865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9" name=""/>
            <p:cNvSpPr/>
            <p:nvPr/>
          </p:nvSpPr>
          <p:spPr>
            <a:xfrm flipV="1">
              <a:off x="6080040" y="567648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6080040" y="5676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6080040" y="5676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6080040" y="5676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6080040" y="567684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6091200" y="567684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6091200" y="567684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6" name=""/>
            <p:cNvSpPr/>
            <p:nvPr/>
          </p:nvSpPr>
          <p:spPr>
            <a:xfrm flipV="1">
              <a:off x="6091200" y="5665320"/>
              <a:ext cx="32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6091200" y="566568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6091200" y="566568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6091200" y="566568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6091200" y="566568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6091200" y="566568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6091200" y="566568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3" name=""/>
            <p:cNvSpPr/>
            <p:nvPr/>
          </p:nvSpPr>
          <p:spPr>
            <a:xfrm flipV="1">
              <a:off x="6091200" y="5654160"/>
              <a:ext cx="32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6091200" y="565452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6091200" y="5654520"/>
              <a:ext cx="9720" cy="180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6100920" y="56545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6100920" y="56545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6100920" y="56545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6100920" y="56545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6100920" y="56545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1" name=""/>
            <p:cNvSpPr/>
            <p:nvPr/>
          </p:nvSpPr>
          <p:spPr>
            <a:xfrm flipV="1">
              <a:off x="6100920" y="564516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6100920" y="56451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6100920" y="56451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6100920" y="56451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6100920" y="56451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6100920" y="56451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6100920" y="5645160"/>
              <a:ext cx="1080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8" name=""/>
            <p:cNvSpPr/>
            <p:nvPr/>
          </p:nvSpPr>
          <p:spPr>
            <a:xfrm flipV="1">
              <a:off x="6111720" y="563580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6111720" y="5635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6111720" y="5635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6111720" y="5635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6111720" y="5635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6111720" y="5635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6111720" y="5635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5" name=""/>
            <p:cNvSpPr/>
            <p:nvPr/>
          </p:nvSpPr>
          <p:spPr>
            <a:xfrm flipV="1">
              <a:off x="6111720" y="562572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6111720" y="5626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6111720" y="5626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6111720" y="5626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6111720" y="5626080"/>
              <a:ext cx="972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6121440" y="56260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6121440" y="56260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2" name=""/>
            <p:cNvSpPr/>
            <p:nvPr/>
          </p:nvSpPr>
          <p:spPr>
            <a:xfrm flipV="1">
              <a:off x="6121440" y="561456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6121440" y="5614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6121440" y="5614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6121440" y="5614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6121440" y="5614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6121440" y="5614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6121440" y="5614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6121440" y="5614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0" name=""/>
            <p:cNvSpPr/>
            <p:nvPr/>
          </p:nvSpPr>
          <p:spPr>
            <a:xfrm flipV="1">
              <a:off x="6121440" y="560556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6121440" y="5605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6121440" y="5605560"/>
              <a:ext cx="936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6130800" y="56055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6130800" y="56055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6130800" y="56055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6130800" y="56055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7" name=""/>
            <p:cNvSpPr/>
            <p:nvPr/>
          </p:nvSpPr>
          <p:spPr>
            <a:xfrm flipV="1">
              <a:off x="6130800" y="559548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6130800" y="5595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6130800" y="5595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6130800" y="5595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6130800" y="5595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6130800" y="5595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6130800" y="5595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4" name=""/>
            <p:cNvSpPr/>
            <p:nvPr/>
          </p:nvSpPr>
          <p:spPr>
            <a:xfrm flipV="1">
              <a:off x="6130800" y="558648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6130800" y="5586480"/>
              <a:ext cx="111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6141960" y="5586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6141960" y="5586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6141960" y="5586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6141960" y="5586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6141960" y="5586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 flipV="1">
              <a:off x="6141960" y="557640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6141960" y="55767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6141960" y="55767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6141960" y="55767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6141960" y="55767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6141960" y="55767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6141960" y="55767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6141960" y="5576760"/>
              <a:ext cx="7920" cy="180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9" name=""/>
            <p:cNvSpPr/>
            <p:nvPr/>
          </p:nvSpPr>
          <p:spPr>
            <a:xfrm flipV="1">
              <a:off x="6149880" y="5565240"/>
              <a:ext cx="18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6149880" y="55656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6149880" y="55656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6149880" y="55656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6149880" y="55656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6149880" y="55656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6149880" y="55656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6" name=""/>
            <p:cNvSpPr/>
            <p:nvPr/>
          </p:nvSpPr>
          <p:spPr>
            <a:xfrm flipV="1">
              <a:off x="6149880" y="555624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6149880" y="55562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6149880" y="55562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6149880" y="55562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6149880" y="55562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6149880" y="5556240"/>
              <a:ext cx="129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6162840" y="55562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3" name=""/>
            <p:cNvSpPr/>
            <p:nvPr/>
          </p:nvSpPr>
          <p:spPr>
            <a:xfrm flipV="1">
              <a:off x="6162840" y="554688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6162840" y="5546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6162840" y="5546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6162840" y="5546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6162840" y="5546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6162840" y="5546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6162840" y="5546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0" name=""/>
            <p:cNvSpPr/>
            <p:nvPr/>
          </p:nvSpPr>
          <p:spPr>
            <a:xfrm flipV="1">
              <a:off x="6162840" y="5533920"/>
              <a:ext cx="144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6162840" y="5533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6162840" y="5533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6162840" y="5533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6162840" y="5533920"/>
              <a:ext cx="93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6172200" y="5533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6172200" y="5533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7" name=""/>
            <p:cNvSpPr/>
            <p:nvPr/>
          </p:nvSpPr>
          <p:spPr>
            <a:xfrm flipV="1">
              <a:off x="6172200" y="552456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6172200" y="5524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6172200" y="5524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6172200" y="5524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6172200" y="5524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6172200" y="5524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6172200" y="5524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6172200" y="5524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5" name=""/>
            <p:cNvSpPr/>
            <p:nvPr/>
          </p:nvSpPr>
          <p:spPr>
            <a:xfrm flipV="1">
              <a:off x="6172200" y="551448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6172200" y="55148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6172200" y="55148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6172200" y="5514840"/>
              <a:ext cx="936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6181560" y="5514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6181560" y="5514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6181560" y="5514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2" name=""/>
            <p:cNvSpPr/>
            <p:nvPr/>
          </p:nvSpPr>
          <p:spPr>
            <a:xfrm flipV="1">
              <a:off x="6181560" y="550548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6181560" y="5505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6181560" y="5505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6181560" y="5505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6181560" y="5505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6181560" y="5505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6181560" y="5505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9" name=""/>
            <p:cNvSpPr/>
            <p:nvPr/>
          </p:nvSpPr>
          <p:spPr>
            <a:xfrm flipV="1">
              <a:off x="6181560" y="5493960"/>
              <a:ext cx="18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6181560" y="54943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6181560" y="5494320"/>
              <a:ext cx="111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6192720" y="54943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6192720" y="54943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6192720" y="54943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6192720" y="54943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6" name=""/>
            <p:cNvSpPr/>
            <p:nvPr/>
          </p:nvSpPr>
          <p:spPr>
            <a:xfrm flipV="1">
              <a:off x="6192720" y="548496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6192720" y="54849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6192720" y="54849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6192720" y="54849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6192720" y="54849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6192720" y="54849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6192720" y="54849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6192720" y="54849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4" name=""/>
            <p:cNvSpPr/>
            <p:nvPr/>
          </p:nvSpPr>
          <p:spPr>
            <a:xfrm flipV="1">
              <a:off x="6192720" y="547488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6192720" y="5475240"/>
              <a:ext cx="972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6202440" y="54752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6202440" y="54752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6202440" y="54752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6202440" y="54752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6202440" y="54752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1" name=""/>
            <p:cNvSpPr/>
            <p:nvPr/>
          </p:nvSpPr>
          <p:spPr>
            <a:xfrm flipV="1">
              <a:off x="6202440" y="546588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6202440" y="5465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6202440" y="5465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6202440" y="5465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6202440" y="5465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6202440" y="5465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6202440" y="5465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6202440" y="5456160"/>
              <a:ext cx="9360" cy="9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6211800" y="54561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6211800" y="54561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6211800" y="54561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6211800" y="54561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6211800" y="54561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4" name=""/>
            <p:cNvSpPr/>
            <p:nvPr/>
          </p:nvSpPr>
          <p:spPr>
            <a:xfrm>
              <a:off x="6211800" y="54561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5" name=""/>
            <p:cNvSpPr/>
            <p:nvPr/>
          </p:nvSpPr>
          <p:spPr>
            <a:xfrm flipV="1">
              <a:off x="6211800" y="5444640"/>
              <a:ext cx="18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6211800" y="54450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6211800" y="54450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6211800" y="54450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6211800" y="54450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6211800" y="54450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6211800" y="54450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6211800" y="5445000"/>
              <a:ext cx="972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3" name=""/>
            <p:cNvSpPr/>
            <p:nvPr/>
          </p:nvSpPr>
          <p:spPr>
            <a:xfrm flipV="1">
              <a:off x="6221520" y="5435640"/>
              <a:ext cx="32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6221520" y="5435640"/>
              <a:ext cx="3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6221520" y="5435640"/>
              <a:ext cx="3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6221520" y="5435640"/>
              <a:ext cx="3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6221520" y="5435640"/>
              <a:ext cx="3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6221520" y="5435640"/>
              <a:ext cx="3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6221520" y="5435640"/>
              <a:ext cx="3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0" name=""/>
            <p:cNvSpPr/>
            <p:nvPr/>
          </p:nvSpPr>
          <p:spPr>
            <a:xfrm flipV="1">
              <a:off x="6221520" y="5425560"/>
              <a:ext cx="32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6221520" y="542592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2" name=""/>
            <p:cNvSpPr/>
            <p:nvPr/>
          </p:nvSpPr>
          <p:spPr>
            <a:xfrm>
              <a:off x="6221520" y="542592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6221520" y="542592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6221520" y="542592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6221520" y="542592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6221520" y="5425920"/>
              <a:ext cx="1260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7" name=""/>
            <p:cNvSpPr/>
            <p:nvPr/>
          </p:nvSpPr>
          <p:spPr>
            <a:xfrm flipV="1">
              <a:off x="6234120" y="5415120"/>
              <a:ext cx="144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6234120" y="5415120"/>
              <a:ext cx="1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9" name=""/>
            <p:cNvSpPr/>
            <p:nvPr/>
          </p:nvSpPr>
          <p:spPr>
            <a:xfrm>
              <a:off x="6234120" y="5415120"/>
              <a:ext cx="1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6234120" y="5415120"/>
              <a:ext cx="1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1" name=""/>
            <p:cNvSpPr/>
            <p:nvPr/>
          </p:nvSpPr>
          <p:spPr>
            <a:xfrm>
              <a:off x="6234120" y="5415120"/>
              <a:ext cx="1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6234120" y="5415120"/>
              <a:ext cx="1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6234120" y="5415120"/>
              <a:ext cx="1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4" name=""/>
            <p:cNvSpPr/>
            <p:nvPr/>
          </p:nvSpPr>
          <p:spPr>
            <a:xfrm flipV="1">
              <a:off x="6234120" y="540360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6234120" y="5403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6234120" y="5403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6234120" y="5403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6234120" y="5403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6234120" y="5403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6234120" y="5403960"/>
              <a:ext cx="936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1" name=""/>
            <p:cNvSpPr/>
            <p:nvPr/>
          </p:nvSpPr>
          <p:spPr>
            <a:xfrm flipV="1">
              <a:off x="6243480" y="539388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6243480" y="53942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6243480" y="53942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6243480" y="53942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6243480" y="53942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6243480" y="53942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6243480" y="53942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6243480" y="53942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9" name=""/>
            <p:cNvSpPr/>
            <p:nvPr/>
          </p:nvSpPr>
          <p:spPr>
            <a:xfrm flipV="1">
              <a:off x="6243480" y="538488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6243480" y="53848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6243480" y="53848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6243480" y="53848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6243480" y="53848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6243480" y="5384880"/>
              <a:ext cx="972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6253200" y="5384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6" name=""/>
            <p:cNvSpPr/>
            <p:nvPr/>
          </p:nvSpPr>
          <p:spPr>
            <a:xfrm flipV="1">
              <a:off x="6253200" y="537336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6253200" y="53737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6253200" y="53737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6253200" y="53737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6253200" y="53737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6253200" y="53737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6253200" y="53737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3" name=""/>
            <p:cNvSpPr/>
            <p:nvPr/>
          </p:nvSpPr>
          <p:spPr>
            <a:xfrm flipV="1">
              <a:off x="6253200" y="536364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6253200" y="53640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6253200" y="53640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6253200" y="53640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6253200" y="536400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6264360" y="53640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6264360" y="53640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0" name=""/>
            <p:cNvSpPr/>
            <p:nvPr/>
          </p:nvSpPr>
          <p:spPr>
            <a:xfrm flipV="1">
              <a:off x="6264360" y="535464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1" name=""/>
            <p:cNvSpPr/>
            <p:nvPr/>
          </p:nvSpPr>
          <p:spPr>
            <a:xfrm>
              <a:off x="6264360" y="53546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6264360" y="53546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6264360" y="53546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6264360" y="53546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6264360" y="53546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6264360" y="53546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6264360" y="53546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8" name=""/>
            <p:cNvSpPr/>
            <p:nvPr/>
          </p:nvSpPr>
          <p:spPr>
            <a:xfrm flipV="1">
              <a:off x="6264360" y="534528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6264360" y="5345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6264360" y="5345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6264360" y="5345280"/>
              <a:ext cx="7920" cy="144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6272280" y="5345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6272280" y="5345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6272280" y="5345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5" name=""/>
            <p:cNvSpPr/>
            <p:nvPr/>
          </p:nvSpPr>
          <p:spPr>
            <a:xfrm flipV="1">
              <a:off x="6272280" y="533520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6272280" y="5335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6272280" y="5335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6272280" y="5335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6272280" y="5335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6272280" y="5335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1" name=""/>
            <p:cNvSpPr/>
            <p:nvPr/>
          </p:nvSpPr>
          <p:spPr>
            <a:xfrm>
              <a:off x="6272280" y="5335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2" name=""/>
            <p:cNvSpPr/>
            <p:nvPr/>
          </p:nvSpPr>
          <p:spPr>
            <a:xfrm flipV="1">
              <a:off x="6272280" y="532404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6272280" y="53244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6272280" y="53244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6272280" y="532440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6283440" y="53244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6283440" y="53244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6283440" y="53244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9" name=""/>
            <p:cNvSpPr/>
            <p:nvPr/>
          </p:nvSpPr>
          <p:spPr>
            <a:xfrm flipV="1">
              <a:off x="6283440" y="531504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6283440" y="53150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6283440" y="53150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6283440" y="53150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6283440" y="53150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6283440" y="53150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6283440" y="53150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6283440" y="53150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7" name=""/>
            <p:cNvSpPr/>
            <p:nvPr/>
          </p:nvSpPr>
          <p:spPr>
            <a:xfrm flipV="1">
              <a:off x="6283440" y="530496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6283440" y="5305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6283440" y="530532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6294600" y="5305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6294600" y="5305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6294600" y="5305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6294600" y="5305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4" name=""/>
            <p:cNvSpPr/>
            <p:nvPr/>
          </p:nvSpPr>
          <p:spPr>
            <a:xfrm flipV="1">
              <a:off x="6294600" y="529596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6294600" y="5295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6294600" y="5295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6294600" y="5295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6294600" y="5295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6294600" y="5295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6294600" y="5295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1" name=""/>
            <p:cNvSpPr/>
            <p:nvPr/>
          </p:nvSpPr>
          <p:spPr>
            <a:xfrm flipV="1">
              <a:off x="6294600" y="5283000"/>
              <a:ext cx="144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6294600" y="5283360"/>
              <a:ext cx="936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6303960" y="5283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6303960" y="5283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6303960" y="5283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6303960" y="5283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6303960" y="5283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8" name=""/>
            <p:cNvSpPr/>
            <p:nvPr/>
          </p:nvSpPr>
          <p:spPr>
            <a:xfrm flipV="1">
              <a:off x="6303960" y="527328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6303960" y="52736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6303960" y="52736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6303960" y="52736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6303960" y="52736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6303960" y="52736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6303960" y="52736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5" name=""/>
            <p:cNvSpPr/>
            <p:nvPr/>
          </p:nvSpPr>
          <p:spPr>
            <a:xfrm flipV="1">
              <a:off x="6303960" y="526428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6162840" y="5546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6162840" y="5546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6162840" y="5546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6162840" y="5546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0" name=""/>
            <p:cNvSpPr/>
            <p:nvPr/>
          </p:nvSpPr>
          <p:spPr>
            <a:xfrm flipV="1">
              <a:off x="6162840" y="5533920"/>
              <a:ext cx="144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6162840" y="5533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6162840" y="5533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6162840" y="5533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6162840" y="5533920"/>
              <a:ext cx="93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6172200" y="5533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6172200" y="5533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7" name=""/>
            <p:cNvSpPr/>
            <p:nvPr/>
          </p:nvSpPr>
          <p:spPr>
            <a:xfrm flipV="1">
              <a:off x="6172200" y="552456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6172200" y="5524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6172200" y="5524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6172200" y="5524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6172200" y="5524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6172200" y="5524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6172200" y="5524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6172200" y="5524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5" name=""/>
            <p:cNvSpPr/>
            <p:nvPr/>
          </p:nvSpPr>
          <p:spPr>
            <a:xfrm flipV="1">
              <a:off x="6172200" y="551448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6172200" y="55148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6172200" y="55148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6172200" y="5514840"/>
              <a:ext cx="936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6181560" y="5514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6181560" y="5514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6181560" y="5514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2" name=""/>
            <p:cNvSpPr/>
            <p:nvPr/>
          </p:nvSpPr>
          <p:spPr>
            <a:xfrm flipV="1">
              <a:off x="6181560" y="550548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6181560" y="5505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6181560" y="5505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6181560" y="5505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6181560" y="5505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6181560" y="5505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6181560" y="5505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9" name=""/>
            <p:cNvSpPr/>
            <p:nvPr/>
          </p:nvSpPr>
          <p:spPr>
            <a:xfrm flipV="1">
              <a:off x="6181560" y="5493960"/>
              <a:ext cx="18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6181560" y="54943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6181560" y="5494320"/>
              <a:ext cx="111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6192720" y="54943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6192720" y="54943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6192720" y="54943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6192720" y="54943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6" name=""/>
            <p:cNvSpPr/>
            <p:nvPr/>
          </p:nvSpPr>
          <p:spPr>
            <a:xfrm flipV="1">
              <a:off x="6192720" y="548496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6192720" y="54849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6192720" y="54849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6192720" y="54849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6192720" y="54849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6192720" y="54849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6192720" y="54849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6192720" y="54849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4" name=""/>
            <p:cNvSpPr/>
            <p:nvPr/>
          </p:nvSpPr>
          <p:spPr>
            <a:xfrm flipV="1">
              <a:off x="6192720" y="547488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6192720" y="5475240"/>
              <a:ext cx="972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6" name=""/>
            <p:cNvSpPr/>
            <p:nvPr/>
          </p:nvSpPr>
          <p:spPr>
            <a:xfrm>
              <a:off x="6202440" y="54752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7" name=""/>
            <p:cNvSpPr/>
            <p:nvPr/>
          </p:nvSpPr>
          <p:spPr>
            <a:xfrm>
              <a:off x="6202440" y="54752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6202440" y="54752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6202440" y="54752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6202440" y="54752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1" name=""/>
            <p:cNvSpPr/>
            <p:nvPr/>
          </p:nvSpPr>
          <p:spPr>
            <a:xfrm flipV="1">
              <a:off x="6202440" y="546588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6202440" y="5465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6202440" y="5465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6202440" y="5465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6202440" y="5465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6202440" y="5465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6202440" y="5465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6202440" y="5456160"/>
              <a:ext cx="9360" cy="9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6211800" y="54561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6211800" y="54561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6211800" y="54561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6211800" y="54561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6211800" y="54561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6211800" y="54561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5" name=""/>
            <p:cNvSpPr/>
            <p:nvPr/>
          </p:nvSpPr>
          <p:spPr>
            <a:xfrm flipV="1">
              <a:off x="6211800" y="5444640"/>
              <a:ext cx="18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6211800" y="54450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7" name=""/>
            <p:cNvSpPr/>
            <p:nvPr/>
          </p:nvSpPr>
          <p:spPr>
            <a:xfrm>
              <a:off x="6211800" y="54450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8" name=""/>
            <p:cNvSpPr/>
            <p:nvPr/>
          </p:nvSpPr>
          <p:spPr>
            <a:xfrm>
              <a:off x="6211800" y="54450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6211800" y="54450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6211800" y="54450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1" name=""/>
            <p:cNvSpPr/>
            <p:nvPr/>
          </p:nvSpPr>
          <p:spPr>
            <a:xfrm>
              <a:off x="6211800" y="54450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6211800" y="5445000"/>
              <a:ext cx="972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3" name=""/>
            <p:cNvSpPr/>
            <p:nvPr/>
          </p:nvSpPr>
          <p:spPr>
            <a:xfrm flipV="1">
              <a:off x="6221520" y="5435640"/>
              <a:ext cx="32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6221520" y="5435640"/>
              <a:ext cx="3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6221520" y="5435640"/>
              <a:ext cx="3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6" name=""/>
            <p:cNvSpPr/>
            <p:nvPr/>
          </p:nvSpPr>
          <p:spPr>
            <a:xfrm>
              <a:off x="6221520" y="5435640"/>
              <a:ext cx="3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7" name=""/>
            <p:cNvSpPr/>
            <p:nvPr/>
          </p:nvSpPr>
          <p:spPr>
            <a:xfrm>
              <a:off x="6221520" y="5435640"/>
              <a:ext cx="3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6221520" y="5435640"/>
              <a:ext cx="3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6221520" y="5435640"/>
              <a:ext cx="3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0" name=""/>
            <p:cNvSpPr/>
            <p:nvPr/>
          </p:nvSpPr>
          <p:spPr>
            <a:xfrm flipV="1">
              <a:off x="6221520" y="5425560"/>
              <a:ext cx="32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6221520" y="542592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6221520" y="542592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6221520" y="542592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6221520" y="542592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6221520" y="542592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6221520" y="5425920"/>
              <a:ext cx="1260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7" name=""/>
            <p:cNvSpPr/>
            <p:nvPr/>
          </p:nvSpPr>
          <p:spPr>
            <a:xfrm flipV="1">
              <a:off x="6234120" y="5415120"/>
              <a:ext cx="144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6234120" y="5415120"/>
              <a:ext cx="1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6234120" y="5415120"/>
              <a:ext cx="1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6234120" y="5415120"/>
              <a:ext cx="1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6234120" y="5415120"/>
              <a:ext cx="1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6234120" y="5415120"/>
              <a:ext cx="1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6234120" y="5415120"/>
              <a:ext cx="1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4" name=""/>
            <p:cNvSpPr/>
            <p:nvPr/>
          </p:nvSpPr>
          <p:spPr>
            <a:xfrm flipV="1">
              <a:off x="6234120" y="540360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6234120" y="5403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6234120" y="5403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6234120" y="5403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6234120" y="5403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6234120" y="5403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6234120" y="5403960"/>
              <a:ext cx="936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1" name=""/>
            <p:cNvSpPr/>
            <p:nvPr/>
          </p:nvSpPr>
          <p:spPr>
            <a:xfrm flipV="1">
              <a:off x="6243480" y="539388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6243480" y="53942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6243480" y="53942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6243480" y="53942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6243480" y="53942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6243480" y="53942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6243480" y="53942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6243480" y="53942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9" name=""/>
            <p:cNvSpPr/>
            <p:nvPr/>
          </p:nvSpPr>
          <p:spPr>
            <a:xfrm flipV="1">
              <a:off x="6243480" y="538488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6243480" y="53848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6243480" y="53848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6243480" y="53848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3" name=""/>
            <p:cNvSpPr/>
            <p:nvPr/>
          </p:nvSpPr>
          <p:spPr>
            <a:xfrm>
              <a:off x="6243480" y="53848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4" name=""/>
            <p:cNvSpPr/>
            <p:nvPr/>
          </p:nvSpPr>
          <p:spPr>
            <a:xfrm>
              <a:off x="6243480" y="5384880"/>
              <a:ext cx="972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5" name=""/>
            <p:cNvSpPr/>
            <p:nvPr/>
          </p:nvSpPr>
          <p:spPr>
            <a:xfrm>
              <a:off x="6253200" y="5384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6" name=""/>
            <p:cNvSpPr/>
            <p:nvPr/>
          </p:nvSpPr>
          <p:spPr>
            <a:xfrm flipV="1">
              <a:off x="6253200" y="537336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7" name=""/>
            <p:cNvSpPr/>
            <p:nvPr/>
          </p:nvSpPr>
          <p:spPr>
            <a:xfrm>
              <a:off x="6253200" y="53737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8" name=""/>
            <p:cNvSpPr/>
            <p:nvPr/>
          </p:nvSpPr>
          <p:spPr>
            <a:xfrm>
              <a:off x="6253200" y="53737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6253200" y="53737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0" name=""/>
            <p:cNvSpPr/>
            <p:nvPr/>
          </p:nvSpPr>
          <p:spPr>
            <a:xfrm>
              <a:off x="6253200" y="53737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1" name=""/>
            <p:cNvSpPr/>
            <p:nvPr/>
          </p:nvSpPr>
          <p:spPr>
            <a:xfrm>
              <a:off x="6253200" y="53737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6253200" y="53737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3" name=""/>
            <p:cNvSpPr/>
            <p:nvPr/>
          </p:nvSpPr>
          <p:spPr>
            <a:xfrm flipV="1">
              <a:off x="6253200" y="536364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6253200" y="53640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6253200" y="53640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6253200" y="53640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6253200" y="536400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6264360" y="53640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6264360" y="53640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0" name=""/>
            <p:cNvSpPr/>
            <p:nvPr/>
          </p:nvSpPr>
          <p:spPr>
            <a:xfrm flipV="1">
              <a:off x="6264360" y="535464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6264360" y="53546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2" name=""/>
            <p:cNvSpPr/>
            <p:nvPr/>
          </p:nvSpPr>
          <p:spPr>
            <a:xfrm>
              <a:off x="6264360" y="53546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6264360" y="53546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6264360" y="53546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6264360" y="53546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6264360" y="53546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6264360" y="53546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8" name=""/>
            <p:cNvSpPr/>
            <p:nvPr/>
          </p:nvSpPr>
          <p:spPr>
            <a:xfrm flipV="1">
              <a:off x="6264360" y="534528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6264360" y="5345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6264360" y="5345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6264360" y="5345280"/>
              <a:ext cx="7920" cy="144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6272280" y="5345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6272280" y="5345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6272280" y="5345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5" name=""/>
            <p:cNvSpPr/>
            <p:nvPr/>
          </p:nvSpPr>
          <p:spPr>
            <a:xfrm flipV="1">
              <a:off x="6272280" y="533520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6272280" y="5335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6272280" y="5335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8" name=""/>
            <p:cNvSpPr/>
            <p:nvPr/>
          </p:nvSpPr>
          <p:spPr>
            <a:xfrm>
              <a:off x="6272280" y="5335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6272280" y="5335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0" name=""/>
            <p:cNvSpPr/>
            <p:nvPr/>
          </p:nvSpPr>
          <p:spPr>
            <a:xfrm>
              <a:off x="6272280" y="5335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6272280" y="5335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2" name=""/>
            <p:cNvSpPr/>
            <p:nvPr/>
          </p:nvSpPr>
          <p:spPr>
            <a:xfrm flipV="1">
              <a:off x="6272280" y="532404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6272280" y="53244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6272280" y="53244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6272280" y="532440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6" name=""/>
            <p:cNvSpPr/>
            <p:nvPr/>
          </p:nvSpPr>
          <p:spPr>
            <a:xfrm>
              <a:off x="6283440" y="53244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6283440" y="53244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6283440" y="53244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9" name=""/>
            <p:cNvSpPr/>
            <p:nvPr/>
          </p:nvSpPr>
          <p:spPr>
            <a:xfrm flipV="1">
              <a:off x="6283440" y="531504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6283440" y="53150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6283440" y="53150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6283440" y="53150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6283440" y="53150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6283440" y="53150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5" name=""/>
            <p:cNvSpPr/>
            <p:nvPr/>
          </p:nvSpPr>
          <p:spPr>
            <a:xfrm>
              <a:off x="6283440" y="53150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6283440" y="53150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7" name=""/>
            <p:cNvSpPr/>
            <p:nvPr/>
          </p:nvSpPr>
          <p:spPr>
            <a:xfrm flipV="1">
              <a:off x="6283440" y="530496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6283440" y="5305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6283440" y="530532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6294600" y="5305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6294600" y="5305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6294600" y="5305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6294600" y="5305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4" name=""/>
            <p:cNvSpPr/>
            <p:nvPr/>
          </p:nvSpPr>
          <p:spPr>
            <a:xfrm flipV="1">
              <a:off x="6294600" y="529596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6294600" y="5295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6294600" y="5295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6294600" y="5295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6294600" y="5295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6294600" y="5295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6294600" y="5295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1" name=""/>
            <p:cNvSpPr/>
            <p:nvPr/>
          </p:nvSpPr>
          <p:spPr>
            <a:xfrm flipV="1">
              <a:off x="6294600" y="5283000"/>
              <a:ext cx="144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6294600" y="5283360"/>
              <a:ext cx="936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6303960" y="5283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6303960" y="5283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6303960" y="5283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6303960" y="5283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6303960" y="5283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8" name=""/>
            <p:cNvSpPr/>
            <p:nvPr/>
          </p:nvSpPr>
          <p:spPr>
            <a:xfrm flipV="1">
              <a:off x="6303960" y="527328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6303960" y="52736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6303960" y="52736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6303960" y="52736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6303960" y="52736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6303960" y="52736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6303960" y="52736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5" name=""/>
            <p:cNvSpPr/>
            <p:nvPr/>
          </p:nvSpPr>
          <p:spPr>
            <a:xfrm flipV="1">
              <a:off x="6303960" y="526428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6303960" y="5264280"/>
              <a:ext cx="111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6315120" y="5264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6315120" y="5264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6315120" y="5264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6315120" y="5264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6315120" y="5264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6315120" y="5264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 flipV="1">
              <a:off x="6315120" y="525276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6315120" y="5253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6315120" y="5253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6315120" y="5253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6315120" y="5253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6315120" y="5253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6315120" y="5253120"/>
              <a:ext cx="93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0" name=""/>
            <p:cNvSpPr/>
            <p:nvPr/>
          </p:nvSpPr>
          <p:spPr>
            <a:xfrm flipV="1">
              <a:off x="6324480" y="524304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6324480" y="52434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6324480" y="52434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6324480" y="52434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6324480" y="52434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6324480" y="52434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6324480" y="52434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7" name=""/>
            <p:cNvSpPr/>
            <p:nvPr/>
          </p:nvSpPr>
          <p:spPr>
            <a:xfrm flipV="1">
              <a:off x="6324480" y="523404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6324480" y="5234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6324480" y="5234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6324480" y="5234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6324480" y="5234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6324480" y="5234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6324480" y="5234040"/>
              <a:ext cx="9720" cy="144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4" name=""/>
            <p:cNvSpPr/>
            <p:nvPr/>
          </p:nvSpPr>
          <p:spPr>
            <a:xfrm flipV="1">
              <a:off x="6334200" y="522396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6334200" y="5224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6334200" y="5224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6334200" y="5224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6334200" y="5224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6334200" y="5224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6334200" y="5224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6334200" y="5224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2" name=""/>
            <p:cNvSpPr/>
            <p:nvPr/>
          </p:nvSpPr>
          <p:spPr>
            <a:xfrm flipV="1">
              <a:off x="6334200" y="521496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6334200" y="5214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6334200" y="5214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6334200" y="5214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6334200" y="5214960"/>
              <a:ext cx="93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6343560" y="52149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6343560" y="52149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9" name=""/>
            <p:cNvSpPr/>
            <p:nvPr/>
          </p:nvSpPr>
          <p:spPr>
            <a:xfrm flipV="1">
              <a:off x="6343560" y="5203440"/>
              <a:ext cx="18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6343560" y="5203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6343560" y="5203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6343560" y="5203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6343560" y="5203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6343560" y="5203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6343560" y="5203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6" name=""/>
            <p:cNvSpPr/>
            <p:nvPr/>
          </p:nvSpPr>
          <p:spPr>
            <a:xfrm flipV="1">
              <a:off x="6343560" y="519444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6343560" y="51944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6343560" y="51944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6343560" y="5194440"/>
              <a:ext cx="129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6356520" y="5194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6356520" y="5194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6356520" y="5194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3" name=""/>
            <p:cNvSpPr/>
            <p:nvPr/>
          </p:nvSpPr>
          <p:spPr>
            <a:xfrm flipV="1">
              <a:off x="6356520" y="518436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6356520" y="51847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6356520" y="51847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6356520" y="51847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6356520" y="51847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6356520" y="51847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6356520" y="51847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 flipV="1">
              <a:off x="6356520" y="517536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6356520" y="5175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6356520" y="5175360"/>
              <a:ext cx="9360" cy="144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6365880" y="5175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6365880" y="5175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6365880" y="5175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6365880" y="5175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6365880" y="5175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8" name=""/>
            <p:cNvSpPr/>
            <p:nvPr/>
          </p:nvSpPr>
          <p:spPr>
            <a:xfrm flipV="1">
              <a:off x="6365880" y="516384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6365880" y="5164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6365880" y="5164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6365880" y="5164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6365880" y="5164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6365880" y="5164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6365880" y="5164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6365880" y="5153040"/>
              <a:ext cx="9360" cy="111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6375240" y="5153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6375240" y="5153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6375240" y="5153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6375240" y="5153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6375240" y="5153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6375240" y="5153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 flipV="1">
              <a:off x="6375240" y="514368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6375240" y="51436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6375240" y="51436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6375240" y="51436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6375240" y="51436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6375240" y="51436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6375240" y="5143680"/>
              <a:ext cx="11160" cy="144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 flipV="1">
              <a:off x="6386400" y="5132160"/>
              <a:ext cx="18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6386400" y="51325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6386400" y="51325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6386400" y="51325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6386400" y="51325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6386400" y="51325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6386400" y="51325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6386400" y="51325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7" name=""/>
            <p:cNvSpPr/>
            <p:nvPr/>
          </p:nvSpPr>
          <p:spPr>
            <a:xfrm flipV="1">
              <a:off x="6386400" y="512244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6386400" y="51228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6386400" y="51228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6386400" y="5122800"/>
              <a:ext cx="9720" cy="180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6396120" y="51228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6396120" y="51228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6396120" y="51228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 flipV="1">
              <a:off x="6396120" y="511344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6396120" y="5113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6396120" y="5113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6396120" y="5113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6396120" y="5113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6396120" y="5113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6396120" y="5113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 flipV="1">
              <a:off x="6396120" y="510336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6396120" y="5103720"/>
              <a:ext cx="93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6405480" y="51037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6405480" y="51037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6405480" y="51037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6405480" y="51037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6405480" y="51037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8" name=""/>
            <p:cNvSpPr/>
            <p:nvPr/>
          </p:nvSpPr>
          <p:spPr>
            <a:xfrm flipV="1">
              <a:off x="6405480" y="509436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6405480" y="50943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6405480" y="50943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6405480" y="50943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6405480" y="50943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6405480" y="50943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6405480" y="5094360"/>
              <a:ext cx="129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6418440" y="5094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6" name=""/>
            <p:cNvSpPr/>
            <p:nvPr/>
          </p:nvSpPr>
          <p:spPr>
            <a:xfrm flipV="1">
              <a:off x="6418440" y="508284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6418440" y="5083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6418440" y="5083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6418440" y="5083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6418440" y="5083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6418440" y="5083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6418440" y="5083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3" name=""/>
            <p:cNvSpPr/>
            <p:nvPr/>
          </p:nvSpPr>
          <p:spPr>
            <a:xfrm flipV="1">
              <a:off x="6418440" y="507312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6418440" y="50734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6418440" y="50734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6418440" y="5073480"/>
              <a:ext cx="7920" cy="180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6426360" y="50734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6426360" y="50734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6426360" y="50734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0" name=""/>
            <p:cNvSpPr/>
            <p:nvPr/>
          </p:nvSpPr>
          <p:spPr>
            <a:xfrm flipV="1">
              <a:off x="6426360" y="506412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6426360" y="5064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6426360" y="5064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6426360" y="5064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6426360" y="5064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6426360" y="5064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6426360" y="5064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6426360" y="5054760"/>
              <a:ext cx="10800" cy="9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6437160" y="5054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6437160" y="5054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6437160" y="5054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6437160" y="5054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6437160" y="5054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6437160" y="5054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4" name=""/>
            <p:cNvSpPr/>
            <p:nvPr/>
          </p:nvSpPr>
          <p:spPr>
            <a:xfrm flipV="1">
              <a:off x="6437160" y="5043240"/>
              <a:ext cx="18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6437160" y="5043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6437160" y="5043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6437160" y="5043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6437160" y="5043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6437160" y="5043600"/>
              <a:ext cx="972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6446880" y="50436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6446880" y="50436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2" name=""/>
            <p:cNvSpPr/>
            <p:nvPr/>
          </p:nvSpPr>
          <p:spPr>
            <a:xfrm flipV="1">
              <a:off x="6446880" y="503208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6446880" y="5032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6446880" y="5032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6446880" y="5032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6446880" y="5032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6446880" y="5032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6446880" y="5032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9" name=""/>
            <p:cNvSpPr/>
            <p:nvPr/>
          </p:nvSpPr>
          <p:spPr>
            <a:xfrm flipV="1">
              <a:off x="6446880" y="502236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6446880" y="5022720"/>
              <a:ext cx="936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6456240" y="50227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6456240" y="50227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6456240" y="50227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6456240" y="50227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6456240" y="50227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6" name=""/>
            <p:cNvSpPr/>
            <p:nvPr/>
          </p:nvSpPr>
          <p:spPr>
            <a:xfrm flipV="1">
              <a:off x="6456240" y="5011200"/>
              <a:ext cx="18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6456240" y="50115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6456240" y="50115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6456240" y="50115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6456240" y="501156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6467400" y="50115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6467400" y="50115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3" name=""/>
            <p:cNvSpPr/>
            <p:nvPr/>
          </p:nvSpPr>
          <p:spPr>
            <a:xfrm flipV="1">
              <a:off x="6467400" y="500220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6467400" y="50022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6467400" y="50022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6467400" y="50022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6467400" y="50022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6467400" y="50022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6467400" y="50022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6467400" y="50022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6467400" y="4992840"/>
              <a:ext cx="9720" cy="9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6477120" y="49928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3" name=""/>
            <p:cNvSpPr/>
            <p:nvPr/>
          </p:nvSpPr>
          <p:spPr>
            <a:xfrm>
              <a:off x="6477120" y="49928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4" name=""/>
            <p:cNvSpPr/>
            <p:nvPr/>
          </p:nvSpPr>
          <p:spPr>
            <a:xfrm>
              <a:off x="6477120" y="49928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6477120" y="49928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6303960" y="5264280"/>
              <a:ext cx="111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6315120" y="5264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8" name=""/>
            <p:cNvSpPr/>
            <p:nvPr/>
          </p:nvSpPr>
          <p:spPr>
            <a:xfrm>
              <a:off x="6315120" y="5264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9" name=""/>
            <p:cNvSpPr/>
            <p:nvPr/>
          </p:nvSpPr>
          <p:spPr>
            <a:xfrm>
              <a:off x="6315120" y="5264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0" name=""/>
            <p:cNvSpPr/>
            <p:nvPr/>
          </p:nvSpPr>
          <p:spPr>
            <a:xfrm>
              <a:off x="6315120" y="5264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6315120" y="5264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2" name=""/>
            <p:cNvSpPr/>
            <p:nvPr/>
          </p:nvSpPr>
          <p:spPr>
            <a:xfrm>
              <a:off x="6315120" y="5264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3" name=""/>
            <p:cNvSpPr/>
            <p:nvPr/>
          </p:nvSpPr>
          <p:spPr>
            <a:xfrm flipV="1">
              <a:off x="6315120" y="525276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4" name=""/>
            <p:cNvSpPr/>
            <p:nvPr/>
          </p:nvSpPr>
          <p:spPr>
            <a:xfrm>
              <a:off x="6315120" y="5253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6315120" y="5253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6315120" y="5253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6315120" y="5253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6315120" y="5253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6315120" y="5253120"/>
              <a:ext cx="93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0" name=""/>
            <p:cNvSpPr/>
            <p:nvPr/>
          </p:nvSpPr>
          <p:spPr>
            <a:xfrm flipV="1">
              <a:off x="6324480" y="524304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6324480" y="52434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6324480" y="52434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6324480" y="52434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6324480" y="52434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6324480" y="52434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6" name=""/>
            <p:cNvSpPr/>
            <p:nvPr/>
          </p:nvSpPr>
          <p:spPr>
            <a:xfrm>
              <a:off x="6324480" y="52434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7" name=""/>
            <p:cNvSpPr/>
            <p:nvPr/>
          </p:nvSpPr>
          <p:spPr>
            <a:xfrm flipV="1">
              <a:off x="6324480" y="523404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8" name=""/>
            <p:cNvSpPr/>
            <p:nvPr/>
          </p:nvSpPr>
          <p:spPr>
            <a:xfrm>
              <a:off x="6324480" y="5234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6324480" y="5234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6324480" y="5234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6324480" y="5234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2" name=""/>
            <p:cNvSpPr/>
            <p:nvPr/>
          </p:nvSpPr>
          <p:spPr>
            <a:xfrm>
              <a:off x="6324480" y="5234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6324480" y="5234040"/>
              <a:ext cx="9720" cy="144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4" name=""/>
            <p:cNvSpPr/>
            <p:nvPr/>
          </p:nvSpPr>
          <p:spPr>
            <a:xfrm flipV="1">
              <a:off x="6334200" y="522396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6334200" y="5224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6334200" y="5224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6334200" y="5224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6334200" y="5224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6334200" y="5224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0" name=""/>
            <p:cNvSpPr/>
            <p:nvPr/>
          </p:nvSpPr>
          <p:spPr>
            <a:xfrm>
              <a:off x="6334200" y="5224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1" name=""/>
            <p:cNvSpPr/>
            <p:nvPr/>
          </p:nvSpPr>
          <p:spPr>
            <a:xfrm>
              <a:off x="6334200" y="5224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2" name=""/>
            <p:cNvSpPr/>
            <p:nvPr/>
          </p:nvSpPr>
          <p:spPr>
            <a:xfrm flipV="1">
              <a:off x="6334200" y="521496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3" name=""/>
            <p:cNvSpPr/>
            <p:nvPr/>
          </p:nvSpPr>
          <p:spPr>
            <a:xfrm>
              <a:off x="6334200" y="5214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6334200" y="5214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6334200" y="5214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6334200" y="5214960"/>
              <a:ext cx="93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7" name=""/>
            <p:cNvSpPr/>
            <p:nvPr/>
          </p:nvSpPr>
          <p:spPr>
            <a:xfrm>
              <a:off x="6343560" y="52149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6343560" y="52149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 flipV="1">
              <a:off x="6343560" y="5203440"/>
              <a:ext cx="18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6343560" y="5203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6343560" y="5203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6343560" y="5203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6343560" y="5203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6343560" y="5203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6343560" y="5203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 flipV="1">
              <a:off x="6343560" y="519444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6343560" y="51944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6343560" y="51944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6343560" y="5194440"/>
              <a:ext cx="129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6356520" y="5194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6356520" y="5194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6356520" y="5194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 flipV="1">
              <a:off x="6356520" y="518436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6356520" y="51847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6356520" y="51847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6356520" y="51847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6356520" y="51847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6356520" y="51847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6356520" y="51847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 flipV="1">
              <a:off x="6356520" y="517536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6356520" y="5175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6356520" y="5175360"/>
              <a:ext cx="9360" cy="144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6365880" y="5175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6365880" y="5175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6365880" y="5175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6365880" y="5175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6365880" y="5175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 flipV="1">
              <a:off x="6365880" y="516384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6365880" y="5164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6365880" y="5164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6365880" y="5164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6365880" y="5164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6365880" y="5164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6365880" y="5164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6365880" y="5153040"/>
              <a:ext cx="9360" cy="111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6375240" y="5153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6375240" y="5153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6375240" y="5153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6375240" y="5153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6375240" y="5153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6375240" y="5153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 flipV="1">
              <a:off x="6375240" y="514368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6375240" y="51436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6375240" y="51436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6375240" y="51436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6375240" y="51436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6375240" y="51436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6375240" y="5143680"/>
              <a:ext cx="11160" cy="144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 flipV="1">
              <a:off x="6386400" y="5132160"/>
              <a:ext cx="18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6386400" y="51325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6386400" y="51325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6386400" y="51325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6386400" y="51325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6386400" y="51325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6386400" y="51325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6386400" y="51325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 flipV="1">
              <a:off x="6386400" y="512244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6386400" y="51228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6386400" y="51228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6386400" y="5122800"/>
              <a:ext cx="9720" cy="180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6396120" y="51228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6396120" y="51228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6396120" y="51228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 flipV="1">
              <a:off x="6396120" y="511344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6396120" y="5113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6396120" y="5113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6396120" y="5113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6396120" y="5113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6396120" y="5113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6396120" y="5113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1" name=""/>
            <p:cNvSpPr/>
            <p:nvPr/>
          </p:nvSpPr>
          <p:spPr>
            <a:xfrm flipV="1">
              <a:off x="6396120" y="510336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6396120" y="5103720"/>
              <a:ext cx="93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6405480" y="51037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6405480" y="51037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6405480" y="51037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6405480" y="51037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6405480" y="51037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8" name=""/>
            <p:cNvSpPr/>
            <p:nvPr/>
          </p:nvSpPr>
          <p:spPr>
            <a:xfrm flipV="1">
              <a:off x="6405480" y="509436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6405480" y="50943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6405480" y="50943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6405480" y="50943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6405480" y="50943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6405480" y="50943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6405480" y="5094360"/>
              <a:ext cx="129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6418440" y="5094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 flipV="1">
              <a:off x="6418440" y="508284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6418440" y="5083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6418440" y="5083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6418440" y="5083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6418440" y="5083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6418440" y="5083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6418440" y="5083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3" name=""/>
            <p:cNvSpPr/>
            <p:nvPr/>
          </p:nvSpPr>
          <p:spPr>
            <a:xfrm flipV="1">
              <a:off x="6418440" y="507312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6418440" y="50734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6418440" y="50734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6418440" y="5073480"/>
              <a:ext cx="7920" cy="180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6426360" y="50734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6426360" y="50734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6426360" y="50734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 flipV="1">
              <a:off x="6426360" y="506412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6426360" y="5064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6426360" y="5064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6426360" y="5064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6426360" y="5064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6426360" y="5064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6426360" y="5064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7" name=""/>
            <p:cNvSpPr/>
            <p:nvPr/>
          </p:nvSpPr>
          <p:spPr>
            <a:xfrm>
              <a:off x="6426360" y="5054760"/>
              <a:ext cx="10800" cy="9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6437160" y="5054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6437160" y="5054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6437160" y="5054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6437160" y="5054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6437160" y="5054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3" name=""/>
            <p:cNvSpPr/>
            <p:nvPr/>
          </p:nvSpPr>
          <p:spPr>
            <a:xfrm>
              <a:off x="6437160" y="5054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4" name=""/>
            <p:cNvSpPr/>
            <p:nvPr/>
          </p:nvSpPr>
          <p:spPr>
            <a:xfrm flipV="1">
              <a:off x="6437160" y="5043240"/>
              <a:ext cx="18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6437160" y="5043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6437160" y="5043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6437160" y="5043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6437160" y="5043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9" name=""/>
            <p:cNvSpPr/>
            <p:nvPr/>
          </p:nvSpPr>
          <p:spPr>
            <a:xfrm>
              <a:off x="6437160" y="5043600"/>
              <a:ext cx="972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0" name=""/>
            <p:cNvSpPr/>
            <p:nvPr/>
          </p:nvSpPr>
          <p:spPr>
            <a:xfrm>
              <a:off x="6446880" y="50436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6446880" y="50436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2" name=""/>
            <p:cNvSpPr/>
            <p:nvPr/>
          </p:nvSpPr>
          <p:spPr>
            <a:xfrm flipV="1">
              <a:off x="6446880" y="503208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3" name=""/>
            <p:cNvSpPr/>
            <p:nvPr/>
          </p:nvSpPr>
          <p:spPr>
            <a:xfrm>
              <a:off x="6446880" y="5032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6446880" y="5032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5" name=""/>
            <p:cNvSpPr/>
            <p:nvPr/>
          </p:nvSpPr>
          <p:spPr>
            <a:xfrm>
              <a:off x="6446880" y="5032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6" name=""/>
            <p:cNvSpPr/>
            <p:nvPr/>
          </p:nvSpPr>
          <p:spPr>
            <a:xfrm>
              <a:off x="6446880" y="5032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7" name=""/>
            <p:cNvSpPr/>
            <p:nvPr/>
          </p:nvSpPr>
          <p:spPr>
            <a:xfrm>
              <a:off x="6446880" y="5032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8" name=""/>
            <p:cNvSpPr/>
            <p:nvPr/>
          </p:nvSpPr>
          <p:spPr>
            <a:xfrm>
              <a:off x="6446880" y="5032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9" name=""/>
            <p:cNvSpPr/>
            <p:nvPr/>
          </p:nvSpPr>
          <p:spPr>
            <a:xfrm flipV="1">
              <a:off x="6446880" y="502236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0" name=""/>
            <p:cNvSpPr/>
            <p:nvPr/>
          </p:nvSpPr>
          <p:spPr>
            <a:xfrm>
              <a:off x="6446880" y="5022720"/>
              <a:ext cx="936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1" name=""/>
            <p:cNvSpPr/>
            <p:nvPr/>
          </p:nvSpPr>
          <p:spPr>
            <a:xfrm>
              <a:off x="6456240" y="50227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2" name=""/>
            <p:cNvSpPr/>
            <p:nvPr/>
          </p:nvSpPr>
          <p:spPr>
            <a:xfrm>
              <a:off x="6456240" y="50227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6456240" y="50227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4" name=""/>
            <p:cNvSpPr/>
            <p:nvPr/>
          </p:nvSpPr>
          <p:spPr>
            <a:xfrm>
              <a:off x="6456240" y="50227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5" name=""/>
            <p:cNvSpPr/>
            <p:nvPr/>
          </p:nvSpPr>
          <p:spPr>
            <a:xfrm>
              <a:off x="6456240" y="50227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6" name=""/>
            <p:cNvSpPr/>
            <p:nvPr/>
          </p:nvSpPr>
          <p:spPr>
            <a:xfrm flipV="1">
              <a:off x="6456240" y="5011200"/>
              <a:ext cx="18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7" name=""/>
            <p:cNvSpPr/>
            <p:nvPr/>
          </p:nvSpPr>
          <p:spPr>
            <a:xfrm>
              <a:off x="6456240" y="50115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8" name=""/>
            <p:cNvSpPr/>
            <p:nvPr/>
          </p:nvSpPr>
          <p:spPr>
            <a:xfrm>
              <a:off x="6456240" y="50115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9" name=""/>
            <p:cNvSpPr/>
            <p:nvPr/>
          </p:nvSpPr>
          <p:spPr>
            <a:xfrm>
              <a:off x="6456240" y="50115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0" name=""/>
            <p:cNvSpPr/>
            <p:nvPr/>
          </p:nvSpPr>
          <p:spPr>
            <a:xfrm>
              <a:off x="6456240" y="501156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1" name=""/>
            <p:cNvSpPr/>
            <p:nvPr/>
          </p:nvSpPr>
          <p:spPr>
            <a:xfrm>
              <a:off x="6467400" y="50115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6467400" y="50115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3" name=""/>
            <p:cNvSpPr/>
            <p:nvPr/>
          </p:nvSpPr>
          <p:spPr>
            <a:xfrm flipV="1">
              <a:off x="6467400" y="500220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4" name=""/>
            <p:cNvSpPr/>
            <p:nvPr/>
          </p:nvSpPr>
          <p:spPr>
            <a:xfrm>
              <a:off x="6467400" y="50022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6467400" y="50022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6" name=""/>
            <p:cNvSpPr/>
            <p:nvPr/>
          </p:nvSpPr>
          <p:spPr>
            <a:xfrm>
              <a:off x="6467400" y="50022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6467400" y="50022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6467400" y="50022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6467400" y="50022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0" name=""/>
            <p:cNvSpPr/>
            <p:nvPr/>
          </p:nvSpPr>
          <p:spPr>
            <a:xfrm>
              <a:off x="6467400" y="50022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6467400" y="4992840"/>
              <a:ext cx="9720" cy="9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2" name=""/>
            <p:cNvSpPr/>
            <p:nvPr/>
          </p:nvSpPr>
          <p:spPr>
            <a:xfrm>
              <a:off x="6477120" y="49928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3" name=""/>
            <p:cNvSpPr/>
            <p:nvPr/>
          </p:nvSpPr>
          <p:spPr>
            <a:xfrm>
              <a:off x="6477120" y="49928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6477120" y="49928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6477120" y="49928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866880" y="1984320"/>
              <a:ext cx="428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4338720" y="1984320"/>
              <a:ext cx="428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866880" y="4299120"/>
              <a:ext cx="428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4334040" y="4299120"/>
              <a:ext cx="428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0" name=""/>
          <p:cNvSpPr/>
          <p:nvPr/>
        </p:nvSpPr>
        <p:spPr>
          <a:xfrm>
            <a:off x="0" y="3430440"/>
            <a:ext cx="4329000" cy="34275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1" name=""/>
          <p:cNvSpPr/>
          <p:nvPr/>
        </p:nvSpPr>
        <p:spPr>
          <a:xfrm>
            <a:off x="884160" y="3740040"/>
            <a:ext cx="3127320" cy="2279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2" name=""/>
          <p:cNvSpPr/>
          <p:nvPr/>
        </p:nvSpPr>
        <p:spPr>
          <a:xfrm>
            <a:off x="855720" y="6019920"/>
            <a:ext cx="28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3" name=""/>
          <p:cNvSpPr/>
          <p:nvPr/>
        </p:nvSpPr>
        <p:spPr>
          <a:xfrm>
            <a:off x="855720" y="5635800"/>
            <a:ext cx="28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4" name=""/>
          <p:cNvSpPr/>
          <p:nvPr/>
        </p:nvSpPr>
        <p:spPr>
          <a:xfrm>
            <a:off x="855720" y="5254560"/>
            <a:ext cx="28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5" name=""/>
          <p:cNvSpPr/>
          <p:nvPr/>
        </p:nvSpPr>
        <p:spPr>
          <a:xfrm>
            <a:off x="855720" y="4889520"/>
            <a:ext cx="28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6" name=""/>
          <p:cNvSpPr/>
          <p:nvPr/>
        </p:nvSpPr>
        <p:spPr>
          <a:xfrm>
            <a:off x="855720" y="4505400"/>
            <a:ext cx="28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7" name=""/>
          <p:cNvSpPr/>
          <p:nvPr/>
        </p:nvSpPr>
        <p:spPr>
          <a:xfrm>
            <a:off x="855720" y="4121280"/>
            <a:ext cx="2844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8" name=""/>
          <p:cNvSpPr/>
          <p:nvPr/>
        </p:nvSpPr>
        <p:spPr>
          <a:xfrm>
            <a:off x="855720" y="3740040"/>
            <a:ext cx="28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9" name=""/>
          <p:cNvSpPr/>
          <p:nvPr/>
        </p:nvSpPr>
        <p:spPr>
          <a:xfrm flipV="1">
            <a:off x="884160" y="6019560"/>
            <a:ext cx="18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0" name=""/>
          <p:cNvSpPr/>
          <p:nvPr/>
        </p:nvSpPr>
        <p:spPr>
          <a:xfrm flipV="1">
            <a:off x="1406520" y="601956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1" name=""/>
          <p:cNvSpPr/>
          <p:nvPr/>
        </p:nvSpPr>
        <p:spPr>
          <a:xfrm flipV="1">
            <a:off x="1925640" y="601956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2" name=""/>
          <p:cNvSpPr/>
          <p:nvPr/>
        </p:nvSpPr>
        <p:spPr>
          <a:xfrm flipV="1">
            <a:off x="2448000" y="601956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3" name=""/>
          <p:cNvSpPr/>
          <p:nvPr/>
        </p:nvSpPr>
        <p:spPr>
          <a:xfrm flipV="1">
            <a:off x="2968560" y="6019560"/>
            <a:ext cx="18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4" name=""/>
          <p:cNvSpPr/>
          <p:nvPr/>
        </p:nvSpPr>
        <p:spPr>
          <a:xfrm flipV="1">
            <a:off x="3489480" y="601956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5" name=""/>
          <p:cNvSpPr/>
          <p:nvPr/>
        </p:nvSpPr>
        <p:spPr>
          <a:xfrm flipV="1">
            <a:off x="4011480" y="6019560"/>
            <a:ext cx="18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6" name=""/>
          <p:cNvGrpSpPr/>
          <p:nvPr/>
        </p:nvGrpSpPr>
        <p:grpSpPr>
          <a:xfrm>
            <a:off x="1319040" y="3847680"/>
            <a:ext cx="2257560" cy="2153160"/>
            <a:chOff x="1319040" y="3847680"/>
            <a:chExt cx="2257560" cy="2153160"/>
          </a:xfrm>
        </p:grpSpPr>
        <p:sp>
          <p:nvSpPr>
            <p:cNvPr id="5697" name=""/>
            <p:cNvSpPr/>
            <p:nvPr/>
          </p:nvSpPr>
          <p:spPr>
            <a:xfrm flipV="1">
              <a:off x="1319040" y="5982840"/>
              <a:ext cx="716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8" name=""/>
            <p:cNvSpPr/>
            <p:nvPr/>
          </p:nvSpPr>
          <p:spPr>
            <a:xfrm flipV="1">
              <a:off x="1390680" y="5963760"/>
              <a:ext cx="572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9" name=""/>
            <p:cNvSpPr/>
            <p:nvPr/>
          </p:nvSpPr>
          <p:spPr>
            <a:xfrm flipV="1">
              <a:off x="1447920" y="5946840"/>
              <a:ext cx="2988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1477800" y="5946840"/>
              <a:ext cx="28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1" name=""/>
            <p:cNvSpPr/>
            <p:nvPr/>
          </p:nvSpPr>
          <p:spPr>
            <a:xfrm flipV="1">
              <a:off x="1506600" y="5927400"/>
              <a:ext cx="28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2" name=""/>
            <p:cNvSpPr/>
            <p:nvPr/>
          </p:nvSpPr>
          <p:spPr>
            <a:xfrm flipV="1">
              <a:off x="1535040" y="5909760"/>
              <a:ext cx="158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3" name=""/>
            <p:cNvSpPr/>
            <p:nvPr/>
          </p:nvSpPr>
          <p:spPr>
            <a:xfrm flipV="1">
              <a:off x="1550880" y="5892840"/>
              <a:ext cx="144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1565280" y="589284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5" name=""/>
            <p:cNvSpPr/>
            <p:nvPr/>
          </p:nvSpPr>
          <p:spPr>
            <a:xfrm flipV="1">
              <a:off x="1579680" y="5874840"/>
              <a:ext cx="126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6" name=""/>
            <p:cNvSpPr/>
            <p:nvPr/>
          </p:nvSpPr>
          <p:spPr>
            <a:xfrm flipV="1">
              <a:off x="1592280" y="5855760"/>
              <a:ext cx="158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1608120" y="585612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8" name=""/>
            <p:cNvSpPr/>
            <p:nvPr/>
          </p:nvSpPr>
          <p:spPr>
            <a:xfrm flipV="1">
              <a:off x="1622520" y="5837400"/>
              <a:ext cx="1404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9" name=""/>
            <p:cNvSpPr/>
            <p:nvPr/>
          </p:nvSpPr>
          <p:spPr>
            <a:xfrm flipV="1">
              <a:off x="1636560" y="5819400"/>
              <a:ext cx="162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1652760" y="5819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1" name=""/>
            <p:cNvSpPr/>
            <p:nvPr/>
          </p:nvSpPr>
          <p:spPr>
            <a:xfrm flipV="1">
              <a:off x="1652760" y="5800320"/>
              <a:ext cx="140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2" name=""/>
            <p:cNvSpPr/>
            <p:nvPr/>
          </p:nvSpPr>
          <p:spPr>
            <a:xfrm flipV="1">
              <a:off x="1666800" y="5783400"/>
              <a:ext cx="126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1679400" y="578340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4" name=""/>
            <p:cNvSpPr/>
            <p:nvPr/>
          </p:nvSpPr>
          <p:spPr>
            <a:xfrm flipV="1">
              <a:off x="1679400" y="5763960"/>
              <a:ext cx="144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1693800" y="57643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6" name=""/>
            <p:cNvSpPr/>
            <p:nvPr/>
          </p:nvSpPr>
          <p:spPr>
            <a:xfrm flipV="1">
              <a:off x="1693800" y="5746320"/>
              <a:ext cx="158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7" name=""/>
            <p:cNvSpPr/>
            <p:nvPr/>
          </p:nvSpPr>
          <p:spPr>
            <a:xfrm flipV="1">
              <a:off x="1709640" y="572724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1709640" y="572760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9" name=""/>
            <p:cNvSpPr/>
            <p:nvPr/>
          </p:nvSpPr>
          <p:spPr>
            <a:xfrm flipV="1">
              <a:off x="1724040" y="570816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1724040" y="5708520"/>
              <a:ext cx="14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1" name=""/>
            <p:cNvSpPr/>
            <p:nvPr/>
          </p:nvSpPr>
          <p:spPr>
            <a:xfrm flipV="1">
              <a:off x="1738440" y="569124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2" name=""/>
            <p:cNvSpPr/>
            <p:nvPr/>
          </p:nvSpPr>
          <p:spPr>
            <a:xfrm flipV="1">
              <a:off x="1738440" y="567180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1738440" y="5672160"/>
              <a:ext cx="140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4" name=""/>
            <p:cNvSpPr/>
            <p:nvPr/>
          </p:nvSpPr>
          <p:spPr>
            <a:xfrm flipV="1">
              <a:off x="1752480" y="5654160"/>
              <a:ext cx="18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1752480" y="565452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6" name=""/>
            <p:cNvSpPr/>
            <p:nvPr/>
          </p:nvSpPr>
          <p:spPr>
            <a:xfrm flipV="1">
              <a:off x="1766880" y="5635800"/>
              <a:ext cx="144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1766880" y="5635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8" name=""/>
            <p:cNvSpPr/>
            <p:nvPr/>
          </p:nvSpPr>
          <p:spPr>
            <a:xfrm flipV="1">
              <a:off x="1766880" y="5617800"/>
              <a:ext cx="144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9" name=""/>
            <p:cNvSpPr/>
            <p:nvPr/>
          </p:nvSpPr>
          <p:spPr>
            <a:xfrm>
              <a:off x="1781280" y="56181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0" name=""/>
            <p:cNvSpPr/>
            <p:nvPr/>
          </p:nvSpPr>
          <p:spPr>
            <a:xfrm flipV="1">
              <a:off x="1781280" y="559872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1" name=""/>
            <p:cNvSpPr/>
            <p:nvPr/>
          </p:nvSpPr>
          <p:spPr>
            <a:xfrm flipV="1">
              <a:off x="1781280" y="5583240"/>
              <a:ext cx="1404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1795320" y="55832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3" name=""/>
            <p:cNvSpPr/>
            <p:nvPr/>
          </p:nvSpPr>
          <p:spPr>
            <a:xfrm flipV="1">
              <a:off x="1795320" y="556380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1795320" y="556416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5" name=""/>
            <p:cNvSpPr/>
            <p:nvPr/>
          </p:nvSpPr>
          <p:spPr>
            <a:xfrm flipV="1">
              <a:off x="1811160" y="5546880"/>
              <a:ext cx="18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1811160" y="55468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7" name=""/>
            <p:cNvSpPr/>
            <p:nvPr/>
          </p:nvSpPr>
          <p:spPr>
            <a:xfrm flipV="1">
              <a:off x="1811160" y="552744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8" name=""/>
            <p:cNvSpPr/>
            <p:nvPr/>
          </p:nvSpPr>
          <p:spPr>
            <a:xfrm>
              <a:off x="1811160" y="552780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9" name=""/>
            <p:cNvSpPr/>
            <p:nvPr/>
          </p:nvSpPr>
          <p:spPr>
            <a:xfrm flipV="1">
              <a:off x="1825560" y="550836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1825560" y="550872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1" name=""/>
            <p:cNvSpPr/>
            <p:nvPr/>
          </p:nvSpPr>
          <p:spPr>
            <a:xfrm flipV="1">
              <a:off x="1825560" y="5490720"/>
              <a:ext cx="126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2" name=""/>
            <p:cNvSpPr/>
            <p:nvPr/>
          </p:nvSpPr>
          <p:spPr>
            <a:xfrm>
              <a:off x="1838160" y="549108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3" name=""/>
            <p:cNvSpPr/>
            <p:nvPr/>
          </p:nvSpPr>
          <p:spPr>
            <a:xfrm flipV="1">
              <a:off x="1838160" y="547164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4" name=""/>
            <p:cNvSpPr/>
            <p:nvPr/>
          </p:nvSpPr>
          <p:spPr>
            <a:xfrm>
              <a:off x="1838160" y="547200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5" name=""/>
            <p:cNvSpPr/>
            <p:nvPr/>
          </p:nvSpPr>
          <p:spPr>
            <a:xfrm flipV="1">
              <a:off x="1838160" y="5454720"/>
              <a:ext cx="162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6" name=""/>
            <p:cNvSpPr/>
            <p:nvPr/>
          </p:nvSpPr>
          <p:spPr>
            <a:xfrm>
              <a:off x="1854360" y="54547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7" name=""/>
            <p:cNvSpPr/>
            <p:nvPr/>
          </p:nvSpPr>
          <p:spPr>
            <a:xfrm flipV="1">
              <a:off x="1854360" y="543528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1854360" y="54356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9" name=""/>
            <p:cNvSpPr/>
            <p:nvPr/>
          </p:nvSpPr>
          <p:spPr>
            <a:xfrm flipV="1">
              <a:off x="1854360" y="541764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0" name=""/>
            <p:cNvSpPr/>
            <p:nvPr/>
          </p:nvSpPr>
          <p:spPr>
            <a:xfrm>
              <a:off x="1854360" y="5418000"/>
              <a:ext cx="1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1" name=""/>
            <p:cNvSpPr/>
            <p:nvPr/>
          </p:nvSpPr>
          <p:spPr>
            <a:xfrm flipV="1">
              <a:off x="1868400" y="539856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1868400" y="539892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3" name=""/>
            <p:cNvSpPr/>
            <p:nvPr/>
          </p:nvSpPr>
          <p:spPr>
            <a:xfrm flipV="1">
              <a:off x="1868400" y="5381640"/>
              <a:ext cx="18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1868400" y="538164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5" name=""/>
            <p:cNvSpPr/>
            <p:nvPr/>
          </p:nvSpPr>
          <p:spPr>
            <a:xfrm>
              <a:off x="1882800" y="53816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6" name=""/>
            <p:cNvSpPr/>
            <p:nvPr/>
          </p:nvSpPr>
          <p:spPr>
            <a:xfrm flipV="1">
              <a:off x="1882800" y="536220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1882800" y="53625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8" name=""/>
            <p:cNvSpPr/>
            <p:nvPr/>
          </p:nvSpPr>
          <p:spPr>
            <a:xfrm flipV="1">
              <a:off x="1882800" y="534312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1882800" y="5343480"/>
              <a:ext cx="14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0" name=""/>
            <p:cNvSpPr/>
            <p:nvPr/>
          </p:nvSpPr>
          <p:spPr>
            <a:xfrm flipV="1">
              <a:off x="1897200" y="532620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1897200" y="5326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2" name=""/>
            <p:cNvSpPr/>
            <p:nvPr/>
          </p:nvSpPr>
          <p:spPr>
            <a:xfrm flipV="1">
              <a:off x="1897200" y="530676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1897200" y="5307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4" name=""/>
            <p:cNvSpPr/>
            <p:nvPr/>
          </p:nvSpPr>
          <p:spPr>
            <a:xfrm flipV="1">
              <a:off x="1897200" y="5291280"/>
              <a:ext cx="1584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1913040" y="5291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1913040" y="5291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7" name=""/>
            <p:cNvSpPr/>
            <p:nvPr/>
          </p:nvSpPr>
          <p:spPr>
            <a:xfrm flipV="1">
              <a:off x="1913040" y="527184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1913040" y="527220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9" name=""/>
            <p:cNvSpPr/>
            <p:nvPr/>
          </p:nvSpPr>
          <p:spPr>
            <a:xfrm flipV="1">
              <a:off x="1913040" y="5254200"/>
              <a:ext cx="126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1925640" y="5254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1" name=""/>
            <p:cNvSpPr/>
            <p:nvPr/>
          </p:nvSpPr>
          <p:spPr>
            <a:xfrm flipV="1">
              <a:off x="1925640" y="523512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1925640" y="52354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1925640" y="52354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4" name=""/>
            <p:cNvSpPr/>
            <p:nvPr/>
          </p:nvSpPr>
          <p:spPr>
            <a:xfrm flipV="1">
              <a:off x="1925640" y="521820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1925640" y="521820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6" name=""/>
            <p:cNvSpPr/>
            <p:nvPr/>
          </p:nvSpPr>
          <p:spPr>
            <a:xfrm flipV="1">
              <a:off x="1940040" y="519876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1940040" y="5199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1940040" y="5199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9" name=""/>
            <p:cNvSpPr/>
            <p:nvPr/>
          </p:nvSpPr>
          <p:spPr>
            <a:xfrm flipV="1">
              <a:off x="1940040" y="518112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1940040" y="51814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1" name=""/>
            <p:cNvSpPr/>
            <p:nvPr/>
          </p:nvSpPr>
          <p:spPr>
            <a:xfrm flipV="1">
              <a:off x="1940040" y="5162040"/>
              <a:ext cx="158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1955880" y="516240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3" name=""/>
            <p:cNvSpPr/>
            <p:nvPr/>
          </p:nvSpPr>
          <p:spPr>
            <a:xfrm flipV="1">
              <a:off x="1955880" y="5143680"/>
              <a:ext cx="144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1955880" y="5143680"/>
              <a:ext cx="14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1955880" y="5143680"/>
              <a:ext cx="14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6" name=""/>
            <p:cNvSpPr/>
            <p:nvPr/>
          </p:nvSpPr>
          <p:spPr>
            <a:xfrm flipV="1">
              <a:off x="1955880" y="512568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1955880" y="5126040"/>
              <a:ext cx="1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8" name=""/>
            <p:cNvSpPr/>
            <p:nvPr/>
          </p:nvSpPr>
          <p:spPr>
            <a:xfrm flipV="1">
              <a:off x="1969920" y="510660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1969920" y="51069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1969920" y="51069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1" name=""/>
            <p:cNvSpPr/>
            <p:nvPr/>
          </p:nvSpPr>
          <p:spPr>
            <a:xfrm flipV="1">
              <a:off x="1969920" y="5089680"/>
              <a:ext cx="18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1969920" y="50896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1969920" y="50896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4" name=""/>
            <p:cNvSpPr/>
            <p:nvPr/>
          </p:nvSpPr>
          <p:spPr>
            <a:xfrm flipV="1">
              <a:off x="1969920" y="5070240"/>
              <a:ext cx="144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1984320" y="507060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6" name=""/>
            <p:cNvSpPr/>
            <p:nvPr/>
          </p:nvSpPr>
          <p:spPr>
            <a:xfrm flipV="1">
              <a:off x="1984320" y="5052600"/>
              <a:ext cx="18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1984320" y="50529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1984320" y="50529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9" name=""/>
            <p:cNvSpPr/>
            <p:nvPr/>
          </p:nvSpPr>
          <p:spPr>
            <a:xfrm flipV="1">
              <a:off x="1984320" y="503352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1984320" y="503388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1984320" y="5033880"/>
              <a:ext cx="15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2" name=""/>
            <p:cNvSpPr/>
            <p:nvPr/>
          </p:nvSpPr>
          <p:spPr>
            <a:xfrm flipV="1">
              <a:off x="2000160" y="501444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2000160" y="501480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4" name=""/>
            <p:cNvSpPr/>
            <p:nvPr/>
          </p:nvSpPr>
          <p:spPr>
            <a:xfrm flipV="1">
              <a:off x="2000160" y="4997520"/>
              <a:ext cx="18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2000160" y="49975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2000160" y="49975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7" name=""/>
            <p:cNvSpPr/>
            <p:nvPr/>
          </p:nvSpPr>
          <p:spPr>
            <a:xfrm flipV="1">
              <a:off x="2000160" y="4981680"/>
              <a:ext cx="180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2000160" y="49816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2000160" y="4981680"/>
              <a:ext cx="12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0" name=""/>
            <p:cNvSpPr/>
            <p:nvPr/>
          </p:nvSpPr>
          <p:spPr>
            <a:xfrm flipV="1">
              <a:off x="2013120" y="496224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2013120" y="49626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2013120" y="49626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3" name=""/>
            <p:cNvSpPr/>
            <p:nvPr/>
          </p:nvSpPr>
          <p:spPr>
            <a:xfrm flipV="1">
              <a:off x="2013120" y="494316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2013120" y="494352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5" name=""/>
            <p:cNvSpPr/>
            <p:nvPr/>
          </p:nvSpPr>
          <p:spPr>
            <a:xfrm flipV="1">
              <a:off x="2013120" y="492552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2013120" y="4925880"/>
              <a:ext cx="1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2027160" y="492588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8" name=""/>
            <p:cNvSpPr/>
            <p:nvPr/>
          </p:nvSpPr>
          <p:spPr>
            <a:xfrm flipV="1">
              <a:off x="2027160" y="490644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2027160" y="49068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2027160" y="49068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1" name=""/>
            <p:cNvSpPr/>
            <p:nvPr/>
          </p:nvSpPr>
          <p:spPr>
            <a:xfrm flipV="1">
              <a:off x="2027160" y="4889520"/>
              <a:ext cx="18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2027160" y="48895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2027160" y="48895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4" name=""/>
            <p:cNvSpPr/>
            <p:nvPr/>
          </p:nvSpPr>
          <p:spPr>
            <a:xfrm flipV="1">
              <a:off x="2027160" y="487008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2027160" y="487044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2041560" y="48704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7" name=""/>
            <p:cNvSpPr/>
            <p:nvPr/>
          </p:nvSpPr>
          <p:spPr>
            <a:xfrm flipV="1">
              <a:off x="2041560" y="485316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2041560" y="48531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2041560" y="48531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0" name=""/>
            <p:cNvSpPr/>
            <p:nvPr/>
          </p:nvSpPr>
          <p:spPr>
            <a:xfrm flipV="1">
              <a:off x="2041560" y="483372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2041560" y="48340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2041560" y="48340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3" name=""/>
            <p:cNvSpPr/>
            <p:nvPr/>
          </p:nvSpPr>
          <p:spPr>
            <a:xfrm flipV="1">
              <a:off x="2041560" y="4814640"/>
              <a:ext cx="158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2057400" y="481500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2057400" y="481500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6" name=""/>
            <p:cNvSpPr/>
            <p:nvPr/>
          </p:nvSpPr>
          <p:spPr>
            <a:xfrm flipV="1">
              <a:off x="2057400" y="479700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2057400" y="47973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2057400" y="47973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9" name=""/>
            <p:cNvSpPr/>
            <p:nvPr/>
          </p:nvSpPr>
          <p:spPr>
            <a:xfrm flipV="1">
              <a:off x="2057400" y="477792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0" name=""/>
            <p:cNvSpPr/>
            <p:nvPr/>
          </p:nvSpPr>
          <p:spPr>
            <a:xfrm>
              <a:off x="2057400" y="477828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2057400" y="477828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2" name=""/>
            <p:cNvSpPr/>
            <p:nvPr/>
          </p:nvSpPr>
          <p:spPr>
            <a:xfrm>
              <a:off x="2057400" y="4778280"/>
              <a:ext cx="14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3" name=""/>
            <p:cNvSpPr/>
            <p:nvPr/>
          </p:nvSpPr>
          <p:spPr>
            <a:xfrm flipV="1">
              <a:off x="2071800" y="476100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4" name=""/>
            <p:cNvSpPr/>
            <p:nvPr/>
          </p:nvSpPr>
          <p:spPr>
            <a:xfrm>
              <a:off x="2071800" y="47610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5" name=""/>
            <p:cNvSpPr/>
            <p:nvPr/>
          </p:nvSpPr>
          <p:spPr>
            <a:xfrm>
              <a:off x="2071800" y="47610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6" name=""/>
            <p:cNvSpPr/>
            <p:nvPr/>
          </p:nvSpPr>
          <p:spPr>
            <a:xfrm flipV="1">
              <a:off x="2071800" y="474156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7" name=""/>
            <p:cNvSpPr/>
            <p:nvPr/>
          </p:nvSpPr>
          <p:spPr>
            <a:xfrm>
              <a:off x="2071800" y="47419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8" name=""/>
            <p:cNvSpPr/>
            <p:nvPr/>
          </p:nvSpPr>
          <p:spPr>
            <a:xfrm>
              <a:off x="2071800" y="47419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9" name=""/>
            <p:cNvSpPr/>
            <p:nvPr/>
          </p:nvSpPr>
          <p:spPr>
            <a:xfrm flipV="1">
              <a:off x="2071800" y="472392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0" name=""/>
            <p:cNvSpPr/>
            <p:nvPr/>
          </p:nvSpPr>
          <p:spPr>
            <a:xfrm>
              <a:off x="2071800" y="47242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1" name=""/>
            <p:cNvSpPr/>
            <p:nvPr/>
          </p:nvSpPr>
          <p:spPr>
            <a:xfrm>
              <a:off x="2071800" y="4724280"/>
              <a:ext cx="1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2" name=""/>
            <p:cNvSpPr/>
            <p:nvPr/>
          </p:nvSpPr>
          <p:spPr>
            <a:xfrm flipV="1">
              <a:off x="2085840" y="470484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3" name=""/>
            <p:cNvSpPr/>
            <p:nvPr/>
          </p:nvSpPr>
          <p:spPr>
            <a:xfrm>
              <a:off x="2085840" y="47052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4" name=""/>
            <p:cNvSpPr/>
            <p:nvPr/>
          </p:nvSpPr>
          <p:spPr>
            <a:xfrm>
              <a:off x="2085840" y="47052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2085840" y="47052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6" name=""/>
            <p:cNvSpPr/>
            <p:nvPr/>
          </p:nvSpPr>
          <p:spPr>
            <a:xfrm flipV="1">
              <a:off x="2085840" y="4689360"/>
              <a:ext cx="180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7" name=""/>
            <p:cNvSpPr/>
            <p:nvPr/>
          </p:nvSpPr>
          <p:spPr>
            <a:xfrm>
              <a:off x="2085840" y="46893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2085840" y="46893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9" name=""/>
            <p:cNvSpPr/>
            <p:nvPr/>
          </p:nvSpPr>
          <p:spPr>
            <a:xfrm flipV="1">
              <a:off x="2085840" y="466992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2085840" y="467028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2085840" y="467028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2" name=""/>
            <p:cNvSpPr/>
            <p:nvPr/>
          </p:nvSpPr>
          <p:spPr>
            <a:xfrm>
              <a:off x="2100240" y="46702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3" name=""/>
            <p:cNvSpPr/>
            <p:nvPr/>
          </p:nvSpPr>
          <p:spPr>
            <a:xfrm flipV="1">
              <a:off x="2100240" y="465300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2100240" y="46530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5" name=""/>
            <p:cNvSpPr/>
            <p:nvPr/>
          </p:nvSpPr>
          <p:spPr>
            <a:xfrm>
              <a:off x="2100240" y="46530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6" name=""/>
            <p:cNvSpPr/>
            <p:nvPr/>
          </p:nvSpPr>
          <p:spPr>
            <a:xfrm flipV="1">
              <a:off x="2100240" y="463356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2100240" y="46339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2100240" y="46339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2100240" y="46339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0" name=""/>
            <p:cNvSpPr/>
            <p:nvPr/>
          </p:nvSpPr>
          <p:spPr>
            <a:xfrm flipV="1">
              <a:off x="2100240" y="461448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1" name=""/>
            <p:cNvSpPr/>
            <p:nvPr/>
          </p:nvSpPr>
          <p:spPr>
            <a:xfrm>
              <a:off x="2100240" y="4614840"/>
              <a:ext cx="14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2114640" y="461484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3" name=""/>
            <p:cNvSpPr/>
            <p:nvPr/>
          </p:nvSpPr>
          <p:spPr>
            <a:xfrm flipV="1">
              <a:off x="2114640" y="459756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2114640" y="45975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2114640" y="45975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2114640" y="45975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7" name=""/>
            <p:cNvSpPr/>
            <p:nvPr/>
          </p:nvSpPr>
          <p:spPr>
            <a:xfrm flipV="1">
              <a:off x="2114640" y="457812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2114640" y="45784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2114640" y="45784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2114640" y="45784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1" name=""/>
            <p:cNvSpPr/>
            <p:nvPr/>
          </p:nvSpPr>
          <p:spPr>
            <a:xfrm flipV="1">
              <a:off x="2114640" y="4559040"/>
              <a:ext cx="140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2128680" y="455940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3" name=""/>
            <p:cNvSpPr/>
            <p:nvPr/>
          </p:nvSpPr>
          <p:spPr>
            <a:xfrm>
              <a:off x="2128680" y="455940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4" name=""/>
            <p:cNvSpPr/>
            <p:nvPr/>
          </p:nvSpPr>
          <p:spPr>
            <a:xfrm flipV="1">
              <a:off x="2128680" y="4541400"/>
              <a:ext cx="18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2128680" y="45417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2128680" y="45417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2128680" y="45417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8" name=""/>
            <p:cNvSpPr/>
            <p:nvPr/>
          </p:nvSpPr>
          <p:spPr>
            <a:xfrm flipV="1">
              <a:off x="2128680" y="452232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9" name=""/>
            <p:cNvSpPr/>
            <p:nvPr/>
          </p:nvSpPr>
          <p:spPr>
            <a:xfrm>
              <a:off x="2128680" y="452268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0" name=""/>
            <p:cNvSpPr/>
            <p:nvPr/>
          </p:nvSpPr>
          <p:spPr>
            <a:xfrm>
              <a:off x="2128680" y="452268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2128680" y="452268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2" name=""/>
            <p:cNvSpPr/>
            <p:nvPr/>
          </p:nvSpPr>
          <p:spPr>
            <a:xfrm flipV="1">
              <a:off x="2128680" y="4505400"/>
              <a:ext cx="144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2143080" y="450540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2143080" y="450540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2143080" y="450540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6" name=""/>
            <p:cNvSpPr/>
            <p:nvPr/>
          </p:nvSpPr>
          <p:spPr>
            <a:xfrm flipV="1">
              <a:off x="2143080" y="448596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2143080" y="44863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2143080" y="44863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2143080" y="44863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0" name=""/>
            <p:cNvSpPr/>
            <p:nvPr/>
          </p:nvSpPr>
          <p:spPr>
            <a:xfrm flipV="1">
              <a:off x="2143080" y="4468320"/>
              <a:ext cx="18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2143080" y="446868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2143080" y="446868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2143080" y="4468680"/>
              <a:ext cx="15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4" name=""/>
            <p:cNvSpPr/>
            <p:nvPr/>
          </p:nvSpPr>
          <p:spPr>
            <a:xfrm flipV="1">
              <a:off x="2158920" y="444924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2158920" y="44496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2158920" y="44496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2158920" y="44496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2158920" y="44496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9" name=""/>
            <p:cNvSpPr/>
            <p:nvPr/>
          </p:nvSpPr>
          <p:spPr>
            <a:xfrm flipV="1">
              <a:off x="2158920" y="4430880"/>
              <a:ext cx="180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2158920" y="4430880"/>
              <a:ext cx="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2158920" y="4430880"/>
              <a:ext cx="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2158920" y="4430880"/>
              <a:ext cx="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3" name=""/>
            <p:cNvSpPr/>
            <p:nvPr/>
          </p:nvSpPr>
          <p:spPr>
            <a:xfrm flipV="1">
              <a:off x="2158920" y="4412880"/>
              <a:ext cx="18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2158920" y="44132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2158920" y="4413240"/>
              <a:ext cx="12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2171880" y="44132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7" name=""/>
            <p:cNvSpPr/>
            <p:nvPr/>
          </p:nvSpPr>
          <p:spPr>
            <a:xfrm flipV="1">
              <a:off x="2171880" y="439380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2171880" y="439416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2171880" y="439416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2171880" y="439416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2171880" y="439416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2" name=""/>
            <p:cNvSpPr/>
            <p:nvPr/>
          </p:nvSpPr>
          <p:spPr>
            <a:xfrm flipV="1">
              <a:off x="2171880" y="4378320"/>
              <a:ext cx="144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3" name=""/>
            <p:cNvSpPr/>
            <p:nvPr/>
          </p:nvSpPr>
          <p:spPr>
            <a:xfrm>
              <a:off x="2171880" y="43783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2171880" y="43783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5" name=""/>
            <p:cNvSpPr/>
            <p:nvPr/>
          </p:nvSpPr>
          <p:spPr>
            <a:xfrm>
              <a:off x="2171880" y="43783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6" name=""/>
            <p:cNvSpPr/>
            <p:nvPr/>
          </p:nvSpPr>
          <p:spPr>
            <a:xfrm flipV="1">
              <a:off x="2171880" y="435888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2171880" y="4359240"/>
              <a:ext cx="140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2185920" y="43592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2185920" y="43592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2185920" y="43592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1" name=""/>
            <p:cNvSpPr/>
            <p:nvPr/>
          </p:nvSpPr>
          <p:spPr>
            <a:xfrm flipV="1">
              <a:off x="2185920" y="4341960"/>
              <a:ext cx="18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2185920" y="43419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2185920" y="43419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2185920" y="43419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5" name=""/>
            <p:cNvSpPr/>
            <p:nvPr/>
          </p:nvSpPr>
          <p:spPr>
            <a:xfrm flipV="1">
              <a:off x="2185920" y="432252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2185920" y="43228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2185920" y="43228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2185920" y="43228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2185920" y="432288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0" name=""/>
            <p:cNvSpPr/>
            <p:nvPr/>
          </p:nvSpPr>
          <p:spPr>
            <a:xfrm flipV="1">
              <a:off x="2201760" y="4304880"/>
              <a:ext cx="18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1" name=""/>
            <p:cNvSpPr/>
            <p:nvPr/>
          </p:nvSpPr>
          <p:spPr>
            <a:xfrm>
              <a:off x="2201760" y="43052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2201760" y="43052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3" name=""/>
            <p:cNvSpPr/>
            <p:nvPr/>
          </p:nvSpPr>
          <p:spPr>
            <a:xfrm>
              <a:off x="2201760" y="43052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2201760" y="43052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5" name=""/>
            <p:cNvSpPr/>
            <p:nvPr/>
          </p:nvSpPr>
          <p:spPr>
            <a:xfrm flipV="1">
              <a:off x="2201760" y="428580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2201760" y="42861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7" name=""/>
            <p:cNvSpPr/>
            <p:nvPr/>
          </p:nvSpPr>
          <p:spPr>
            <a:xfrm>
              <a:off x="2201760" y="42861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2201760" y="42861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9" name=""/>
            <p:cNvSpPr/>
            <p:nvPr/>
          </p:nvSpPr>
          <p:spPr>
            <a:xfrm>
              <a:off x="2201760" y="42861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0" name=""/>
            <p:cNvSpPr/>
            <p:nvPr/>
          </p:nvSpPr>
          <p:spPr>
            <a:xfrm flipV="1">
              <a:off x="2201760" y="4268880"/>
              <a:ext cx="18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2201760" y="42688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2201760" y="426888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2216160" y="42688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2216160" y="42688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5" name=""/>
            <p:cNvSpPr/>
            <p:nvPr/>
          </p:nvSpPr>
          <p:spPr>
            <a:xfrm flipV="1">
              <a:off x="2216160" y="424944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2216160" y="4249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2216160" y="4249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2216160" y="4249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2216160" y="4249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0" name=""/>
            <p:cNvSpPr/>
            <p:nvPr/>
          </p:nvSpPr>
          <p:spPr>
            <a:xfrm>
              <a:off x="2216160" y="4249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1" name=""/>
            <p:cNvSpPr/>
            <p:nvPr/>
          </p:nvSpPr>
          <p:spPr>
            <a:xfrm flipV="1">
              <a:off x="2216160" y="423180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2" name=""/>
            <p:cNvSpPr/>
            <p:nvPr/>
          </p:nvSpPr>
          <p:spPr>
            <a:xfrm>
              <a:off x="2216160" y="42321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2216160" y="42321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4" name=""/>
            <p:cNvSpPr/>
            <p:nvPr/>
          </p:nvSpPr>
          <p:spPr>
            <a:xfrm>
              <a:off x="2216160" y="42321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2216160" y="423216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6" name=""/>
            <p:cNvSpPr/>
            <p:nvPr/>
          </p:nvSpPr>
          <p:spPr>
            <a:xfrm flipV="1">
              <a:off x="2230560" y="421272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2230560" y="42130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8" name=""/>
            <p:cNvSpPr/>
            <p:nvPr/>
          </p:nvSpPr>
          <p:spPr>
            <a:xfrm>
              <a:off x="2230560" y="42130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2230560" y="42130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2230560" y="42130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2230560" y="42130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2" name=""/>
            <p:cNvSpPr/>
            <p:nvPr/>
          </p:nvSpPr>
          <p:spPr>
            <a:xfrm flipV="1">
              <a:off x="2230560" y="419580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2230560" y="4195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2230560" y="4195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2230560" y="4195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2230560" y="4195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7" name=""/>
            <p:cNvSpPr/>
            <p:nvPr/>
          </p:nvSpPr>
          <p:spPr>
            <a:xfrm flipV="1">
              <a:off x="2230560" y="417636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2230560" y="4176720"/>
              <a:ext cx="1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2244600" y="41767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2244600" y="41767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2244600" y="41767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2244600" y="41767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 flipV="1">
              <a:off x="2244600" y="415728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2244600" y="41576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2244600" y="41576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2244600" y="41576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2244600" y="41576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2244600" y="41576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 flipV="1">
              <a:off x="2244600" y="4140360"/>
              <a:ext cx="18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2244600" y="41403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2244600" y="41403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2244600" y="414036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2260440" y="41403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2260440" y="41403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2260440" y="41403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 flipV="1">
              <a:off x="2260440" y="412092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2260440" y="41212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2260440" y="41212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2260440" y="41212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2260440" y="41212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2260440" y="41212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 flipV="1">
              <a:off x="2260440" y="4103280"/>
              <a:ext cx="18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2260440" y="4103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2260440" y="4103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2260440" y="410364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2274840" y="4103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2274840" y="4103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2274840" y="4103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9" name=""/>
            <p:cNvSpPr/>
            <p:nvPr/>
          </p:nvSpPr>
          <p:spPr>
            <a:xfrm flipV="1">
              <a:off x="2274840" y="4086360"/>
              <a:ext cx="18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2274840" y="4086360"/>
              <a:ext cx="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2274840" y="4086360"/>
              <a:ext cx="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2274840" y="4086360"/>
              <a:ext cx="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2274840" y="4086360"/>
              <a:ext cx="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2274840" y="4086360"/>
              <a:ext cx="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2274840" y="4086360"/>
              <a:ext cx="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 flipV="1">
              <a:off x="2274840" y="4068360"/>
              <a:ext cx="18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2274840" y="406872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2274840" y="406872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2274840" y="406872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2274840" y="406872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2287440" y="406872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2287440" y="406872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 flipV="1">
              <a:off x="2287440" y="404928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2287440" y="4049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2287440" y="4049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6" name=""/>
            <p:cNvSpPr/>
            <p:nvPr/>
          </p:nvSpPr>
          <p:spPr>
            <a:xfrm>
              <a:off x="2287440" y="4049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7" name=""/>
            <p:cNvSpPr/>
            <p:nvPr/>
          </p:nvSpPr>
          <p:spPr>
            <a:xfrm>
              <a:off x="2287440" y="4049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2287440" y="4049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2287440" y="4049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0" name=""/>
            <p:cNvSpPr/>
            <p:nvPr/>
          </p:nvSpPr>
          <p:spPr>
            <a:xfrm>
              <a:off x="2287440" y="4049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1" name=""/>
            <p:cNvSpPr/>
            <p:nvPr/>
          </p:nvSpPr>
          <p:spPr>
            <a:xfrm flipV="1">
              <a:off x="2287440" y="4032360"/>
              <a:ext cx="18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2287440" y="40323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2287440" y="40323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2287440" y="4032360"/>
              <a:ext cx="16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2303640" y="40323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2303640" y="40323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2303640" y="40323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2303640" y="40323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9" name=""/>
            <p:cNvSpPr/>
            <p:nvPr/>
          </p:nvSpPr>
          <p:spPr>
            <a:xfrm flipV="1">
              <a:off x="2303640" y="401292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2303640" y="4013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2303640" y="4013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2303640" y="4013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2303640" y="4013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2303640" y="4013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2303640" y="4013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2303640" y="4013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2303640" y="4013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8" name=""/>
            <p:cNvSpPr/>
            <p:nvPr/>
          </p:nvSpPr>
          <p:spPr>
            <a:xfrm flipV="1">
              <a:off x="2303640" y="399528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2303640" y="3995640"/>
              <a:ext cx="1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2317680" y="3995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2317680" y="3995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2317680" y="3995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2317680" y="3995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2317680" y="3995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2317680" y="3995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6" name=""/>
            <p:cNvSpPr/>
            <p:nvPr/>
          </p:nvSpPr>
          <p:spPr>
            <a:xfrm>
              <a:off x="2317680" y="3995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7" name=""/>
            <p:cNvSpPr/>
            <p:nvPr/>
          </p:nvSpPr>
          <p:spPr>
            <a:xfrm flipV="1">
              <a:off x="2317680" y="397620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2317680" y="39765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2317680" y="39765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2317680" y="39765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2317680" y="39765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2317680" y="39765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3" name=""/>
            <p:cNvSpPr/>
            <p:nvPr/>
          </p:nvSpPr>
          <p:spPr>
            <a:xfrm>
              <a:off x="2317680" y="397656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4" name=""/>
            <p:cNvSpPr/>
            <p:nvPr/>
          </p:nvSpPr>
          <p:spPr>
            <a:xfrm>
              <a:off x="2332080" y="3976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2332080" y="3976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6" name=""/>
            <p:cNvSpPr/>
            <p:nvPr/>
          </p:nvSpPr>
          <p:spPr>
            <a:xfrm>
              <a:off x="2332080" y="3976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7" name=""/>
            <p:cNvSpPr/>
            <p:nvPr/>
          </p:nvSpPr>
          <p:spPr>
            <a:xfrm flipV="1">
              <a:off x="2332080" y="395928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2332080" y="3959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2332080" y="3959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0" name=""/>
            <p:cNvSpPr/>
            <p:nvPr/>
          </p:nvSpPr>
          <p:spPr>
            <a:xfrm>
              <a:off x="2332080" y="3959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2332080" y="3959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2332080" y="3959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2332080" y="3959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2332080" y="3959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2332080" y="3959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2332080" y="3959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7" name=""/>
            <p:cNvSpPr/>
            <p:nvPr/>
          </p:nvSpPr>
          <p:spPr>
            <a:xfrm flipV="1">
              <a:off x="2332080" y="393984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2332080" y="394020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2346480" y="3940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2346480" y="3940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2346480" y="3940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2346480" y="3940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2346480" y="3940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2346480" y="3940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2346480" y="3940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2346480" y="3940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2346480" y="3940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2346480" y="3940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9" name=""/>
            <p:cNvSpPr/>
            <p:nvPr/>
          </p:nvSpPr>
          <p:spPr>
            <a:xfrm flipV="1">
              <a:off x="2346480" y="392076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0" name=""/>
            <p:cNvSpPr/>
            <p:nvPr/>
          </p:nvSpPr>
          <p:spPr>
            <a:xfrm>
              <a:off x="2346480" y="3921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1" name=""/>
            <p:cNvSpPr/>
            <p:nvPr/>
          </p:nvSpPr>
          <p:spPr>
            <a:xfrm>
              <a:off x="2346480" y="3921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2346480" y="3921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2346480" y="3921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4" name=""/>
            <p:cNvSpPr/>
            <p:nvPr/>
          </p:nvSpPr>
          <p:spPr>
            <a:xfrm>
              <a:off x="2346480" y="392112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5" name=""/>
            <p:cNvSpPr/>
            <p:nvPr/>
          </p:nvSpPr>
          <p:spPr>
            <a:xfrm>
              <a:off x="2362320" y="3921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2362320" y="3921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2362320" y="3921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8" name=""/>
            <p:cNvSpPr/>
            <p:nvPr/>
          </p:nvSpPr>
          <p:spPr>
            <a:xfrm>
              <a:off x="2362320" y="3921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9" name=""/>
            <p:cNvSpPr/>
            <p:nvPr/>
          </p:nvSpPr>
          <p:spPr>
            <a:xfrm>
              <a:off x="2362320" y="3921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0" name=""/>
            <p:cNvSpPr/>
            <p:nvPr/>
          </p:nvSpPr>
          <p:spPr>
            <a:xfrm>
              <a:off x="2362320" y="3921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1" name=""/>
            <p:cNvSpPr/>
            <p:nvPr/>
          </p:nvSpPr>
          <p:spPr>
            <a:xfrm>
              <a:off x="2362320" y="3921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2" name=""/>
            <p:cNvSpPr/>
            <p:nvPr/>
          </p:nvSpPr>
          <p:spPr>
            <a:xfrm>
              <a:off x="2362320" y="3921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3" name=""/>
            <p:cNvSpPr/>
            <p:nvPr/>
          </p:nvSpPr>
          <p:spPr>
            <a:xfrm flipV="1">
              <a:off x="2362320" y="390384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2362320" y="3903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2362320" y="3903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6" name=""/>
            <p:cNvSpPr/>
            <p:nvPr/>
          </p:nvSpPr>
          <p:spPr>
            <a:xfrm>
              <a:off x="2362320" y="3903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2362320" y="3903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8" name=""/>
            <p:cNvSpPr/>
            <p:nvPr/>
          </p:nvSpPr>
          <p:spPr>
            <a:xfrm>
              <a:off x="2362320" y="3903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9" name=""/>
            <p:cNvSpPr/>
            <p:nvPr/>
          </p:nvSpPr>
          <p:spPr>
            <a:xfrm>
              <a:off x="2362320" y="390384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0" name=""/>
            <p:cNvSpPr/>
            <p:nvPr/>
          </p:nvSpPr>
          <p:spPr>
            <a:xfrm>
              <a:off x="2374920" y="3903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1" name=""/>
            <p:cNvSpPr/>
            <p:nvPr/>
          </p:nvSpPr>
          <p:spPr>
            <a:xfrm>
              <a:off x="2374920" y="3903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2" name=""/>
            <p:cNvSpPr/>
            <p:nvPr/>
          </p:nvSpPr>
          <p:spPr>
            <a:xfrm>
              <a:off x="2374920" y="3903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3" name=""/>
            <p:cNvSpPr/>
            <p:nvPr/>
          </p:nvSpPr>
          <p:spPr>
            <a:xfrm>
              <a:off x="2374920" y="3903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4" name=""/>
            <p:cNvSpPr/>
            <p:nvPr/>
          </p:nvSpPr>
          <p:spPr>
            <a:xfrm>
              <a:off x="2374920" y="3903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5" name=""/>
            <p:cNvSpPr/>
            <p:nvPr/>
          </p:nvSpPr>
          <p:spPr>
            <a:xfrm>
              <a:off x="2374920" y="3903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6" name=""/>
            <p:cNvSpPr/>
            <p:nvPr/>
          </p:nvSpPr>
          <p:spPr>
            <a:xfrm>
              <a:off x="2374920" y="3903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7" name=""/>
            <p:cNvSpPr/>
            <p:nvPr/>
          </p:nvSpPr>
          <p:spPr>
            <a:xfrm>
              <a:off x="2374920" y="3903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8" name=""/>
            <p:cNvSpPr/>
            <p:nvPr/>
          </p:nvSpPr>
          <p:spPr>
            <a:xfrm flipV="1">
              <a:off x="2374920" y="388440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9" name=""/>
            <p:cNvSpPr/>
            <p:nvPr/>
          </p:nvSpPr>
          <p:spPr>
            <a:xfrm>
              <a:off x="237492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0" name=""/>
            <p:cNvSpPr/>
            <p:nvPr/>
          </p:nvSpPr>
          <p:spPr>
            <a:xfrm>
              <a:off x="237492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1" name=""/>
            <p:cNvSpPr/>
            <p:nvPr/>
          </p:nvSpPr>
          <p:spPr>
            <a:xfrm>
              <a:off x="237492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2" name=""/>
            <p:cNvSpPr/>
            <p:nvPr/>
          </p:nvSpPr>
          <p:spPr>
            <a:xfrm>
              <a:off x="237492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3" name=""/>
            <p:cNvSpPr/>
            <p:nvPr/>
          </p:nvSpPr>
          <p:spPr>
            <a:xfrm>
              <a:off x="237492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4" name=""/>
            <p:cNvSpPr/>
            <p:nvPr/>
          </p:nvSpPr>
          <p:spPr>
            <a:xfrm>
              <a:off x="237492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5" name=""/>
            <p:cNvSpPr/>
            <p:nvPr/>
          </p:nvSpPr>
          <p:spPr>
            <a:xfrm>
              <a:off x="2374920" y="388476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6" name=""/>
            <p:cNvSpPr/>
            <p:nvPr/>
          </p:nvSpPr>
          <p:spPr>
            <a:xfrm>
              <a:off x="238932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7" name=""/>
            <p:cNvSpPr/>
            <p:nvPr/>
          </p:nvSpPr>
          <p:spPr>
            <a:xfrm>
              <a:off x="238932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8" name=""/>
            <p:cNvSpPr/>
            <p:nvPr/>
          </p:nvSpPr>
          <p:spPr>
            <a:xfrm>
              <a:off x="238932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238932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0" name=""/>
            <p:cNvSpPr/>
            <p:nvPr/>
          </p:nvSpPr>
          <p:spPr>
            <a:xfrm>
              <a:off x="238932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1" name=""/>
            <p:cNvSpPr/>
            <p:nvPr/>
          </p:nvSpPr>
          <p:spPr>
            <a:xfrm>
              <a:off x="238932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2" name=""/>
            <p:cNvSpPr/>
            <p:nvPr/>
          </p:nvSpPr>
          <p:spPr>
            <a:xfrm>
              <a:off x="238932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238932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238932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5" name=""/>
            <p:cNvSpPr/>
            <p:nvPr/>
          </p:nvSpPr>
          <p:spPr>
            <a:xfrm>
              <a:off x="238932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238932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238932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8" name=""/>
            <p:cNvSpPr/>
            <p:nvPr/>
          </p:nvSpPr>
          <p:spPr>
            <a:xfrm flipV="1">
              <a:off x="2389320" y="386676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2389320" y="3867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2389320" y="386712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1" name=""/>
            <p:cNvSpPr/>
            <p:nvPr/>
          </p:nvSpPr>
          <p:spPr>
            <a:xfrm>
              <a:off x="2405160" y="3867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2405160" y="3867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2405160" y="3867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2405160" y="3867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2405160" y="3867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2405160" y="3867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2405160" y="3867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2405160" y="3867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2405160" y="3867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2405160" y="3867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2405160" y="3867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2405160" y="3867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2405160" y="3867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2405160" y="3867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2405160" y="3867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2405160" y="3867120"/>
              <a:ext cx="1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241920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241920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241920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241920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241920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241920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241920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241920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241920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241920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241920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8" name=""/>
            <p:cNvSpPr/>
            <p:nvPr/>
          </p:nvSpPr>
          <p:spPr>
            <a:xfrm>
              <a:off x="241920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241920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0" name=""/>
            <p:cNvSpPr/>
            <p:nvPr/>
          </p:nvSpPr>
          <p:spPr>
            <a:xfrm>
              <a:off x="241920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1" name=""/>
            <p:cNvSpPr/>
            <p:nvPr/>
          </p:nvSpPr>
          <p:spPr>
            <a:xfrm flipV="1">
              <a:off x="2419200" y="384768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2" name=""/>
            <p:cNvSpPr/>
            <p:nvPr/>
          </p:nvSpPr>
          <p:spPr>
            <a:xfrm>
              <a:off x="2419200" y="3848040"/>
              <a:ext cx="12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3" name=""/>
            <p:cNvSpPr/>
            <p:nvPr/>
          </p:nvSpPr>
          <p:spPr>
            <a:xfrm>
              <a:off x="243216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4" name=""/>
            <p:cNvSpPr/>
            <p:nvPr/>
          </p:nvSpPr>
          <p:spPr>
            <a:xfrm>
              <a:off x="243216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5" name=""/>
            <p:cNvSpPr/>
            <p:nvPr/>
          </p:nvSpPr>
          <p:spPr>
            <a:xfrm>
              <a:off x="243216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6" name=""/>
            <p:cNvSpPr/>
            <p:nvPr/>
          </p:nvSpPr>
          <p:spPr>
            <a:xfrm>
              <a:off x="243216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243216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243216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243216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243216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243216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243216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243216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4" name=""/>
            <p:cNvSpPr/>
            <p:nvPr/>
          </p:nvSpPr>
          <p:spPr>
            <a:xfrm>
              <a:off x="243216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243216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243216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243216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2432160" y="3848040"/>
              <a:ext cx="15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244800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244800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244800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2" name=""/>
            <p:cNvSpPr/>
            <p:nvPr/>
          </p:nvSpPr>
          <p:spPr>
            <a:xfrm>
              <a:off x="244800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244800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4" name=""/>
            <p:cNvSpPr/>
            <p:nvPr/>
          </p:nvSpPr>
          <p:spPr>
            <a:xfrm>
              <a:off x="244800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5" name=""/>
            <p:cNvSpPr/>
            <p:nvPr/>
          </p:nvSpPr>
          <p:spPr>
            <a:xfrm>
              <a:off x="244800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6" name=""/>
            <p:cNvSpPr/>
            <p:nvPr/>
          </p:nvSpPr>
          <p:spPr>
            <a:xfrm>
              <a:off x="244800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244800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8" name=""/>
            <p:cNvSpPr/>
            <p:nvPr/>
          </p:nvSpPr>
          <p:spPr>
            <a:xfrm>
              <a:off x="244800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244800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0" name=""/>
            <p:cNvSpPr/>
            <p:nvPr/>
          </p:nvSpPr>
          <p:spPr>
            <a:xfrm>
              <a:off x="244800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1" name=""/>
            <p:cNvSpPr/>
            <p:nvPr/>
          </p:nvSpPr>
          <p:spPr>
            <a:xfrm>
              <a:off x="244800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2" name=""/>
            <p:cNvSpPr/>
            <p:nvPr/>
          </p:nvSpPr>
          <p:spPr>
            <a:xfrm>
              <a:off x="244800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2448000" y="3848040"/>
              <a:ext cx="1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4" name=""/>
            <p:cNvSpPr/>
            <p:nvPr/>
          </p:nvSpPr>
          <p:spPr>
            <a:xfrm>
              <a:off x="2462040" y="38480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2462040" y="38480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6" name=""/>
            <p:cNvSpPr/>
            <p:nvPr/>
          </p:nvSpPr>
          <p:spPr>
            <a:xfrm>
              <a:off x="2462040" y="38480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2462040" y="38480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8" name=""/>
            <p:cNvSpPr/>
            <p:nvPr/>
          </p:nvSpPr>
          <p:spPr>
            <a:xfrm>
              <a:off x="2462040" y="38480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9" name=""/>
            <p:cNvSpPr/>
            <p:nvPr/>
          </p:nvSpPr>
          <p:spPr>
            <a:xfrm>
              <a:off x="2462040" y="38480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0" name=""/>
            <p:cNvSpPr/>
            <p:nvPr/>
          </p:nvSpPr>
          <p:spPr>
            <a:xfrm>
              <a:off x="2462040" y="38480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1" name=""/>
            <p:cNvSpPr/>
            <p:nvPr/>
          </p:nvSpPr>
          <p:spPr>
            <a:xfrm>
              <a:off x="2462040" y="38480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2" name=""/>
            <p:cNvSpPr/>
            <p:nvPr/>
          </p:nvSpPr>
          <p:spPr>
            <a:xfrm>
              <a:off x="2462040" y="38480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3" name=""/>
            <p:cNvSpPr/>
            <p:nvPr/>
          </p:nvSpPr>
          <p:spPr>
            <a:xfrm>
              <a:off x="2462040" y="38480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4" name=""/>
            <p:cNvSpPr/>
            <p:nvPr/>
          </p:nvSpPr>
          <p:spPr>
            <a:xfrm>
              <a:off x="2462040" y="38480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5" name=""/>
            <p:cNvSpPr/>
            <p:nvPr/>
          </p:nvSpPr>
          <p:spPr>
            <a:xfrm>
              <a:off x="2462040" y="38480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6" name=""/>
            <p:cNvSpPr/>
            <p:nvPr/>
          </p:nvSpPr>
          <p:spPr>
            <a:xfrm>
              <a:off x="2462040" y="38480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7" name=""/>
            <p:cNvSpPr/>
            <p:nvPr/>
          </p:nvSpPr>
          <p:spPr>
            <a:xfrm>
              <a:off x="2462040" y="38480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8" name=""/>
            <p:cNvSpPr/>
            <p:nvPr/>
          </p:nvSpPr>
          <p:spPr>
            <a:xfrm>
              <a:off x="2462040" y="38480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9" name=""/>
            <p:cNvSpPr/>
            <p:nvPr/>
          </p:nvSpPr>
          <p:spPr>
            <a:xfrm>
              <a:off x="2462040" y="384804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0" name=""/>
            <p:cNvSpPr/>
            <p:nvPr/>
          </p:nvSpPr>
          <p:spPr>
            <a:xfrm>
              <a:off x="2476440" y="384804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24764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24764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3" name=""/>
            <p:cNvSpPr/>
            <p:nvPr/>
          </p:nvSpPr>
          <p:spPr>
            <a:xfrm>
              <a:off x="24764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24764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24764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24764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24764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24764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24764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24764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24764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24764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24764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24764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5" name=""/>
            <p:cNvSpPr/>
            <p:nvPr/>
          </p:nvSpPr>
          <p:spPr>
            <a:xfrm>
              <a:off x="2476440" y="386712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24890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24890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24890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9" name=""/>
            <p:cNvSpPr/>
            <p:nvPr/>
          </p:nvSpPr>
          <p:spPr>
            <a:xfrm>
              <a:off x="24890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24890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1" name=""/>
            <p:cNvSpPr/>
            <p:nvPr/>
          </p:nvSpPr>
          <p:spPr>
            <a:xfrm>
              <a:off x="24890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2" name=""/>
            <p:cNvSpPr/>
            <p:nvPr/>
          </p:nvSpPr>
          <p:spPr>
            <a:xfrm>
              <a:off x="24890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3" name=""/>
            <p:cNvSpPr/>
            <p:nvPr/>
          </p:nvSpPr>
          <p:spPr>
            <a:xfrm>
              <a:off x="24890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4" name=""/>
            <p:cNvSpPr/>
            <p:nvPr/>
          </p:nvSpPr>
          <p:spPr>
            <a:xfrm>
              <a:off x="24890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5" name=""/>
            <p:cNvSpPr/>
            <p:nvPr/>
          </p:nvSpPr>
          <p:spPr>
            <a:xfrm>
              <a:off x="24890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24890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7" name=""/>
            <p:cNvSpPr/>
            <p:nvPr/>
          </p:nvSpPr>
          <p:spPr>
            <a:xfrm>
              <a:off x="24890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8" name=""/>
            <p:cNvSpPr/>
            <p:nvPr/>
          </p:nvSpPr>
          <p:spPr>
            <a:xfrm>
              <a:off x="24890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24890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24890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1" name=""/>
            <p:cNvSpPr/>
            <p:nvPr/>
          </p:nvSpPr>
          <p:spPr>
            <a:xfrm>
              <a:off x="2489040" y="3867120"/>
              <a:ext cx="16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2505240" y="3867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3" name=""/>
            <p:cNvSpPr/>
            <p:nvPr/>
          </p:nvSpPr>
          <p:spPr>
            <a:xfrm>
              <a:off x="2505240" y="386712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250524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250524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250524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250524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250524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250524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250524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250524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250524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250524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4" name=""/>
            <p:cNvSpPr/>
            <p:nvPr/>
          </p:nvSpPr>
          <p:spPr>
            <a:xfrm>
              <a:off x="250524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5" name=""/>
            <p:cNvSpPr/>
            <p:nvPr/>
          </p:nvSpPr>
          <p:spPr>
            <a:xfrm>
              <a:off x="250524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2505240" y="3884760"/>
              <a:ext cx="1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7" name=""/>
            <p:cNvSpPr/>
            <p:nvPr/>
          </p:nvSpPr>
          <p:spPr>
            <a:xfrm>
              <a:off x="2519280" y="38847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8" name=""/>
            <p:cNvSpPr/>
            <p:nvPr/>
          </p:nvSpPr>
          <p:spPr>
            <a:xfrm>
              <a:off x="2519280" y="38847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2519280" y="38847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2519280" y="38847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1" name=""/>
            <p:cNvSpPr/>
            <p:nvPr/>
          </p:nvSpPr>
          <p:spPr>
            <a:xfrm>
              <a:off x="2519280" y="38847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2" name=""/>
            <p:cNvSpPr/>
            <p:nvPr/>
          </p:nvSpPr>
          <p:spPr>
            <a:xfrm>
              <a:off x="2519280" y="38847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3" name=""/>
            <p:cNvSpPr/>
            <p:nvPr/>
          </p:nvSpPr>
          <p:spPr>
            <a:xfrm>
              <a:off x="2519280" y="388476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2519280" y="39038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5" name=""/>
            <p:cNvSpPr/>
            <p:nvPr/>
          </p:nvSpPr>
          <p:spPr>
            <a:xfrm>
              <a:off x="2519280" y="39038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2519280" y="39038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2519280" y="39038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2519280" y="39038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9" name=""/>
            <p:cNvSpPr/>
            <p:nvPr/>
          </p:nvSpPr>
          <p:spPr>
            <a:xfrm>
              <a:off x="2519280" y="39038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2519280" y="39038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2519280" y="39038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2519280" y="390384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2533680" y="3903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2533680" y="3903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2533680" y="3903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2533680" y="3903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2533680" y="3903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2533680" y="3903840"/>
              <a:ext cx="144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2533680" y="3922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0" name=""/>
            <p:cNvSpPr/>
            <p:nvPr/>
          </p:nvSpPr>
          <p:spPr>
            <a:xfrm>
              <a:off x="2533680" y="3922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1" name=""/>
            <p:cNvSpPr/>
            <p:nvPr/>
          </p:nvSpPr>
          <p:spPr>
            <a:xfrm>
              <a:off x="2533680" y="3922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2" name=""/>
            <p:cNvSpPr/>
            <p:nvPr/>
          </p:nvSpPr>
          <p:spPr>
            <a:xfrm>
              <a:off x="2533680" y="3922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3" name=""/>
            <p:cNvSpPr/>
            <p:nvPr/>
          </p:nvSpPr>
          <p:spPr>
            <a:xfrm>
              <a:off x="2533680" y="3922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4" name=""/>
            <p:cNvSpPr/>
            <p:nvPr/>
          </p:nvSpPr>
          <p:spPr>
            <a:xfrm>
              <a:off x="2533680" y="3922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5" name=""/>
            <p:cNvSpPr/>
            <p:nvPr/>
          </p:nvSpPr>
          <p:spPr>
            <a:xfrm>
              <a:off x="2533680" y="3922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6" name=""/>
            <p:cNvSpPr/>
            <p:nvPr/>
          </p:nvSpPr>
          <p:spPr>
            <a:xfrm>
              <a:off x="2533680" y="3922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7" name=""/>
            <p:cNvSpPr/>
            <p:nvPr/>
          </p:nvSpPr>
          <p:spPr>
            <a:xfrm>
              <a:off x="2533680" y="3922560"/>
              <a:ext cx="15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8" name=""/>
            <p:cNvSpPr/>
            <p:nvPr/>
          </p:nvSpPr>
          <p:spPr>
            <a:xfrm>
              <a:off x="2549520" y="3922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9" name=""/>
            <p:cNvSpPr/>
            <p:nvPr/>
          </p:nvSpPr>
          <p:spPr>
            <a:xfrm>
              <a:off x="2549520" y="3922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0" name=""/>
            <p:cNvSpPr/>
            <p:nvPr/>
          </p:nvSpPr>
          <p:spPr>
            <a:xfrm>
              <a:off x="2549520" y="3922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1" name=""/>
            <p:cNvSpPr/>
            <p:nvPr/>
          </p:nvSpPr>
          <p:spPr>
            <a:xfrm>
              <a:off x="2549520" y="3922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2" name=""/>
            <p:cNvSpPr/>
            <p:nvPr/>
          </p:nvSpPr>
          <p:spPr>
            <a:xfrm>
              <a:off x="2549520" y="392256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3" name=""/>
            <p:cNvSpPr/>
            <p:nvPr/>
          </p:nvSpPr>
          <p:spPr>
            <a:xfrm>
              <a:off x="2549520" y="3940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4" name=""/>
            <p:cNvSpPr/>
            <p:nvPr/>
          </p:nvSpPr>
          <p:spPr>
            <a:xfrm>
              <a:off x="2549520" y="3940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5" name=""/>
            <p:cNvSpPr/>
            <p:nvPr/>
          </p:nvSpPr>
          <p:spPr>
            <a:xfrm>
              <a:off x="2549520" y="3940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6" name=""/>
            <p:cNvSpPr/>
            <p:nvPr/>
          </p:nvSpPr>
          <p:spPr>
            <a:xfrm>
              <a:off x="2549520" y="3940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7" name=""/>
            <p:cNvSpPr/>
            <p:nvPr/>
          </p:nvSpPr>
          <p:spPr>
            <a:xfrm>
              <a:off x="2549520" y="3940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8" name=""/>
            <p:cNvSpPr/>
            <p:nvPr/>
          </p:nvSpPr>
          <p:spPr>
            <a:xfrm>
              <a:off x="2549520" y="3940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9" name=""/>
            <p:cNvSpPr/>
            <p:nvPr/>
          </p:nvSpPr>
          <p:spPr>
            <a:xfrm>
              <a:off x="2549520" y="3940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0" name=""/>
            <p:cNvSpPr/>
            <p:nvPr/>
          </p:nvSpPr>
          <p:spPr>
            <a:xfrm>
              <a:off x="2549520" y="3940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1" name=""/>
            <p:cNvSpPr/>
            <p:nvPr/>
          </p:nvSpPr>
          <p:spPr>
            <a:xfrm>
              <a:off x="2549520" y="3940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2" name=""/>
            <p:cNvSpPr/>
            <p:nvPr/>
          </p:nvSpPr>
          <p:spPr>
            <a:xfrm>
              <a:off x="2549520" y="3940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3" name=""/>
            <p:cNvSpPr/>
            <p:nvPr/>
          </p:nvSpPr>
          <p:spPr>
            <a:xfrm>
              <a:off x="2549520" y="394020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4" name=""/>
            <p:cNvSpPr/>
            <p:nvPr/>
          </p:nvSpPr>
          <p:spPr>
            <a:xfrm>
              <a:off x="2563920" y="394020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5" name=""/>
            <p:cNvSpPr/>
            <p:nvPr/>
          </p:nvSpPr>
          <p:spPr>
            <a:xfrm>
              <a:off x="2563920" y="3959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6" name=""/>
            <p:cNvSpPr/>
            <p:nvPr/>
          </p:nvSpPr>
          <p:spPr>
            <a:xfrm>
              <a:off x="2563920" y="3959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2563920" y="3959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8" name=""/>
            <p:cNvSpPr/>
            <p:nvPr/>
          </p:nvSpPr>
          <p:spPr>
            <a:xfrm>
              <a:off x="2563920" y="3959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9" name=""/>
            <p:cNvSpPr/>
            <p:nvPr/>
          </p:nvSpPr>
          <p:spPr>
            <a:xfrm>
              <a:off x="2563920" y="3959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0" name=""/>
            <p:cNvSpPr/>
            <p:nvPr/>
          </p:nvSpPr>
          <p:spPr>
            <a:xfrm>
              <a:off x="2563920" y="3959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1" name=""/>
            <p:cNvSpPr/>
            <p:nvPr/>
          </p:nvSpPr>
          <p:spPr>
            <a:xfrm>
              <a:off x="2563920" y="3959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2" name=""/>
            <p:cNvSpPr/>
            <p:nvPr/>
          </p:nvSpPr>
          <p:spPr>
            <a:xfrm>
              <a:off x="2563920" y="3959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3" name=""/>
            <p:cNvSpPr/>
            <p:nvPr/>
          </p:nvSpPr>
          <p:spPr>
            <a:xfrm>
              <a:off x="2563920" y="3959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4" name=""/>
            <p:cNvSpPr/>
            <p:nvPr/>
          </p:nvSpPr>
          <p:spPr>
            <a:xfrm>
              <a:off x="2563920" y="395928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2563920" y="3976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2563920" y="3976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2563920" y="3976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8" name=""/>
            <p:cNvSpPr/>
            <p:nvPr/>
          </p:nvSpPr>
          <p:spPr>
            <a:xfrm>
              <a:off x="2563920" y="397656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2576520" y="3976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2576520" y="3976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2576520" y="3976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2" name=""/>
            <p:cNvSpPr/>
            <p:nvPr/>
          </p:nvSpPr>
          <p:spPr>
            <a:xfrm>
              <a:off x="2576520" y="3976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3" name=""/>
            <p:cNvSpPr/>
            <p:nvPr/>
          </p:nvSpPr>
          <p:spPr>
            <a:xfrm>
              <a:off x="2576520" y="3976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4" name=""/>
            <p:cNvSpPr/>
            <p:nvPr/>
          </p:nvSpPr>
          <p:spPr>
            <a:xfrm>
              <a:off x="2576520" y="397656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2576520" y="39956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2576520" y="39956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2576520" y="39956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2576520" y="39956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2576520" y="39956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2576520" y="39956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2576520" y="39956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2576520" y="399564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2590920" y="399564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2590920" y="4013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2590920" y="4013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2590920" y="4013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2590920" y="4013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2590920" y="4013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2590920" y="4013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2590920" y="4013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2590920" y="4013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2590920" y="401328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2590920" y="40323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2590920" y="40323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2590920" y="40323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2590920" y="40323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2590920" y="403236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2606760" y="40323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9" name=""/>
            <p:cNvSpPr/>
            <p:nvPr/>
          </p:nvSpPr>
          <p:spPr>
            <a:xfrm>
              <a:off x="2606760" y="40323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2606760" y="403236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1" name=""/>
            <p:cNvSpPr/>
            <p:nvPr/>
          </p:nvSpPr>
          <p:spPr>
            <a:xfrm>
              <a:off x="2606760" y="40496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2" name=""/>
            <p:cNvSpPr/>
            <p:nvPr/>
          </p:nvSpPr>
          <p:spPr>
            <a:xfrm>
              <a:off x="2606760" y="40496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3" name=""/>
            <p:cNvSpPr/>
            <p:nvPr/>
          </p:nvSpPr>
          <p:spPr>
            <a:xfrm>
              <a:off x="2606760" y="40496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4" name=""/>
            <p:cNvSpPr/>
            <p:nvPr/>
          </p:nvSpPr>
          <p:spPr>
            <a:xfrm>
              <a:off x="2606760" y="40496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5" name=""/>
            <p:cNvSpPr/>
            <p:nvPr/>
          </p:nvSpPr>
          <p:spPr>
            <a:xfrm>
              <a:off x="2606760" y="40496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2606760" y="40496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2606760" y="40496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2606760" y="404964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2606760" y="406872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0" name=""/>
            <p:cNvSpPr/>
            <p:nvPr/>
          </p:nvSpPr>
          <p:spPr>
            <a:xfrm>
              <a:off x="2606760" y="406872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1" name=""/>
            <p:cNvSpPr/>
            <p:nvPr/>
          </p:nvSpPr>
          <p:spPr>
            <a:xfrm>
              <a:off x="2606760" y="4068720"/>
              <a:ext cx="1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2" name=""/>
            <p:cNvSpPr/>
            <p:nvPr/>
          </p:nvSpPr>
          <p:spPr>
            <a:xfrm>
              <a:off x="2620800" y="406872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2620800" y="406872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4" name=""/>
            <p:cNvSpPr/>
            <p:nvPr/>
          </p:nvSpPr>
          <p:spPr>
            <a:xfrm>
              <a:off x="2620800" y="406872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5" name=""/>
            <p:cNvSpPr/>
            <p:nvPr/>
          </p:nvSpPr>
          <p:spPr>
            <a:xfrm>
              <a:off x="2620800" y="4068720"/>
              <a:ext cx="18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2620800" y="4086360"/>
              <a:ext cx="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2620800" y="4086360"/>
              <a:ext cx="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2620800" y="4086360"/>
              <a:ext cx="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2620800" y="4086360"/>
              <a:ext cx="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2620800" y="4086360"/>
              <a:ext cx="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2620800" y="4086360"/>
              <a:ext cx="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2620800" y="4086360"/>
              <a:ext cx="18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2620800" y="4103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2620800" y="4103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5" name=""/>
            <p:cNvSpPr/>
            <p:nvPr/>
          </p:nvSpPr>
          <p:spPr>
            <a:xfrm>
              <a:off x="2620800" y="4103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2620800" y="410364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2635200" y="4103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2635200" y="4103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9" name=""/>
            <p:cNvSpPr/>
            <p:nvPr/>
          </p:nvSpPr>
          <p:spPr>
            <a:xfrm>
              <a:off x="2635200" y="4103640"/>
              <a:ext cx="18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2635200" y="41212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2635200" y="41212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2635200" y="41212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3" name=""/>
            <p:cNvSpPr/>
            <p:nvPr/>
          </p:nvSpPr>
          <p:spPr>
            <a:xfrm>
              <a:off x="2635200" y="41212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2635200" y="41212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2635200" y="412128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2635200" y="41403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2635200" y="41403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2635200" y="41403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9" name=""/>
            <p:cNvSpPr/>
            <p:nvPr/>
          </p:nvSpPr>
          <p:spPr>
            <a:xfrm>
              <a:off x="2635200" y="414036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2651040" y="41403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1" name=""/>
            <p:cNvSpPr/>
            <p:nvPr/>
          </p:nvSpPr>
          <p:spPr>
            <a:xfrm>
              <a:off x="2651040" y="41403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2651040" y="4140360"/>
              <a:ext cx="18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3" name=""/>
            <p:cNvSpPr/>
            <p:nvPr/>
          </p:nvSpPr>
          <p:spPr>
            <a:xfrm>
              <a:off x="2651040" y="41576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2651040" y="41576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2651040" y="41576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2651040" y="41576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2651040" y="41576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2651040" y="415764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2651040" y="41767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2651040" y="41767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2651040" y="41767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2651040" y="41767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2651040" y="417672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2665440" y="417672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2665440" y="4195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2665440" y="4195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2665440" y="4195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2665440" y="4195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2665440" y="419580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2665440" y="42130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2665440" y="42130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2665440" y="42130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2665440" y="42130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2665440" y="42130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2665440" y="421308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2665440" y="423216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2679840" y="42321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2679840" y="42321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2679840" y="42321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2679840" y="423216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2679840" y="4249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2" name=""/>
            <p:cNvSpPr/>
            <p:nvPr/>
          </p:nvSpPr>
          <p:spPr>
            <a:xfrm>
              <a:off x="2679840" y="4249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2679840" y="4249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2679840" y="4249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2679840" y="4249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2679840" y="424980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7" name=""/>
            <p:cNvSpPr/>
            <p:nvPr/>
          </p:nvSpPr>
          <p:spPr>
            <a:xfrm>
              <a:off x="2679840" y="42688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2679840" y="42688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2679840" y="426888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2692440" y="42688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2692440" y="426888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2692440" y="42861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3" name=""/>
            <p:cNvSpPr/>
            <p:nvPr/>
          </p:nvSpPr>
          <p:spPr>
            <a:xfrm>
              <a:off x="2692440" y="42861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4" name=""/>
            <p:cNvSpPr/>
            <p:nvPr/>
          </p:nvSpPr>
          <p:spPr>
            <a:xfrm>
              <a:off x="2692440" y="42861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5" name=""/>
            <p:cNvSpPr/>
            <p:nvPr/>
          </p:nvSpPr>
          <p:spPr>
            <a:xfrm>
              <a:off x="2692440" y="42861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6" name=""/>
            <p:cNvSpPr/>
            <p:nvPr/>
          </p:nvSpPr>
          <p:spPr>
            <a:xfrm>
              <a:off x="2692440" y="428616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7" name=""/>
            <p:cNvSpPr/>
            <p:nvPr/>
          </p:nvSpPr>
          <p:spPr>
            <a:xfrm>
              <a:off x="2692440" y="43052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2692440" y="43052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2692440" y="43052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2692440" y="43052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1" name=""/>
            <p:cNvSpPr/>
            <p:nvPr/>
          </p:nvSpPr>
          <p:spPr>
            <a:xfrm>
              <a:off x="2692440" y="430524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2692440" y="432288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2708280" y="43228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2708280" y="43228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5" name=""/>
            <p:cNvSpPr/>
            <p:nvPr/>
          </p:nvSpPr>
          <p:spPr>
            <a:xfrm>
              <a:off x="2708280" y="43228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2708280" y="432288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7" name=""/>
            <p:cNvSpPr/>
            <p:nvPr/>
          </p:nvSpPr>
          <p:spPr>
            <a:xfrm>
              <a:off x="2708280" y="43419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8" name=""/>
            <p:cNvSpPr/>
            <p:nvPr/>
          </p:nvSpPr>
          <p:spPr>
            <a:xfrm>
              <a:off x="2708280" y="43419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9" name=""/>
            <p:cNvSpPr/>
            <p:nvPr/>
          </p:nvSpPr>
          <p:spPr>
            <a:xfrm>
              <a:off x="2708280" y="43419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2708280" y="434196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2708280" y="435924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2" name=""/>
            <p:cNvSpPr/>
            <p:nvPr/>
          </p:nvSpPr>
          <p:spPr>
            <a:xfrm>
              <a:off x="2708280" y="435924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3" name=""/>
            <p:cNvSpPr/>
            <p:nvPr/>
          </p:nvSpPr>
          <p:spPr>
            <a:xfrm>
              <a:off x="2708280" y="435924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4" name=""/>
            <p:cNvSpPr/>
            <p:nvPr/>
          </p:nvSpPr>
          <p:spPr>
            <a:xfrm>
              <a:off x="2708280" y="4359240"/>
              <a:ext cx="14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2722680" y="435924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2722680" y="43783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2722680" y="43783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2722680" y="43783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2722680" y="4378320"/>
              <a:ext cx="144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2722680" y="43941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2722680" y="43941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2" name=""/>
            <p:cNvSpPr/>
            <p:nvPr/>
          </p:nvSpPr>
          <p:spPr>
            <a:xfrm>
              <a:off x="2722680" y="43941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3" name=""/>
            <p:cNvSpPr/>
            <p:nvPr/>
          </p:nvSpPr>
          <p:spPr>
            <a:xfrm>
              <a:off x="2722680" y="43941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4" name=""/>
            <p:cNvSpPr/>
            <p:nvPr/>
          </p:nvSpPr>
          <p:spPr>
            <a:xfrm>
              <a:off x="2722680" y="439416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5" name=""/>
            <p:cNvSpPr/>
            <p:nvPr/>
          </p:nvSpPr>
          <p:spPr>
            <a:xfrm>
              <a:off x="2722680" y="44132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6" name=""/>
            <p:cNvSpPr/>
            <p:nvPr/>
          </p:nvSpPr>
          <p:spPr>
            <a:xfrm>
              <a:off x="2722680" y="4413240"/>
              <a:ext cx="1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7" name=""/>
            <p:cNvSpPr/>
            <p:nvPr/>
          </p:nvSpPr>
          <p:spPr>
            <a:xfrm>
              <a:off x="2736720" y="44132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2736720" y="441324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2736720" y="44323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2736720" y="44323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1" name=""/>
            <p:cNvSpPr/>
            <p:nvPr/>
          </p:nvSpPr>
          <p:spPr>
            <a:xfrm>
              <a:off x="2736720" y="44323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2736720" y="4432320"/>
              <a:ext cx="18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3" name=""/>
            <p:cNvSpPr/>
            <p:nvPr/>
          </p:nvSpPr>
          <p:spPr>
            <a:xfrm>
              <a:off x="2736720" y="44496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4" name=""/>
            <p:cNvSpPr/>
            <p:nvPr/>
          </p:nvSpPr>
          <p:spPr>
            <a:xfrm>
              <a:off x="2736720" y="44496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5" name=""/>
            <p:cNvSpPr/>
            <p:nvPr/>
          </p:nvSpPr>
          <p:spPr>
            <a:xfrm>
              <a:off x="2736720" y="44496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6" name=""/>
            <p:cNvSpPr/>
            <p:nvPr/>
          </p:nvSpPr>
          <p:spPr>
            <a:xfrm>
              <a:off x="2736720" y="44496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7" name=""/>
            <p:cNvSpPr/>
            <p:nvPr/>
          </p:nvSpPr>
          <p:spPr>
            <a:xfrm>
              <a:off x="2736720" y="444960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8" name=""/>
            <p:cNvSpPr/>
            <p:nvPr/>
          </p:nvSpPr>
          <p:spPr>
            <a:xfrm>
              <a:off x="2736720" y="4468680"/>
              <a:ext cx="15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9" name=""/>
            <p:cNvSpPr/>
            <p:nvPr/>
          </p:nvSpPr>
          <p:spPr>
            <a:xfrm>
              <a:off x="2752560" y="446868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0" name=""/>
            <p:cNvSpPr/>
            <p:nvPr/>
          </p:nvSpPr>
          <p:spPr>
            <a:xfrm>
              <a:off x="2752560" y="446868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1" name=""/>
            <p:cNvSpPr/>
            <p:nvPr/>
          </p:nvSpPr>
          <p:spPr>
            <a:xfrm>
              <a:off x="2752560" y="4468680"/>
              <a:ext cx="18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2" name=""/>
            <p:cNvSpPr/>
            <p:nvPr/>
          </p:nvSpPr>
          <p:spPr>
            <a:xfrm>
              <a:off x="2752560" y="44863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3" name=""/>
            <p:cNvSpPr/>
            <p:nvPr/>
          </p:nvSpPr>
          <p:spPr>
            <a:xfrm>
              <a:off x="2752560" y="44863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4" name=""/>
            <p:cNvSpPr/>
            <p:nvPr/>
          </p:nvSpPr>
          <p:spPr>
            <a:xfrm>
              <a:off x="2752560" y="44863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5" name=""/>
            <p:cNvSpPr/>
            <p:nvPr/>
          </p:nvSpPr>
          <p:spPr>
            <a:xfrm>
              <a:off x="2752560" y="448632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6" name=""/>
            <p:cNvSpPr/>
            <p:nvPr/>
          </p:nvSpPr>
          <p:spPr>
            <a:xfrm>
              <a:off x="2752560" y="450540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7" name=""/>
            <p:cNvSpPr/>
            <p:nvPr/>
          </p:nvSpPr>
          <p:spPr>
            <a:xfrm>
              <a:off x="2752560" y="450540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8" name=""/>
            <p:cNvSpPr/>
            <p:nvPr/>
          </p:nvSpPr>
          <p:spPr>
            <a:xfrm>
              <a:off x="2752560" y="450540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9" name=""/>
            <p:cNvSpPr/>
            <p:nvPr/>
          </p:nvSpPr>
          <p:spPr>
            <a:xfrm>
              <a:off x="2752560" y="4505400"/>
              <a:ext cx="144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0" name=""/>
            <p:cNvSpPr/>
            <p:nvPr/>
          </p:nvSpPr>
          <p:spPr>
            <a:xfrm>
              <a:off x="2766960" y="452268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1" name=""/>
            <p:cNvSpPr/>
            <p:nvPr/>
          </p:nvSpPr>
          <p:spPr>
            <a:xfrm>
              <a:off x="2766960" y="452268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2" name=""/>
            <p:cNvSpPr/>
            <p:nvPr/>
          </p:nvSpPr>
          <p:spPr>
            <a:xfrm>
              <a:off x="2766960" y="452268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3" name=""/>
            <p:cNvSpPr/>
            <p:nvPr/>
          </p:nvSpPr>
          <p:spPr>
            <a:xfrm>
              <a:off x="2766960" y="452268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4" name=""/>
            <p:cNvSpPr/>
            <p:nvPr/>
          </p:nvSpPr>
          <p:spPr>
            <a:xfrm>
              <a:off x="2766960" y="45417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5" name=""/>
            <p:cNvSpPr/>
            <p:nvPr/>
          </p:nvSpPr>
          <p:spPr>
            <a:xfrm>
              <a:off x="2766960" y="45417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6" name=""/>
            <p:cNvSpPr/>
            <p:nvPr/>
          </p:nvSpPr>
          <p:spPr>
            <a:xfrm>
              <a:off x="2766960" y="45417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7" name=""/>
            <p:cNvSpPr/>
            <p:nvPr/>
          </p:nvSpPr>
          <p:spPr>
            <a:xfrm>
              <a:off x="2766960" y="454176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8" name=""/>
            <p:cNvSpPr/>
            <p:nvPr/>
          </p:nvSpPr>
          <p:spPr>
            <a:xfrm>
              <a:off x="2766960" y="45608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9" name=""/>
            <p:cNvSpPr/>
            <p:nvPr/>
          </p:nvSpPr>
          <p:spPr>
            <a:xfrm>
              <a:off x="2766960" y="45608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0" name=""/>
            <p:cNvSpPr/>
            <p:nvPr/>
          </p:nvSpPr>
          <p:spPr>
            <a:xfrm>
              <a:off x="2766960" y="4560840"/>
              <a:ext cx="126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1" name=""/>
            <p:cNvSpPr/>
            <p:nvPr/>
          </p:nvSpPr>
          <p:spPr>
            <a:xfrm>
              <a:off x="2779560" y="45784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2" name=""/>
            <p:cNvSpPr/>
            <p:nvPr/>
          </p:nvSpPr>
          <p:spPr>
            <a:xfrm>
              <a:off x="2779560" y="45784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3" name=""/>
            <p:cNvSpPr/>
            <p:nvPr/>
          </p:nvSpPr>
          <p:spPr>
            <a:xfrm>
              <a:off x="2779560" y="45784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4" name=""/>
            <p:cNvSpPr/>
            <p:nvPr/>
          </p:nvSpPr>
          <p:spPr>
            <a:xfrm>
              <a:off x="2779560" y="457848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5" name=""/>
            <p:cNvSpPr/>
            <p:nvPr/>
          </p:nvSpPr>
          <p:spPr>
            <a:xfrm>
              <a:off x="2779560" y="45975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6" name=""/>
            <p:cNvSpPr/>
            <p:nvPr/>
          </p:nvSpPr>
          <p:spPr>
            <a:xfrm>
              <a:off x="2779560" y="45975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7" name=""/>
            <p:cNvSpPr/>
            <p:nvPr/>
          </p:nvSpPr>
          <p:spPr>
            <a:xfrm>
              <a:off x="2779560" y="45975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8" name=""/>
            <p:cNvSpPr/>
            <p:nvPr/>
          </p:nvSpPr>
          <p:spPr>
            <a:xfrm>
              <a:off x="2779560" y="4597560"/>
              <a:ext cx="18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9" name=""/>
            <p:cNvSpPr/>
            <p:nvPr/>
          </p:nvSpPr>
          <p:spPr>
            <a:xfrm>
              <a:off x="2779560" y="46148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0" name=""/>
            <p:cNvSpPr/>
            <p:nvPr/>
          </p:nvSpPr>
          <p:spPr>
            <a:xfrm>
              <a:off x="2779560" y="461484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1" name=""/>
            <p:cNvSpPr/>
            <p:nvPr/>
          </p:nvSpPr>
          <p:spPr>
            <a:xfrm>
              <a:off x="2793960" y="461484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2" name=""/>
            <p:cNvSpPr/>
            <p:nvPr/>
          </p:nvSpPr>
          <p:spPr>
            <a:xfrm>
              <a:off x="2793960" y="46339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3" name=""/>
            <p:cNvSpPr/>
            <p:nvPr/>
          </p:nvSpPr>
          <p:spPr>
            <a:xfrm>
              <a:off x="2793960" y="46339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4" name=""/>
            <p:cNvSpPr/>
            <p:nvPr/>
          </p:nvSpPr>
          <p:spPr>
            <a:xfrm>
              <a:off x="2793960" y="46339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2793960" y="4633920"/>
              <a:ext cx="18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2793960" y="465120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2793960" y="465120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8" name=""/>
            <p:cNvSpPr/>
            <p:nvPr/>
          </p:nvSpPr>
          <p:spPr>
            <a:xfrm>
              <a:off x="2793960" y="465120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9" name=""/>
            <p:cNvSpPr/>
            <p:nvPr/>
          </p:nvSpPr>
          <p:spPr>
            <a:xfrm>
              <a:off x="2793960" y="467028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0" name=""/>
            <p:cNvSpPr/>
            <p:nvPr/>
          </p:nvSpPr>
          <p:spPr>
            <a:xfrm>
              <a:off x="2793960" y="4670280"/>
              <a:ext cx="15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1" name=""/>
            <p:cNvSpPr/>
            <p:nvPr/>
          </p:nvSpPr>
          <p:spPr>
            <a:xfrm>
              <a:off x="2809800" y="467028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2" name=""/>
            <p:cNvSpPr/>
            <p:nvPr/>
          </p:nvSpPr>
          <p:spPr>
            <a:xfrm>
              <a:off x="2809800" y="467028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3" name=""/>
            <p:cNvSpPr/>
            <p:nvPr/>
          </p:nvSpPr>
          <p:spPr>
            <a:xfrm>
              <a:off x="2809800" y="46893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4" name=""/>
            <p:cNvSpPr/>
            <p:nvPr/>
          </p:nvSpPr>
          <p:spPr>
            <a:xfrm>
              <a:off x="2809800" y="46893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5" name=""/>
            <p:cNvSpPr/>
            <p:nvPr/>
          </p:nvSpPr>
          <p:spPr>
            <a:xfrm>
              <a:off x="2809800" y="4689360"/>
              <a:ext cx="180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6" name=""/>
            <p:cNvSpPr/>
            <p:nvPr/>
          </p:nvSpPr>
          <p:spPr>
            <a:xfrm>
              <a:off x="2809800" y="47052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7" name=""/>
            <p:cNvSpPr/>
            <p:nvPr/>
          </p:nvSpPr>
          <p:spPr>
            <a:xfrm>
              <a:off x="2809800" y="47052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8" name=""/>
            <p:cNvSpPr/>
            <p:nvPr/>
          </p:nvSpPr>
          <p:spPr>
            <a:xfrm>
              <a:off x="2809800" y="47052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9" name=""/>
            <p:cNvSpPr/>
            <p:nvPr/>
          </p:nvSpPr>
          <p:spPr>
            <a:xfrm>
              <a:off x="2809800" y="470520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0" name=""/>
            <p:cNvSpPr/>
            <p:nvPr/>
          </p:nvSpPr>
          <p:spPr>
            <a:xfrm>
              <a:off x="2809800" y="472428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1" name=""/>
            <p:cNvSpPr/>
            <p:nvPr/>
          </p:nvSpPr>
          <p:spPr>
            <a:xfrm>
              <a:off x="2824200" y="47242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2" name=""/>
            <p:cNvSpPr/>
            <p:nvPr/>
          </p:nvSpPr>
          <p:spPr>
            <a:xfrm>
              <a:off x="2824200" y="472428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3" name=""/>
            <p:cNvSpPr/>
            <p:nvPr/>
          </p:nvSpPr>
          <p:spPr>
            <a:xfrm>
              <a:off x="2824200" y="47419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4" name=""/>
            <p:cNvSpPr/>
            <p:nvPr/>
          </p:nvSpPr>
          <p:spPr>
            <a:xfrm>
              <a:off x="2824200" y="47419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5" name=""/>
            <p:cNvSpPr/>
            <p:nvPr/>
          </p:nvSpPr>
          <p:spPr>
            <a:xfrm>
              <a:off x="2824200" y="474192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6" name=""/>
            <p:cNvSpPr/>
            <p:nvPr/>
          </p:nvSpPr>
          <p:spPr>
            <a:xfrm>
              <a:off x="2824200" y="47610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7" name=""/>
            <p:cNvSpPr/>
            <p:nvPr/>
          </p:nvSpPr>
          <p:spPr>
            <a:xfrm>
              <a:off x="2824200" y="47610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8" name=""/>
            <p:cNvSpPr/>
            <p:nvPr/>
          </p:nvSpPr>
          <p:spPr>
            <a:xfrm>
              <a:off x="2824200" y="476100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9" name=""/>
            <p:cNvSpPr/>
            <p:nvPr/>
          </p:nvSpPr>
          <p:spPr>
            <a:xfrm>
              <a:off x="2824200" y="477828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0" name=""/>
            <p:cNvSpPr/>
            <p:nvPr/>
          </p:nvSpPr>
          <p:spPr>
            <a:xfrm>
              <a:off x="2838600" y="47782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1" name=""/>
            <p:cNvSpPr/>
            <p:nvPr/>
          </p:nvSpPr>
          <p:spPr>
            <a:xfrm>
              <a:off x="2838600" y="47782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2" name=""/>
            <p:cNvSpPr/>
            <p:nvPr/>
          </p:nvSpPr>
          <p:spPr>
            <a:xfrm>
              <a:off x="2838600" y="477828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2838600" y="47973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2838600" y="47973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5" name=""/>
            <p:cNvSpPr/>
            <p:nvPr/>
          </p:nvSpPr>
          <p:spPr>
            <a:xfrm>
              <a:off x="2838600" y="479736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6" name=""/>
            <p:cNvSpPr/>
            <p:nvPr/>
          </p:nvSpPr>
          <p:spPr>
            <a:xfrm>
              <a:off x="2838600" y="481500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7" name=""/>
            <p:cNvSpPr/>
            <p:nvPr/>
          </p:nvSpPr>
          <p:spPr>
            <a:xfrm>
              <a:off x="2838600" y="481500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8" name=""/>
            <p:cNvSpPr/>
            <p:nvPr/>
          </p:nvSpPr>
          <p:spPr>
            <a:xfrm>
              <a:off x="2838600" y="4815000"/>
              <a:ext cx="158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9" name=""/>
            <p:cNvSpPr/>
            <p:nvPr/>
          </p:nvSpPr>
          <p:spPr>
            <a:xfrm>
              <a:off x="2854440" y="48340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0" name=""/>
            <p:cNvSpPr/>
            <p:nvPr/>
          </p:nvSpPr>
          <p:spPr>
            <a:xfrm>
              <a:off x="2854440" y="48340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1" name=""/>
            <p:cNvSpPr/>
            <p:nvPr/>
          </p:nvSpPr>
          <p:spPr>
            <a:xfrm>
              <a:off x="2854440" y="483408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2" name=""/>
            <p:cNvSpPr/>
            <p:nvPr/>
          </p:nvSpPr>
          <p:spPr>
            <a:xfrm>
              <a:off x="2854440" y="485136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3" name=""/>
            <p:cNvSpPr/>
            <p:nvPr/>
          </p:nvSpPr>
          <p:spPr>
            <a:xfrm>
              <a:off x="2854440" y="485136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2854440" y="485136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5" name=""/>
            <p:cNvSpPr/>
            <p:nvPr/>
          </p:nvSpPr>
          <p:spPr>
            <a:xfrm>
              <a:off x="2854440" y="48704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2854440" y="487044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2867040" y="487044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2867040" y="4889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2867040" y="4889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0" name=""/>
            <p:cNvSpPr/>
            <p:nvPr/>
          </p:nvSpPr>
          <p:spPr>
            <a:xfrm>
              <a:off x="2867040" y="488952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1" name=""/>
            <p:cNvSpPr/>
            <p:nvPr/>
          </p:nvSpPr>
          <p:spPr>
            <a:xfrm>
              <a:off x="2867040" y="490680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2" name=""/>
            <p:cNvSpPr/>
            <p:nvPr/>
          </p:nvSpPr>
          <p:spPr>
            <a:xfrm>
              <a:off x="2867040" y="490680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3" name=""/>
            <p:cNvSpPr/>
            <p:nvPr/>
          </p:nvSpPr>
          <p:spPr>
            <a:xfrm>
              <a:off x="2867040" y="490680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4" name=""/>
            <p:cNvSpPr/>
            <p:nvPr/>
          </p:nvSpPr>
          <p:spPr>
            <a:xfrm>
              <a:off x="2867040" y="49258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5" name=""/>
            <p:cNvSpPr/>
            <p:nvPr/>
          </p:nvSpPr>
          <p:spPr>
            <a:xfrm>
              <a:off x="2867040" y="492588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6" name=""/>
            <p:cNvSpPr/>
            <p:nvPr/>
          </p:nvSpPr>
          <p:spPr>
            <a:xfrm>
              <a:off x="2881440" y="492588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7" name=""/>
            <p:cNvSpPr/>
            <p:nvPr/>
          </p:nvSpPr>
          <p:spPr>
            <a:xfrm>
              <a:off x="2881440" y="4943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8" name=""/>
            <p:cNvSpPr/>
            <p:nvPr/>
          </p:nvSpPr>
          <p:spPr>
            <a:xfrm>
              <a:off x="2881440" y="494352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9" name=""/>
            <p:cNvSpPr/>
            <p:nvPr/>
          </p:nvSpPr>
          <p:spPr>
            <a:xfrm>
              <a:off x="2881440" y="49626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0" name=""/>
            <p:cNvSpPr/>
            <p:nvPr/>
          </p:nvSpPr>
          <p:spPr>
            <a:xfrm>
              <a:off x="2881440" y="49626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1" name=""/>
            <p:cNvSpPr/>
            <p:nvPr/>
          </p:nvSpPr>
          <p:spPr>
            <a:xfrm>
              <a:off x="2881440" y="496260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2" name=""/>
            <p:cNvSpPr/>
            <p:nvPr/>
          </p:nvSpPr>
          <p:spPr>
            <a:xfrm>
              <a:off x="2881440" y="4979880"/>
              <a:ext cx="158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3" name=""/>
            <p:cNvSpPr/>
            <p:nvPr/>
          </p:nvSpPr>
          <p:spPr>
            <a:xfrm>
              <a:off x="2897280" y="497988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4" name=""/>
            <p:cNvSpPr/>
            <p:nvPr/>
          </p:nvSpPr>
          <p:spPr>
            <a:xfrm>
              <a:off x="2897280" y="497988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5" name=""/>
            <p:cNvSpPr/>
            <p:nvPr/>
          </p:nvSpPr>
          <p:spPr>
            <a:xfrm>
              <a:off x="2897280" y="4997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6" name=""/>
            <p:cNvSpPr/>
            <p:nvPr/>
          </p:nvSpPr>
          <p:spPr>
            <a:xfrm>
              <a:off x="2897280" y="4997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7" name=""/>
            <p:cNvSpPr/>
            <p:nvPr/>
          </p:nvSpPr>
          <p:spPr>
            <a:xfrm>
              <a:off x="2897280" y="499752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8" name=""/>
            <p:cNvSpPr/>
            <p:nvPr/>
          </p:nvSpPr>
          <p:spPr>
            <a:xfrm>
              <a:off x="2897280" y="501480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2897280" y="501480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2897280" y="5033880"/>
              <a:ext cx="1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2911320" y="503388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2911320" y="503388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2911320" y="50529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4" name=""/>
            <p:cNvSpPr/>
            <p:nvPr/>
          </p:nvSpPr>
          <p:spPr>
            <a:xfrm>
              <a:off x="2911320" y="50529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5" name=""/>
            <p:cNvSpPr/>
            <p:nvPr/>
          </p:nvSpPr>
          <p:spPr>
            <a:xfrm>
              <a:off x="2911320" y="5052960"/>
              <a:ext cx="18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6" name=""/>
            <p:cNvSpPr/>
            <p:nvPr/>
          </p:nvSpPr>
          <p:spPr>
            <a:xfrm>
              <a:off x="2911320" y="507060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7" name=""/>
            <p:cNvSpPr/>
            <p:nvPr/>
          </p:nvSpPr>
          <p:spPr>
            <a:xfrm>
              <a:off x="2911320" y="5070600"/>
              <a:ext cx="144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8" name=""/>
            <p:cNvSpPr/>
            <p:nvPr/>
          </p:nvSpPr>
          <p:spPr>
            <a:xfrm>
              <a:off x="2925720" y="50896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9" name=""/>
            <p:cNvSpPr/>
            <p:nvPr/>
          </p:nvSpPr>
          <p:spPr>
            <a:xfrm>
              <a:off x="2925720" y="50896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0" name=""/>
            <p:cNvSpPr/>
            <p:nvPr/>
          </p:nvSpPr>
          <p:spPr>
            <a:xfrm>
              <a:off x="2925720" y="5089680"/>
              <a:ext cx="18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1" name=""/>
            <p:cNvSpPr/>
            <p:nvPr/>
          </p:nvSpPr>
          <p:spPr>
            <a:xfrm>
              <a:off x="2925720" y="51069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2" name=""/>
            <p:cNvSpPr/>
            <p:nvPr/>
          </p:nvSpPr>
          <p:spPr>
            <a:xfrm>
              <a:off x="2925720" y="51069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2925720" y="510696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4" name=""/>
            <p:cNvSpPr/>
            <p:nvPr/>
          </p:nvSpPr>
          <p:spPr>
            <a:xfrm>
              <a:off x="2925720" y="512604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5" name=""/>
            <p:cNvSpPr/>
            <p:nvPr/>
          </p:nvSpPr>
          <p:spPr>
            <a:xfrm>
              <a:off x="2938320" y="5126040"/>
              <a:ext cx="18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6" name=""/>
            <p:cNvSpPr/>
            <p:nvPr/>
          </p:nvSpPr>
          <p:spPr>
            <a:xfrm>
              <a:off x="2938320" y="5143680"/>
              <a:ext cx="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7" name=""/>
            <p:cNvSpPr/>
            <p:nvPr/>
          </p:nvSpPr>
          <p:spPr>
            <a:xfrm>
              <a:off x="2938320" y="5143680"/>
              <a:ext cx="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8" name=""/>
            <p:cNvSpPr/>
            <p:nvPr/>
          </p:nvSpPr>
          <p:spPr>
            <a:xfrm>
              <a:off x="2938320" y="5143680"/>
              <a:ext cx="180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9" name=""/>
            <p:cNvSpPr/>
            <p:nvPr/>
          </p:nvSpPr>
          <p:spPr>
            <a:xfrm>
              <a:off x="2938320" y="51624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2938320" y="5162400"/>
              <a:ext cx="158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1" name=""/>
            <p:cNvSpPr/>
            <p:nvPr/>
          </p:nvSpPr>
          <p:spPr>
            <a:xfrm>
              <a:off x="2954160" y="518148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2" name=""/>
            <p:cNvSpPr/>
            <p:nvPr/>
          </p:nvSpPr>
          <p:spPr>
            <a:xfrm>
              <a:off x="2954160" y="5181480"/>
              <a:ext cx="18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3" name=""/>
            <p:cNvSpPr/>
            <p:nvPr/>
          </p:nvSpPr>
          <p:spPr>
            <a:xfrm>
              <a:off x="2954160" y="5199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4" name=""/>
            <p:cNvSpPr/>
            <p:nvPr/>
          </p:nvSpPr>
          <p:spPr>
            <a:xfrm>
              <a:off x="2954160" y="5199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5" name=""/>
            <p:cNvSpPr/>
            <p:nvPr/>
          </p:nvSpPr>
          <p:spPr>
            <a:xfrm>
              <a:off x="2954160" y="519912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6" name=""/>
            <p:cNvSpPr/>
            <p:nvPr/>
          </p:nvSpPr>
          <p:spPr>
            <a:xfrm>
              <a:off x="2954160" y="521820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7" name=""/>
            <p:cNvSpPr/>
            <p:nvPr/>
          </p:nvSpPr>
          <p:spPr>
            <a:xfrm>
              <a:off x="2968560" y="5218200"/>
              <a:ext cx="18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8" name=""/>
            <p:cNvSpPr/>
            <p:nvPr/>
          </p:nvSpPr>
          <p:spPr>
            <a:xfrm>
              <a:off x="2968560" y="523548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2968560" y="523548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0" name=""/>
            <p:cNvSpPr/>
            <p:nvPr/>
          </p:nvSpPr>
          <p:spPr>
            <a:xfrm>
              <a:off x="2968560" y="523548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1" name=""/>
            <p:cNvSpPr/>
            <p:nvPr/>
          </p:nvSpPr>
          <p:spPr>
            <a:xfrm>
              <a:off x="2968560" y="52545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2" name=""/>
            <p:cNvSpPr/>
            <p:nvPr/>
          </p:nvSpPr>
          <p:spPr>
            <a:xfrm>
              <a:off x="2968560" y="5254560"/>
              <a:ext cx="144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3" name=""/>
            <p:cNvSpPr/>
            <p:nvPr/>
          </p:nvSpPr>
          <p:spPr>
            <a:xfrm>
              <a:off x="2982960" y="527220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4" name=""/>
            <p:cNvSpPr/>
            <p:nvPr/>
          </p:nvSpPr>
          <p:spPr>
            <a:xfrm>
              <a:off x="2982960" y="527220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5" name=""/>
            <p:cNvSpPr/>
            <p:nvPr/>
          </p:nvSpPr>
          <p:spPr>
            <a:xfrm>
              <a:off x="2982960" y="5291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6" name=""/>
            <p:cNvSpPr/>
            <p:nvPr/>
          </p:nvSpPr>
          <p:spPr>
            <a:xfrm>
              <a:off x="2982960" y="5291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7" name=""/>
            <p:cNvSpPr/>
            <p:nvPr/>
          </p:nvSpPr>
          <p:spPr>
            <a:xfrm>
              <a:off x="2982960" y="5291280"/>
              <a:ext cx="1584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8" name=""/>
            <p:cNvSpPr/>
            <p:nvPr/>
          </p:nvSpPr>
          <p:spPr>
            <a:xfrm>
              <a:off x="2998800" y="530712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9" name=""/>
            <p:cNvSpPr/>
            <p:nvPr/>
          </p:nvSpPr>
          <p:spPr>
            <a:xfrm>
              <a:off x="2998800" y="530712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0" name=""/>
            <p:cNvSpPr/>
            <p:nvPr/>
          </p:nvSpPr>
          <p:spPr>
            <a:xfrm>
              <a:off x="2998800" y="5326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1" name=""/>
            <p:cNvSpPr/>
            <p:nvPr/>
          </p:nvSpPr>
          <p:spPr>
            <a:xfrm>
              <a:off x="2998800" y="532620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2" name=""/>
            <p:cNvSpPr/>
            <p:nvPr/>
          </p:nvSpPr>
          <p:spPr>
            <a:xfrm>
              <a:off x="2998800" y="534528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3" name=""/>
            <p:cNvSpPr/>
            <p:nvPr/>
          </p:nvSpPr>
          <p:spPr>
            <a:xfrm>
              <a:off x="3013200" y="534528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4" name=""/>
            <p:cNvSpPr/>
            <p:nvPr/>
          </p:nvSpPr>
          <p:spPr>
            <a:xfrm>
              <a:off x="3013200" y="53625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5" name=""/>
            <p:cNvSpPr/>
            <p:nvPr/>
          </p:nvSpPr>
          <p:spPr>
            <a:xfrm>
              <a:off x="3013200" y="536256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6" name=""/>
            <p:cNvSpPr/>
            <p:nvPr/>
          </p:nvSpPr>
          <p:spPr>
            <a:xfrm>
              <a:off x="3013200" y="53816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7" name=""/>
            <p:cNvSpPr/>
            <p:nvPr/>
          </p:nvSpPr>
          <p:spPr>
            <a:xfrm>
              <a:off x="3013200" y="538164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8" name=""/>
            <p:cNvSpPr/>
            <p:nvPr/>
          </p:nvSpPr>
          <p:spPr>
            <a:xfrm>
              <a:off x="3025800" y="538164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9" name=""/>
            <p:cNvSpPr/>
            <p:nvPr/>
          </p:nvSpPr>
          <p:spPr>
            <a:xfrm>
              <a:off x="3025800" y="539892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0" name=""/>
            <p:cNvSpPr/>
            <p:nvPr/>
          </p:nvSpPr>
          <p:spPr>
            <a:xfrm>
              <a:off x="3025800" y="539892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1" name=""/>
            <p:cNvSpPr/>
            <p:nvPr/>
          </p:nvSpPr>
          <p:spPr>
            <a:xfrm>
              <a:off x="3025800" y="541800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2" name=""/>
            <p:cNvSpPr/>
            <p:nvPr/>
          </p:nvSpPr>
          <p:spPr>
            <a:xfrm>
              <a:off x="3040200" y="541800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3" name=""/>
            <p:cNvSpPr/>
            <p:nvPr/>
          </p:nvSpPr>
          <p:spPr>
            <a:xfrm>
              <a:off x="3040200" y="543564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4" name=""/>
            <p:cNvSpPr/>
            <p:nvPr/>
          </p:nvSpPr>
          <p:spPr>
            <a:xfrm>
              <a:off x="3040200" y="543564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5" name=""/>
            <p:cNvSpPr/>
            <p:nvPr/>
          </p:nvSpPr>
          <p:spPr>
            <a:xfrm>
              <a:off x="3040200" y="54547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6" name=""/>
            <p:cNvSpPr/>
            <p:nvPr/>
          </p:nvSpPr>
          <p:spPr>
            <a:xfrm>
              <a:off x="3040200" y="5454720"/>
              <a:ext cx="158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7" name=""/>
            <p:cNvSpPr/>
            <p:nvPr/>
          </p:nvSpPr>
          <p:spPr>
            <a:xfrm>
              <a:off x="3056040" y="547200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8" name=""/>
            <p:cNvSpPr/>
            <p:nvPr/>
          </p:nvSpPr>
          <p:spPr>
            <a:xfrm>
              <a:off x="3056040" y="547200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9" name=""/>
            <p:cNvSpPr/>
            <p:nvPr/>
          </p:nvSpPr>
          <p:spPr>
            <a:xfrm>
              <a:off x="3056040" y="54910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0" name=""/>
            <p:cNvSpPr/>
            <p:nvPr/>
          </p:nvSpPr>
          <p:spPr>
            <a:xfrm>
              <a:off x="3056040" y="5491080"/>
              <a:ext cx="140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1" name=""/>
            <p:cNvSpPr/>
            <p:nvPr/>
          </p:nvSpPr>
          <p:spPr>
            <a:xfrm>
              <a:off x="3070080" y="55101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2" name=""/>
            <p:cNvSpPr/>
            <p:nvPr/>
          </p:nvSpPr>
          <p:spPr>
            <a:xfrm>
              <a:off x="3070080" y="5510160"/>
              <a:ext cx="18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3" name=""/>
            <p:cNvSpPr/>
            <p:nvPr/>
          </p:nvSpPr>
          <p:spPr>
            <a:xfrm>
              <a:off x="3070080" y="552780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4" name=""/>
            <p:cNvSpPr/>
            <p:nvPr/>
          </p:nvSpPr>
          <p:spPr>
            <a:xfrm>
              <a:off x="3084480" y="552780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5" name=""/>
            <p:cNvSpPr/>
            <p:nvPr/>
          </p:nvSpPr>
          <p:spPr>
            <a:xfrm>
              <a:off x="3084480" y="55468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6" name=""/>
            <p:cNvSpPr/>
            <p:nvPr/>
          </p:nvSpPr>
          <p:spPr>
            <a:xfrm>
              <a:off x="3084480" y="5546880"/>
              <a:ext cx="18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7" name=""/>
            <p:cNvSpPr/>
            <p:nvPr/>
          </p:nvSpPr>
          <p:spPr>
            <a:xfrm>
              <a:off x="3084480" y="556416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8" name=""/>
            <p:cNvSpPr/>
            <p:nvPr/>
          </p:nvSpPr>
          <p:spPr>
            <a:xfrm>
              <a:off x="3098880" y="556416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9" name=""/>
            <p:cNvSpPr/>
            <p:nvPr/>
          </p:nvSpPr>
          <p:spPr>
            <a:xfrm>
              <a:off x="3098880" y="55832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0" name=""/>
            <p:cNvSpPr/>
            <p:nvPr/>
          </p:nvSpPr>
          <p:spPr>
            <a:xfrm>
              <a:off x="3098880" y="5583240"/>
              <a:ext cx="1404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1" name=""/>
            <p:cNvSpPr/>
            <p:nvPr/>
          </p:nvSpPr>
          <p:spPr>
            <a:xfrm>
              <a:off x="3112920" y="559908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2" name=""/>
            <p:cNvSpPr/>
            <p:nvPr/>
          </p:nvSpPr>
          <p:spPr>
            <a:xfrm>
              <a:off x="3112920" y="56181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3" name=""/>
            <p:cNvSpPr/>
            <p:nvPr/>
          </p:nvSpPr>
          <p:spPr>
            <a:xfrm>
              <a:off x="3112920" y="5618160"/>
              <a:ext cx="144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4" name=""/>
            <p:cNvSpPr/>
            <p:nvPr/>
          </p:nvSpPr>
          <p:spPr>
            <a:xfrm>
              <a:off x="3127320" y="5635800"/>
              <a:ext cx="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5" name=""/>
            <p:cNvSpPr/>
            <p:nvPr/>
          </p:nvSpPr>
          <p:spPr>
            <a:xfrm>
              <a:off x="3127320" y="5635800"/>
              <a:ext cx="180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6" name=""/>
            <p:cNvSpPr/>
            <p:nvPr/>
          </p:nvSpPr>
          <p:spPr>
            <a:xfrm>
              <a:off x="3127320" y="565452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7" name=""/>
            <p:cNvSpPr/>
            <p:nvPr/>
          </p:nvSpPr>
          <p:spPr>
            <a:xfrm>
              <a:off x="3141720" y="565452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8" name=""/>
            <p:cNvSpPr/>
            <p:nvPr/>
          </p:nvSpPr>
          <p:spPr>
            <a:xfrm>
              <a:off x="3141720" y="5673600"/>
              <a:ext cx="15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9" name=""/>
            <p:cNvSpPr/>
            <p:nvPr/>
          </p:nvSpPr>
          <p:spPr>
            <a:xfrm>
              <a:off x="3157560" y="567360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0" name=""/>
            <p:cNvSpPr/>
            <p:nvPr/>
          </p:nvSpPr>
          <p:spPr>
            <a:xfrm>
              <a:off x="3157560" y="569124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1" name=""/>
            <p:cNvSpPr/>
            <p:nvPr/>
          </p:nvSpPr>
          <p:spPr>
            <a:xfrm>
              <a:off x="3157560" y="571032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2" name=""/>
            <p:cNvSpPr/>
            <p:nvPr/>
          </p:nvSpPr>
          <p:spPr>
            <a:xfrm>
              <a:off x="3171960" y="571032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3" name=""/>
            <p:cNvSpPr/>
            <p:nvPr/>
          </p:nvSpPr>
          <p:spPr>
            <a:xfrm>
              <a:off x="3171960" y="572760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4" name=""/>
            <p:cNvSpPr/>
            <p:nvPr/>
          </p:nvSpPr>
          <p:spPr>
            <a:xfrm>
              <a:off x="3184560" y="572760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5" name=""/>
            <p:cNvSpPr/>
            <p:nvPr/>
          </p:nvSpPr>
          <p:spPr>
            <a:xfrm>
              <a:off x="3184560" y="5746680"/>
              <a:ext cx="158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6" name=""/>
            <p:cNvSpPr/>
            <p:nvPr/>
          </p:nvSpPr>
          <p:spPr>
            <a:xfrm>
              <a:off x="3200400" y="576432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7" name=""/>
            <p:cNvSpPr/>
            <p:nvPr/>
          </p:nvSpPr>
          <p:spPr>
            <a:xfrm>
              <a:off x="3200400" y="5764320"/>
              <a:ext cx="144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8" name=""/>
            <p:cNvSpPr/>
            <p:nvPr/>
          </p:nvSpPr>
          <p:spPr>
            <a:xfrm>
              <a:off x="3214800" y="57834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9" name=""/>
            <p:cNvSpPr/>
            <p:nvPr/>
          </p:nvSpPr>
          <p:spPr>
            <a:xfrm>
              <a:off x="3214800" y="5783400"/>
              <a:ext cx="140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0" name=""/>
            <p:cNvSpPr/>
            <p:nvPr/>
          </p:nvSpPr>
          <p:spPr>
            <a:xfrm>
              <a:off x="3228840" y="5800680"/>
              <a:ext cx="144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1" name=""/>
            <p:cNvSpPr/>
            <p:nvPr/>
          </p:nvSpPr>
          <p:spPr>
            <a:xfrm>
              <a:off x="3243240" y="5819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2" name=""/>
            <p:cNvSpPr/>
            <p:nvPr/>
          </p:nvSpPr>
          <p:spPr>
            <a:xfrm>
              <a:off x="3243240" y="5819760"/>
              <a:ext cx="158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3" name=""/>
            <p:cNvSpPr/>
            <p:nvPr/>
          </p:nvSpPr>
          <p:spPr>
            <a:xfrm>
              <a:off x="3259080" y="5837400"/>
              <a:ext cx="1440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4" name=""/>
            <p:cNvSpPr/>
            <p:nvPr/>
          </p:nvSpPr>
          <p:spPr>
            <a:xfrm>
              <a:off x="3273480" y="585612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5" name=""/>
            <p:cNvSpPr/>
            <p:nvPr/>
          </p:nvSpPr>
          <p:spPr>
            <a:xfrm>
              <a:off x="3287880" y="5856120"/>
              <a:ext cx="140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6" name=""/>
            <p:cNvSpPr/>
            <p:nvPr/>
          </p:nvSpPr>
          <p:spPr>
            <a:xfrm>
              <a:off x="3301920" y="5875200"/>
              <a:ext cx="144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7" name=""/>
            <p:cNvSpPr/>
            <p:nvPr/>
          </p:nvSpPr>
          <p:spPr>
            <a:xfrm>
              <a:off x="3316320" y="589284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8" name=""/>
            <p:cNvSpPr/>
            <p:nvPr/>
          </p:nvSpPr>
          <p:spPr>
            <a:xfrm>
              <a:off x="3330720" y="5892840"/>
              <a:ext cx="158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9" name=""/>
            <p:cNvSpPr/>
            <p:nvPr/>
          </p:nvSpPr>
          <p:spPr>
            <a:xfrm>
              <a:off x="3346560" y="5910120"/>
              <a:ext cx="140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0" name=""/>
            <p:cNvSpPr/>
            <p:nvPr/>
          </p:nvSpPr>
          <p:spPr>
            <a:xfrm>
              <a:off x="3360600" y="5927760"/>
              <a:ext cx="270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1" name=""/>
            <p:cNvSpPr/>
            <p:nvPr/>
          </p:nvSpPr>
          <p:spPr>
            <a:xfrm>
              <a:off x="3387600" y="594684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2" name=""/>
            <p:cNvSpPr/>
            <p:nvPr/>
          </p:nvSpPr>
          <p:spPr>
            <a:xfrm>
              <a:off x="3417840" y="5946840"/>
              <a:ext cx="302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3" name=""/>
            <p:cNvSpPr/>
            <p:nvPr/>
          </p:nvSpPr>
          <p:spPr>
            <a:xfrm>
              <a:off x="3448080" y="5964120"/>
              <a:ext cx="572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4" name=""/>
            <p:cNvSpPr/>
            <p:nvPr/>
          </p:nvSpPr>
          <p:spPr>
            <a:xfrm>
              <a:off x="3505320" y="5983200"/>
              <a:ext cx="7128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95" name=""/>
          <p:cNvSpPr/>
          <p:nvPr/>
        </p:nvSpPr>
        <p:spPr>
          <a:xfrm>
            <a:off x="405360" y="592776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6" name=""/>
          <p:cNvSpPr/>
          <p:nvPr/>
        </p:nvSpPr>
        <p:spPr>
          <a:xfrm>
            <a:off x="405360" y="55468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7" name=""/>
          <p:cNvSpPr/>
          <p:nvPr/>
        </p:nvSpPr>
        <p:spPr>
          <a:xfrm>
            <a:off x="405360" y="516240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8" name=""/>
          <p:cNvSpPr/>
          <p:nvPr/>
        </p:nvSpPr>
        <p:spPr>
          <a:xfrm>
            <a:off x="405360" y="479736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9" name=""/>
          <p:cNvSpPr/>
          <p:nvPr/>
        </p:nvSpPr>
        <p:spPr>
          <a:xfrm>
            <a:off x="405360" y="4413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0" name=""/>
          <p:cNvSpPr/>
          <p:nvPr/>
        </p:nvSpPr>
        <p:spPr>
          <a:xfrm>
            <a:off x="433800" y="403236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1" name=""/>
          <p:cNvSpPr/>
          <p:nvPr/>
        </p:nvSpPr>
        <p:spPr>
          <a:xfrm>
            <a:off x="433800" y="36496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2" name=""/>
          <p:cNvSpPr/>
          <p:nvPr/>
        </p:nvSpPr>
        <p:spPr>
          <a:xfrm>
            <a:off x="737640" y="61293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3" name=""/>
          <p:cNvSpPr/>
          <p:nvPr/>
        </p:nvSpPr>
        <p:spPr>
          <a:xfrm>
            <a:off x="1274040" y="61293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4" name=""/>
          <p:cNvSpPr/>
          <p:nvPr/>
        </p:nvSpPr>
        <p:spPr>
          <a:xfrm>
            <a:off x="1780560" y="61293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5" name=""/>
          <p:cNvSpPr/>
          <p:nvPr/>
        </p:nvSpPr>
        <p:spPr>
          <a:xfrm>
            <a:off x="2316960" y="61293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6" name=""/>
          <p:cNvSpPr/>
          <p:nvPr/>
        </p:nvSpPr>
        <p:spPr>
          <a:xfrm>
            <a:off x="2823480" y="61293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7" name=""/>
          <p:cNvSpPr/>
          <p:nvPr/>
        </p:nvSpPr>
        <p:spPr>
          <a:xfrm>
            <a:off x="3358440" y="61293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8" name=""/>
          <p:cNvSpPr/>
          <p:nvPr/>
        </p:nvSpPr>
        <p:spPr>
          <a:xfrm>
            <a:off x="3879000" y="61293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9" name=""/>
          <p:cNvSpPr/>
          <p:nvPr/>
        </p:nvSpPr>
        <p:spPr>
          <a:xfrm>
            <a:off x="2027160" y="6402240"/>
            <a:ext cx="739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pital C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0" name=""/>
          <p:cNvSpPr/>
          <p:nvPr/>
        </p:nvSpPr>
        <p:spPr>
          <a:xfrm>
            <a:off x="0" y="3430440"/>
            <a:ext cx="432900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1" name=""/>
          <p:cNvSpPr/>
          <p:nvPr/>
        </p:nvSpPr>
        <p:spPr>
          <a:xfrm rot="16200000">
            <a:off x="-41760" y="4764240"/>
            <a:ext cx="63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2" name=""/>
          <p:cNvGrpSpPr/>
          <p:nvPr/>
        </p:nvGrpSpPr>
        <p:grpSpPr>
          <a:xfrm>
            <a:off x="0" y="3425760"/>
            <a:ext cx="4329000" cy="3432240"/>
            <a:chOff x="0" y="3425760"/>
            <a:chExt cx="4329000" cy="3432240"/>
          </a:xfrm>
        </p:grpSpPr>
        <p:sp>
          <p:nvSpPr>
            <p:cNvPr id="6713" name=""/>
            <p:cNvSpPr/>
            <p:nvPr/>
          </p:nvSpPr>
          <p:spPr>
            <a:xfrm>
              <a:off x="0" y="3425760"/>
              <a:ext cx="4329000" cy="343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4" name=""/>
            <p:cNvSpPr/>
            <p:nvPr/>
          </p:nvSpPr>
          <p:spPr>
            <a:xfrm>
              <a:off x="666720" y="3738600"/>
              <a:ext cx="3343320" cy="2276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5" name=""/>
            <p:cNvSpPr/>
            <p:nvPr/>
          </p:nvSpPr>
          <p:spPr>
            <a:xfrm>
              <a:off x="639720" y="6014880"/>
              <a:ext cx="27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6" name=""/>
            <p:cNvSpPr/>
            <p:nvPr/>
          </p:nvSpPr>
          <p:spPr>
            <a:xfrm>
              <a:off x="639720" y="5629320"/>
              <a:ext cx="27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7" name=""/>
            <p:cNvSpPr/>
            <p:nvPr/>
          </p:nvSpPr>
          <p:spPr>
            <a:xfrm>
              <a:off x="639720" y="5261040"/>
              <a:ext cx="27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8" name=""/>
            <p:cNvSpPr/>
            <p:nvPr/>
          </p:nvSpPr>
          <p:spPr>
            <a:xfrm>
              <a:off x="639720" y="4875120"/>
              <a:ext cx="27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9" name=""/>
            <p:cNvSpPr/>
            <p:nvPr/>
          </p:nvSpPr>
          <p:spPr>
            <a:xfrm>
              <a:off x="639720" y="4489560"/>
              <a:ext cx="27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0" name=""/>
            <p:cNvSpPr/>
            <p:nvPr/>
          </p:nvSpPr>
          <p:spPr>
            <a:xfrm>
              <a:off x="639720" y="4124160"/>
              <a:ext cx="27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1" name=""/>
            <p:cNvSpPr/>
            <p:nvPr/>
          </p:nvSpPr>
          <p:spPr>
            <a:xfrm>
              <a:off x="639720" y="3738600"/>
              <a:ext cx="27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2" name=""/>
            <p:cNvSpPr/>
            <p:nvPr/>
          </p:nvSpPr>
          <p:spPr>
            <a:xfrm flipV="1">
              <a:off x="666720" y="60145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3" name=""/>
            <p:cNvSpPr/>
            <p:nvPr/>
          </p:nvSpPr>
          <p:spPr>
            <a:xfrm flipV="1">
              <a:off x="1220760" y="60145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4" name=""/>
            <p:cNvSpPr/>
            <p:nvPr/>
          </p:nvSpPr>
          <p:spPr>
            <a:xfrm flipV="1">
              <a:off x="1785960" y="60145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5" name=""/>
            <p:cNvSpPr/>
            <p:nvPr/>
          </p:nvSpPr>
          <p:spPr>
            <a:xfrm flipV="1">
              <a:off x="2338560" y="60145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6" name=""/>
            <p:cNvSpPr/>
            <p:nvPr/>
          </p:nvSpPr>
          <p:spPr>
            <a:xfrm flipV="1">
              <a:off x="2890800" y="601452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7" name=""/>
            <p:cNvSpPr/>
            <p:nvPr/>
          </p:nvSpPr>
          <p:spPr>
            <a:xfrm flipV="1">
              <a:off x="3457440" y="601452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8" name=""/>
            <p:cNvSpPr/>
            <p:nvPr/>
          </p:nvSpPr>
          <p:spPr>
            <a:xfrm flipV="1">
              <a:off x="4010040" y="60145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1133640" y="6014880"/>
              <a:ext cx="87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0" name=""/>
            <p:cNvSpPr/>
            <p:nvPr/>
          </p:nvSpPr>
          <p:spPr>
            <a:xfrm>
              <a:off x="1220760" y="6014880"/>
              <a:ext cx="41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1" name=""/>
            <p:cNvSpPr/>
            <p:nvPr/>
          </p:nvSpPr>
          <p:spPr>
            <a:xfrm>
              <a:off x="1262160" y="6014880"/>
              <a:ext cx="44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2" name=""/>
            <p:cNvSpPr/>
            <p:nvPr/>
          </p:nvSpPr>
          <p:spPr>
            <a:xfrm flipV="1">
              <a:off x="1306440" y="5996160"/>
              <a:ext cx="3024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3" name=""/>
            <p:cNvSpPr/>
            <p:nvPr/>
          </p:nvSpPr>
          <p:spPr>
            <a:xfrm>
              <a:off x="1336680" y="599616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4" name=""/>
            <p:cNvSpPr/>
            <p:nvPr/>
          </p:nvSpPr>
          <p:spPr>
            <a:xfrm>
              <a:off x="1365120" y="599616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5" name=""/>
            <p:cNvSpPr/>
            <p:nvPr/>
          </p:nvSpPr>
          <p:spPr>
            <a:xfrm>
              <a:off x="1379520" y="599616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6" name=""/>
            <p:cNvSpPr/>
            <p:nvPr/>
          </p:nvSpPr>
          <p:spPr>
            <a:xfrm>
              <a:off x="1393920" y="599616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7" name=""/>
            <p:cNvSpPr/>
            <p:nvPr/>
          </p:nvSpPr>
          <p:spPr>
            <a:xfrm>
              <a:off x="1424160" y="599616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8" name=""/>
            <p:cNvSpPr/>
            <p:nvPr/>
          </p:nvSpPr>
          <p:spPr>
            <a:xfrm>
              <a:off x="1436760" y="599616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9" name=""/>
            <p:cNvSpPr/>
            <p:nvPr/>
          </p:nvSpPr>
          <p:spPr>
            <a:xfrm>
              <a:off x="1452600" y="59961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0" name=""/>
            <p:cNvSpPr/>
            <p:nvPr/>
          </p:nvSpPr>
          <p:spPr>
            <a:xfrm>
              <a:off x="1452600" y="599616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1" name=""/>
            <p:cNvSpPr/>
            <p:nvPr/>
          </p:nvSpPr>
          <p:spPr>
            <a:xfrm>
              <a:off x="1467000" y="5996160"/>
              <a:ext cx="1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2" name=""/>
            <p:cNvSpPr/>
            <p:nvPr/>
          </p:nvSpPr>
          <p:spPr>
            <a:xfrm flipV="1">
              <a:off x="1481040" y="5978160"/>
              <a:ext cx="158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3" name=""/>
            <p:cNvSpPr/>
            <p:nvPr/>
          </p:nvSpPr>
          <p:spPr>
            <a:xfrm>
              <a:off x="1496880" y="59785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4" name=""/>
            <p:cNvSpPr/>
            <p:nvPr/>
          </p:nvSpPr>
          <p:spPr>
            <a:xfrm>
              <a:off x="1496880" y="597852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5" name=""/>
            <p:cNvSpPr/>
            <p:nvPr/>
          </p:nvSpPr>
          <p:spPr>
            <a:xfrm>
              <a:off x="1511280" y="597852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6" name=""/>
            <p:cNvSpPr/>
            <p:nvPr/>
          </p:nvSpPr>
          <p:spPr>
            <a:xfrm>
              <a:off x="1523880" y="59785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7" name=""/>
            <p:cNvSpPr/>
            <p:nvPr/>
          </p:nvSpPr>
          <p:spPr>
            <a:xfrm>
              <a:off x="1523880" y="597852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8" name=""/>
            <p:cNvSpPr/>
            <p:nvPr/>
          </p:nvSpPr>
          <p:spPr>
            <a:xfrm>
              <a:off x="1539720" y="59785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9" name=""/>
            <p:cNvSpPr/>
            <p:nvPr/>
          </p:nvSpPr>
          <p:spPr>
            <a:xfrm>
              <a:off x="1539720" y="597852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0" name=""/>
            <p:cNvSpPr/>
            <p:nvPr/>
          </p:nvSpPr>
          <p:spPr>
            <a:xfrm>
              <a:off x="1554120" y="59785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1" name=""/>
            <p:cNvSpPr/>
            <p:nvPr/>
          </p:nvSpPr>
          <p:spPr>
            <a:xfrm>
              <a:off x="1554120" y="597852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2" name=""/>
            <p:cNvSpPr/>
            <p:nvPr/>
          </p:nvSpPr>
          <p:spPr>
            <a:xfrm flipV="1">
              <a:off x="1568520" y="595908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3" name=""/>
            <p:cNvSpPr/>
            <p:nvPr/>
          </p:nvSpPr>
          <p:spPr>
            <a:xfrm>
              <a:off x="1568520" y="5959440"/>
              <a:ext cx="15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4" name=""/>
            <p:cNvSpPr/>
            <p:nvPr/>
          </p:nvSpPr>
          <p:spPr>
            <a:xfrm>
              <a:off x="1584360" y="59594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5" name=""/>
            <p:cNvSpPr/>
            <p:nvPr/>
          </p:nvSpPr>
          <p:spPr>
            <a:xfrm>
              <a:off x="1584360" y="595944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6" name=""/>
            <p:cNvSpPr/>
            <p:nvPr/>
          </p:nvSpPr>
          <p:spPr>
            <a:xfrm>
              <a:off x="1598760" y="59594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7" name=""/>
            <p:cNvSpPr/>
            <p:nvPr/>
          </p:nvSpPr>
          <p:spPr>
            <a:xfrm>
              <a:off x="1598760" y="595944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8" name=""/>
            <p:cNvSpPr/>
            <p:nvPr/>
          </p:nvSpPr>
          <p:spPr>
            <a:xfrm>
              <a:off x="1611360" y="59594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9" name=""/>
            <p:cNvSpPr/>
            <p:nvPr/>
          </p:nvSpPr>
          <p:spPr>
            <a:xfrm>
              <a:off x="1611360" y="59594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0" name=""/>
            <p:cNvSpPr/>
            <p:nvPr/>
          </p:nvSpPr>
          <p:spPr>
            <a:xfrm>
              <a:off x="1611360" y="595944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1" name=""/>
            <p:cNvSpPr/>
            <p:nvPr/>
          </p:nvSpPr>
          <p:spPr>
            <a:xfrm flipV="1">
              <a:off x="1625760" y="594000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2" name=""/>
            <p:cNvSpPr/>
            <p:nvPr/>
          </p:nvSpPr>
          <p:spPr>
            <a:xfrm>
              <a:off x="1625760" y="594036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3" name=""/>
            <p:cNvSpPr/>
            <p:nvPr/>
          </p:nvSpPr>
          <p:spPr>
            <a:xfrm>
              <a:off x="1625760" y="5940360"/>
              <a:ext cx="158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4" name=""/>
            <p:cNvSpPr/>
            <p:nvPr/>
          </p:nvSpPr>
          <p:spPr>
            <a:xfrm>
              <a:off x="1641600" y="594036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5" name=""/>
            <p:cNvSpPr/>
            <p:nvPr/>
          </p:nvSpPr>
          <p:spPr>
            <a:xfrm>
              <a:off x="1641600" y="594036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6" name=""/>
            <p:cNvSpPr/>
            <p:nvPr/>
          </p:nvSpPr>
          <p:spPr>
            <a:xfrm>
              <a:off x="1641600" y="5940360"/>
              <a:ext cx="140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7" name=""/>
            <p:cNvSpPr/>
            <p:nvPr/>
          </p:nvSpPr>
          <p:spPr>
            <a:xfrm>
              <a:off x="1655640" y="594036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8" name=""/>
            <p:cNvSpPr/>
            <p:nvPr/>
          </p:nvSpPr>
          <p:spPr>
            <a:xfrm>
              <a:off x="1655640" y="594036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9" name=""/>
            <p:cNvSpPr/>
            <p:nvPr/>
          </p:nvSpPr>
          <p:spPr>
            <a:xfrm>
              <a:off x="1655640" y="5940360"/>
              <a:ext cx="14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0" name=""/>
            <p:cNvSpPr/>
            <p:nvPr/>
          </p:nvSpPr>
          <p:spPr>
            <a:xfrm>
              <a:off x="1670040" y="594036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1" name=""/>
            <p:cNvSpPr/>
            <p:nvPr/>
          </p:nvSpPr>
          <p:spPr>
            <a:xfrm flipV="1">
              <a:off x="1670040" y="592308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2" name=""/>
            <p:cNvSpPr/>
            <p:nvPr/>
          </p:nvSpPr>
          <p:spPr>
            <a:xfrm>
              <a:off x="1670040" y="592308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3" name=""/>
            <p:cNvSpPr/>
            <p:nvPr/>
          </p:nvSpPr>
          <p:spPr>
            <a:xfrm>
              <a:off x="1685880" y="59230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4" name=""/>
            <p:cNvSpPr/>
            <p:nvPr/>
          </p:nvSpPr>
          <p:spPr>
            <a:xfrm>
              <a:off x="1685880" y="59230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5" name=""/>
            <p:cNvSpPr/>
            <p:nvPr/>
          </p:nvSpPr>
          <p:spPr>
            <a:xfrm>
              <a:off x="1685880" y="59230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6" name=""/>
            <p:cNvSpPr/>
            <p:nvPr/>
          </p:nvSpPr>
          <p:spPr>
            <a:xfrm>
              <a:off x="1685880" y="592308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7" name=""/>
            <p:cNvSpPr/>
            <p:nvPr/>
          </p:nvSpPr>
          <p:spPr>
            <a:xfrm>
              <a:off x="1698480" y="59230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8" name=""/>
            <p:cNvSpPr/>
            <p:nvPr/>
          </p:nvSpPr>
          <p:spPr>
            <a:xfrm>
              <a:off x="1698480" y="59230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9" name=""/>
            <p:cNvSpPr/>
            <p:nvPr/>
          </p:nvSpPr>
          <p:spPr>
            <a:xfrm>
              <a:off x="1698480" y="59230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0" name=""/>
            <p:cNvSpPr/>
            <p:nvPr/>
          </p:nvSpPr>
          <p:spPr>
            <a:xfrm>
              <a:off x="1698480" y="592308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1" name=""/>
            <p:cNvSpPr/>
            <p:nvPr/>
          </p:nvSpPr>
          <p:spPr>
            <a:xfrm flipV="1">
              <a:off x="1712880" y="590364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2" name=""/>
            <p:cNvSpPr/>
            <p:nvPr/>
          </p:nvSpPr>
          <p:spPr>
            <a:xfrm>
              <a:off x="1712880" y="590400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3" name=""/>
            <p:cNvSpPr/>
            <p:nvPr/>
          </p:nvSpPr>
          <p:spPr>
            <a:xfrm>
              <a:off x="1712880" y="590400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4" name=""/>
            <p:cNvSpPr/>
            <p:nvPr/>
          </p:nvSpPr>
          <p:spPr>
            <a:xfrm>
              <a:off x="1712880" y="590400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5" name=""/>
            <p:cNvSpPr/>
            <p:nvPr/>
          </p:nvSpPr>
          <p:spPr>
            <a:xfrm>
              <a:off x="1728720" y="590400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6" name=""/>
            <p:cNvSpPr/>
            <p:nvPr/>
          </p:nvSpPr>
          <p:spPr>
            <a:xfrm>
              <a:off x="1728720" y="590400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7" name=""/>
            <p:cNvSpPr/>
            <p:nvPr/>
          </p:nvSpPr>
          <p:spPr>
            <a:xfrm>
              <a:off x="1728720" y="590400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8" name=""/>
            <p:cNvSpPr/>
            <p:nvPr/>
          </p:nvSpPr>
          <p:spPr>
            <a:xfrm>
              <a:off x="1728720" y="590400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9" name=""/>
            <p:cNvSpPr/>
            <p:nvPr/>
          </p:nvSpPr>
          <p:spPr>
            <a:xfrm>
              <a:off x="1743120" y="59040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0" name=""/>
            <p:cNvSpPr/>
            <p:nvPr/>
          </p:nvSpPr>
          <p:spPr>
            <a:xfrm flipV="1">
              <a:off x="1743120" y="588600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1" name=""/>
            <p:cNvSpPr/>
            <p:nvPr/>
          </p:nvSpPr>
          <p:spPr>
            <a:xfrm>
              <a:off x="1743120" y="58863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2" name=""/>
            <p:cNvSpPr/>
            <p:nvPr/>
          </p:nvSpPr>
          <p:spPr>
            <a:xfrm>
              <a:off x="1743120" y="58863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3" name=""/>
            <p:cNvSpPr/>
            <p:nvPr/>
          </p:nvSpPr>
          <p:spPr>
            <a:xfrm>
              <a:off x="1743120" y="588636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4" name=""/>
            <p:cNvSpPr/>
            <p:nvPr/>
          </p:nvSpPr>
          <p:spPr>
            <a:xfrm>
              <a:off x="1757520" y="58863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5" name=""/>
            <p:cNvSpPr/>
            <p:nvPr/>
          </p:nvSpPr>
          <p:spPr>
            <a:xfrm>
              <a:off x="1757520" y="58863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6" name=""/>
            <p:cNvSpPr/>
            <p:nvPr/>
          </p:nvSpPr>
          <p:spPr>
            <a:xfrm>
              <a:off x="1757520" y="58863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7" name=""/>
            <p:cNvSpPr/>
            <p:nvPr/>
          </p:nvSpPr>
          <p:spPr>
            <a:xfrm>
              <a:off x="1757520" y="58863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8" name=""/>
            <p:cNvSpPr/>
            <p:nvPr/>
          </p:nvSpPr>
          <p:spPr>
            <a:xfrm>
              <a:off x="1757520" y="5886360"/>
              <a:ext cx="15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9" name=""/>
            <p:cNvSpPr/>
            <p:nvPr/>
          </p:nvSpPr>
          <p:spPr>
            <a:xfrm>
              <a:off x="1773360" y="58863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0" name=""/>
            <p:cNvSpPr/>
            <p:nvPr/>
          </p:nvSpPr>
          <p:spPr>
            <a:xfrm flipV="1">
              <a:off x="1773360" y="586692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1" name=""/>
            <p:cNvSpPr/>
            <p:nvPr/>
          </p:nvSpPr>
          <p:spPr>
            <a:xfrm>
              <a:off x="1773360" y="58672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2" name=""/>
            <p:cNvSpPr/>
            <p:nvPr/>
          </p:nvSpPr>
          <p:spPr>
            <a:xfrm>
              <a:off x="1773360" y="58672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3" name=""/>
            <p:cNvSpPr/>
            <p:nvPr/>
          </p:nvSpPr>
          <p:spPr>
            <a:xfrm>
              <a:off x="1773360" y="586728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4" name=""/>
            <p:cNvSpPr/>
            <p:nvPr/>
          </p:nvSpPr>
          <p:spPr>
            <a:xfrm>
              <a:off x="1785960" y="58672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5" name=""/>
            <p:cNvSpPr/>
            <p:nvPr/>
          </p:nvSpPr>
          <p:spPr>
            <a:xfrm>
              <a:off x="1785960" y="58672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6" name=""/>
            <p:cNvSpPr/>
            <p:nvPr/>
          </p:nvSpPr>
          <p:spPr>
            <a:xfrm>
              <a:off x="1785960" y="58672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7" name=""/>
            <p:cNvSpPr/>
            <p:nvPr/>
          </p:nvSpPr>
          <p:spPr>
            <a:xfrm>
              <a:off x="1785960" y="58672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8" name=""/>
            <p:cNvSpPr/>
            <p:nvPr/>
          </p:nvSpPr>
          <p:spPr>
            <a:xfrm>
              <a:off x="1785960" y="58672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9" name=""/>
            <p:cNvSpPr/>
            <p:nvPr/>
          </p:nvSpPr>
          <p:spPr>
            <a:xfrm>
              <a:off x="1785960" y="586728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0" name=""/>
            <p:cNvSpPr/>
            <p:nvPr/>
          </p:nvSpPr>
          <p:spPr>
            <a:xfrm flipV="1">
              <a:off x="1800360" y="585000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1" name=""/>
            <p:cNvSpPr/>
            <p:nvPr/>
          </p:nvSpPr>
          <p:spPr>
            <a:xfrm>
              <a:off x="1800360" y="58500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2" name=""/>
            <p:cNvSpPr/>
            <p:nvPr/>
          </p:nvSpPr>
          <p:spPr>
            <a:xfrm>
              <a:off x="1800360" y="58500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3" name=""/>
            <p:cNvSpPr/>
            <p:nvPr/>
          </p:nvSpPr>
          <p:spPr>
            <a:xfrm>
              <a:off x="1800360" y="58500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4" name=""/>
            <p:cNvSpPr/>
            <p:nvPr/>
          </p:nvSpPr>
          <p:spPr>
            <a:xfrm>
              <a:off x="1800360" y="585000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5" name=""/>
            <p:cNvSpPr/>
            <p:nvPr/>
          </p:nvSpPr>
          <p:spPr>
            <a:xfrm>
              <a:off x="1816200" y="58500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6" name=""/>
            <p:cNvSpPr/>
            <p:nvPr/>
          </p:nvSpPr>
          <p:spPr>
            <a:xfrm>
              <a:off x="1816200" y="58500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7" name=""/>
            <p:cNvSpPr/>
            <p:nvPr/>
          </p:nvSpPr>
          <p:spPr>
            <a:xfrm>
              <a:off x="1816200" y="58500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8" name=""/>
            <p:cNvSpPr/>
            <p:nvPr/>
          </p:nvSpPr>
          <p:spPr>
            <a:xfrm>
              <a:off x="1816200" y="58500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9" name=""/>
            <p:cNvSpPr/>
            <p:nvPr/>
          </p:nvSpPr>
          <p:spPr>
            <a:xfrm flipV="1">
              <a:off x="1816200" y="583056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0" name=""/>
            <p:cNvSpPr/>
            <p:nvPr/>
          </p:nvSpPr>
          <p:spPr>
            <a:xfrm>
              <a:off x="1816200" y="5830920"/>
              <a:ext cx="1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1" name=""/>
            <p:cNvSpPr/>
            <p:nvPr/>
          </p:nvSpPr>
          <p:spPr>
            <a:xfrm>
              <a:off x="1830240" y="58309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2" name=""/>
            <p:cNvSpPr/>
            <p:nvPr/>
          </p:nvSpPr>
          <p:spPr>
            <a:xfrm>
              <a:off x="1830240" y="58309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3" name=""/>
            <p:cNvSpPr/>
            <p:nvPr/>
          </p:nvSpPr>
          <p:spPr>
            <a:xfrm>
              <a:off x="1830240" y="58309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4" name=""/>
            <p:cNvSpPr/>
            <p:nvPr/>
          </p:nvSpPr>
          <p:spPr>
            <a:xfrm>
              <a:off x="1830240" y="58309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5" name=""/>
            <p:cNvSpPr/>
            <p:nvPr/>
          </p:nvSpPr>
          <p:spPr>
            <a:xfrm>
              <a:off x="1830240" y="58309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6" name=""/>
            <p:cNvSpPr/>
            <p:nvPr/>
          </p:nvSpPr>
          <p:spPr>
            <a:xfrm>
              <a:off x="1830240" y="58309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7" name=""/>
            <p:cNvSpPr/>
            <p:nvPr/>
          </p:nvSpPr>
          <p:spPr>
            <a:xfrm>
              <a:off x="1830240" y="583092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8" name=""/>
            <p:cNvSpPr/>
            <p:nvPr/>
          </p:nvSpPr>
          <p:spPr>
            <a:xfrm>
              <a:off x="1844640" y="58309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9" name=""/>
            <p:cNvSpPr/>
            <p:nvPr/>
          </p:nvSpPr>
          <p:spPr>
            <a:xfrm flipV="1">
              <a:off x="1844640" y="581148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0" name=""/>
            <p:cNvSpPr/>
            <p:nvPr/>
          </p:nvSpPr>
          <p:spPr>
            <a:xfrm>
              <a:off x="1844640" y="58118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1" name=""/>
            <p:cNvSpPr/>
            <p:nvPr/>
          </p:nvSpPr>
          <p:spPr>
            <a:xfrm>
              <a:off x="1844640" y="58118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2" name=""/>
            <p:cNvSpPr/>
            <p:nvPr/>
          </p:nvSpPr>
          <p:spPr>
            <a:xfrm>
              <a:off x="1844640" y="58118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3" name=""/>
            <p:cNvSpPr/>
            <p:nvPr/>
          </p:nvSpPr>
          <p:spPr>
            <a:xfrm>
              <a:off x="1844640" y="5811840"/>
              <a:ext cx="158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4" name=""/>
            <p:cNvSpPr/>
            <p:nvPr/>
          </p:nvSpPr>
          <p:spPr>
            <a:xfrm>
              <a:off x="1860480" y="58118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5" name=""/>
            <p:cNvSpPr/>
            <p:nvPr/>
          </p:nvSpPr>
          <p:spPr>
            <a:xfrm>
              <a:off x="1860480" y="58118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6" name=""/>
            <p:cNvSpPr/>
            <p:nvPr/>
          </p:nvSpPr>
          <p:spPr>
            <a:xfrm>
              <a:off x="1860480" y="58118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7" name=""/>
            <p:cNvSpPr/>
            <p:nvPr/>
          </p:nvSpPr>
          <p:spPr>
            <a:xfrm>
              <a:off x="1860480" y="58118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8" name=""/>
            <p:cNvSpPr/>
            <p:nvPr/>
          </p:nvSpPr>
          <p:spPr>
            <a:xfrm>
              <a:off x="1860480" y="58118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9" name=""/>
            <p:cNvSpPr/>
            <p:nvPr/>
          </p:nvSpPr>
          <p:spPr>
            <a:xfrm flipV="1">
              <a:off x="1860480" y="5793840"/>
              <a:ext cx="18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0" name=""/>
            <p:cNvSpPr/>
            <p:nvPr/>
          </p:nvSpPr>
          <p:spPr>
            <a:xfrm>
              <a:off x="1860480" y="579420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1" name=""/>
            <p:cNvSpPr/>
            <p:nvPr/>
          </p:nvSpPr>
          <p:spPr>
            <a:xfrm>
              <a:off x="1873080" y="57942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2" name=""/>
            <p:cNvSpPr/>
            <p:nvPr/>
          </p:nvSpPr>
          <p:spPr>
            <a:xfrm>
              <a:off x="1873080" y="57942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3" name=""/>
            <p:cNvSpPr/>
            <p:nvPr/>
          </p:nvSpPr>
          <p:spPr>
            <a:xfrm>
              <a:off x="1873080" y="57942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4" name=""/>
            <p:cNvSpPr/>
            <p:nvPr/>
          </p:nvSpPr>
          <p:spPr>
            <a:xfrm>
              <a:off x="1873080" y="57942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5" name=""/>
            <p:cNvSpPr/>
            <p:nvPr/>
          </p:nvSpPr>
          <p:spPr>
            <a:xfrm>
              <a:off x="1873080" y="57942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6" name=""/>
            <p:cNvSpPr/>
            <p:nvPr/>
          </p:nvSpPr>
          <p:spPr>
            <a:xfrm>
              <a:off x="1873080" y="57942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7" name=""/>
            <p:cNvSpPr/>
            <p:nvPr/>
          </p:nvSpPr>
          <p:spPr>
            <a:xfrm>
              <a:off x="1873080" y="57942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8" name=""/>
            <p:cNvSpPr/>
            <p:nvPr/>
          </p:nvSpPr>
          <p:spPr>
            <a:xfrm flipV="1">
              <a:off x="1873080" y="5775480"/>
              <a:ext cx="1440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9" name=""/>
            <p:cNvSpPr/>
            <p:nvPr/>
          </p:nvSpPr>
          <p:spPr>
            <a:xfrm>
              <a:off x="1887480" y="57754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0" name=""/>
            <p:cNvSpPr/>
            <p:nvPr/>
          </p:nvSpPr>
          <p:spPr>
            <a:xfrm>
              <a:off x="1887480" y="57754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1" name=""/>
            <p:cNvSpPr/>
            <p:nvPr/>
          </p:nvSpPr>
          <p:spPr>
            <a:xfrm>
              <a:off x="1887480" y="57754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2" name=""/>
            <p:cNvSpPr/>
            <p:nvPr/>
          </p:nvSpPr>
          <p:spPr>
            <a:xfrm>
              <a:off x="1887480" y="57754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3" name=""/>
            <p:cNvSpPr/>
            <p:nvPr/>
          </p:nvSpPr>
          <p:spPr>
            <a:xfrm>
              <a:off x="1887480" y="57754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4" name=""/>
            <p:cNvSpPr/>
            <p:nvPr/>
          </p:nvSpPr>
          <p:spPr>
            <a:xfrm>
              <a:off x="1887480" y="57754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5" name=""/>
            <p:cNvSpPr/>
            <p:nvPr/>
          </p:nvSpPr>
          <p:spPr>
            <a:xfrm>
              <a:off x="1887480" y="577548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6" name=""/>
            <p:cNvSpPr/>
            <p:nvPr/>
          </p:nvSpPr>
          <p:spPr>
            <a:xfrm>
              <a:off x="1903320" y="57754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7" name=""/>
            <p:cNvSpPr/>
            <p:nvPr/>
          </p:nvSpPr>
          <p:spPr>
            <a:xfrm>
              <a:off x="1903320" y="57754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8" name=""/>
            <p:cNvSpPr/>
            <p:nvPr/>
          </p:nvSpPr>
          <p:spPr>
            <a:xfrm flipV="1">
              <a:off x="1903320" y="5757480"/>
              <a:ext cx="18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9" name=""/>
            <p:cNvSpPr/>
            <p:nvPr/>
          </p:nvSpPr>
          <p:spPr>
            <a:xfrm>
              <a:off x="1903320" y="57578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0" name=""/>
            <p:cNvSpPr/>
            <p:nvPr/>
          </p:nvSpPr>
          <p:spPr>
            <a:xfrm>
              <a:off x="1903320" y="57578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1" name=""/>
            <p:cNvSpPr/>
            <p:nvPr/>
          </p:nvSpPr>
          <p:spPr>
            <a:xfrm>
              <a:off x="1903320" y="57578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2" name=""/>
            <p:cNvSpPr/>
            <p:nvPr/>
          </p:nvSpPr>
          <p:spPr>
            <a:xfrm>
              <a:off x="1903320" y="57578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3" name=""/>
            <p:cNvSpPr/>
            <p:nvPr/>
          </p:nvSpPr>
          <p:spPr>
            <a:xfrm>
              <a:off x="1903320" y="575784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4" name=""/>
            <p:cNvSpPr/>
            <p:nvPr/>
          </p:nvSpPr>
          <p:spPr>
            <a:xfrm>
              <a:off x="1917720" y="5757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5" name=""/>
            <p:cNvSpPr/>
            <p:nvPr/>
          </p:nvSpPr>
          <p:spPr>
            <a:xfrm>
              <a:off x="1917720" y="5757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6" name=""/>
            <p:cNvSpPr/>
            <p:nvPr/>
          </p:nvSpPr>
          <p:spPr>
            <a:xfrm>
              <a:off x="1917720" y="5757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7" name=""/>
            <p:cNvSpPr/>
            <p:nvPr/>
          </p:nvSpPr>
          <p:spPr>
            <a:xfrm>
              <a:off x="1917720" y="5757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8" name=""/>
            <p:cNvSpPr/>
            <p:nvPr/>
          </p:nvSpPr>
          <p:spPr>
            <a:xfrm flipV="1">
              <a:off x="1917720" y="573840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9" name=""/>
            <p:cNvSpPr/>
            <p:nvPr/>
          </p:nvSpPr>
          <p:spPr>
            <a:xfrm>
              <a:off x="1917720" y="57387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0" name=""/>
            <p:cNvSpPr/>
            <p:nvPr/>
          </p:nvSpPr>
          <p:spPr>
            <a:xfrm>
              <a:off x="1917720" y="57387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1" name=""/>
            <p:cNvSpPr/>
            <p:nvPr/>
          </p:nvSpPr>
          <p:spPr>
            <a:xfrm>
              <a:off x="1917720" y="57387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2" name=""/>
            <p:cNvSpPr/>
            <p:nvPr/>
          </p:nvSpPr>
          <p:spPr>
            <a:xfrm>
              <a:off x="1917720" y="573876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3" name=""/>
            <p:cNvSpPr/>
            <p:nvPr/>
          </p:nvSpPr>
          <p:spPr>
            <a:xfrm>
              <a:off x="1932120" y="57387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4" name=""/>
            <p:cNvSpPr/>
            <p:nvPr/>
          </p:nvSpPr>
          <p:spPr>
            <a:xfrm>
              <a:off x="1932120" y="57387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5" name=""/>
            <p:cNvSpPr/>
            <p:nvPr/>
          </p:nvSpPr>
          <p:spPr>
            <a:xfrm>
              <a:off x="1932120" y="57387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6" name=""/>
            <p:cNvSpPr/>
            <p:nvPr/>
          </p:nvSpPr>
          <p:spPr>
            <a:xfrm>
              <a:off x="1932120" y="57387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7" name=""/>
            <p:cNvSpPr/>
            <p:nvPr/>
          </p:nvSpPr>
          <p:spPr>
            <a:xfrm flipV="1">
              <a:off x="1932120" y="572148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8" name=""/>
            <p:cNvSpPr/>
            <p:nvPr/>
          </p:nvSpPr>
          <p:spPr>
            <a:xfrm>
              <a:off x="1932120" y="57214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9" name=""/>
            <p:cNvSpPr/>
            <p:nvPr/>
          </p:nvSpPr>
          <p:spPr>
            <a:xfrm>
              <a:off x="1932120" y="57214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0" name=""/>
            <p:cNvSpPr/>
            <p:nvPr/>
          </p:nvSpPr>
          <p:spPr>
            <a:xfrm>
              <a:off x="1932120" y="572148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1" name=""/>
            <p:cNvSpPr/>
            <p:nvPr/>
          </p:nvSpPr>
          <p:spPr>
            <a:xfrm>
              <a:off x="1947960" y="57214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2" name=""/>
            <p:cNvSpPr/>
            <p:nvPr/>
          </p:nvSpPr>
          <p:spPr>
            <a:xfrm>
              <a:off x="1947960" y="57214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3" name=""/>
            <p:cNvSpPr/>
            <p:nvPr/>
          </p:nvSpPr>
          <p:spPr>
            <a:xfrm>
              <a:off x="1947960" y="57214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4" name=""/>
            <p:cNvSpPr/>
            <p:nvPr/>
          </p:nvSpPr>
          <p:spPr>
            <a:xfrm>
              <a:off x="1947960" y="57214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5" name=""/>
            <p:cNvSpPr/>
            <p:nvPr/>
          </p:nvSpPr>
          <p:spPr>
            <a:xfrm>
              <a:off x="1947960" y="57214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6" name=""/>
            <p:cNvSpPr/>
            <p:nvPr/>
          </p:nvSpPr>
          <p:spPr>
            <a:xfrm>
              <a:off x="1947960" y="57214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7" name=""/>
            <p:cNvSpPr/>
            <p:nvPr/>
          </p:nvSpPr>
          <p:spPr>
            <a:xfrm flipV="1">
              <a:off x="1947960" y="570204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8" name=""/>
            <p:cNvSpPr/>
            <p:nvPr/>
          </p:nvSpPr>
          <p:spPr>
            <a:xfrm>
              <a:off x="1947960" y="570240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9" name=""/>
            <p:cNvSpPr/>
            <p:nvPr/>
          </p:nvSpPr>
          <p:spPr>
            <a:xfrm>
              <a:off x="1947960" y="570240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0" name=""/>
            <p:cNvSpPr/>
            <p:nvPr/>
          </p:nvSpPr>
          <p:spPr>
            <a:xfrm>
              <a:off x="1960560" y="57024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1" name=""/>
            <p:cNvSpPr/>
            <p:nvPr/>
          </p:nvSpPr>
          <p:spPr>
            <a:xfrm>
              <a:off x="1960560" y="57024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2" name=""/>
            <p:cNvSpPr/>
            <p:nvPr/>
          </p:nvSpPr>
          <p:spPr>
            <a:xfrm>
              <a:off x="1960560" y="57024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3" name=""/>
            <p:cNvSpPr/>
            <p:nvPr/>
          </p:nvSpPr>
          <p:spPr>
            <a:xfrm>
              <a:off x="1960560" y="57024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4" name=""/>
            <p:cNvSpPr/>
            <p:nvPr/>
          </p:nvSpPr>
          <p:spPr>
            <a:xfrm>
              <a:off x="1960560" y="57024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5" name=""/>
            <p:cNvSpPr/>
            <p:nvPr/>
          </p:nvSpPr>
          <p:spPr>
            <a:xfrm>
              <a:off x="1960560" y="57024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6" name=""/>
            <p:cNvSpPr/>
            <p:nvPr/>
          </p:nvSpPr>
          <p:spPr>
            <a:xfrm>
              <a:off x="1960560" y="57024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7" name=""/>
            <p:cNvSpPr/>
            <p:nvPr/>
          </p:nvSpPr>
          <p:spPr>
            <a:xfrm flipV="1">
              <a:off x="1960560" y="568296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8" name=""/>
            <p:cNvSpPr/>
            <p:nvPr/>
          </p:nvSpPr>
          <p:spPr>
            <a:xfrm>
              <a:off x="1960560" y="5683320"/>
              <a:ext cx="14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9" name=""/>
            <p:cNvSpPr/>
            <p:nvPr/>
          </p:nvSpPr>
          <p:spPr>
            <a:xfrm>
              <a:off x="1974960" y="568332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0" name=""/>
            <p:cNvSpPr/>
            <p:nvPr/>
          </p:nvSpPr>
          <p:spPr>
            <a:xfrm>
              <a:off x="1974960" y="568332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1" name=""/>
            <p:cNvSpPr/>
            <p:nvPr/>
          </p:nvSpPr>
          <p:spPr>
            <a:xfrm>
              <a:off x="1974960" y="568332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2" name=""/>
            <p:cNvSpPr/>
            <p:nvPr/>
          </p:nvSpPr>
          <p:spPr>
            <a:xfrm>
              <a:off x="1974960" y="568332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3" name=""/>
            <p:cNvSpPr/>
            <p:nvPr/>
          </p:nvSpPr>
          <p:spPr>
            <a:xfrm>
              <a:off x="1974960" y="568332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4" name=""/>
            <p:cNvSpPr/>
            <p:nvPr/>
          </p:nvSpPr>
          <p:spPr>
            <a:xfrm>
              <a:off x="1974960" y="568332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5" name=""/>
            <p:cNvSpPr/>
            <p:nvPr/>
          </p:nvSpPr>
          <p:spPr>
            <a:xfrm>
              <a:off x="1974960" y="568332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6" name=""/>
            <p:cNvSpPr/>
            <p:nvPr/>
          </p:nvSpPr>
          <p:spPr>
            <a:xfrm>
              <a:off x="1974960" y="568332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7" name=""/>
            <p:cNvSpPr/>
            <p:nvPr/>
          </p:nvSpPr>
          <p:spPr>
            <a:xfrm flipV="1">
              <a:off x="1974960" y="566532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8" name=""/>
            <p:cNvSpPr/>
            <p:nvPr/>
          </p:nvSpPr>
          <p:spPr>
            <a:xfrm>
              <a:off x="1974960" y="5665680"/>
              <a:ext cx="1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9" name=""/>
            <p:cNvSpPr/>
            <p:nvPr/>
          </p:nvSpPr>
          <p:spPr>
            <a:xfrm>
              <a:off x="1989000" y="566568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0" name=""/>
            <p:cNvGrpSpPr/>
            <p:nvPr/>
          </p:nvGrpSpPr>
          <p:grpSpPr>
            <a:xfrm>
              <a:off x="1989000" y="5297040"/>
              <a:ext cx="234720" cy="370080"/>
              <a:chOff x="1989000" y="5297040"/>
              <a:chExt cx="234720" cy="370080"/>
            </a:xfrm>
          </p:grpSpPr>
          <p:sp>
            <p:nvSpPr>
              <p:cNvPr id="6911" name=""/>
              <p:cNvSpPr/>
              <p:nvPr/>
            </p:nvSpPr>
            <p:spPr>
              <a:xfrm>
                <a:off x="1989000" y="56656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2" name=""/>
              <p:cNvSpPr/>
              <p:nvPr/>
            </p:nvSpPr>
            <p:spPr>
              <a:xfrm>
                <a:off x="1989000" y="56656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3" name=""/>
              <p:cNvSpPr/>
              <p:nvPr/>
            </p:nvSpPr>
            <p:spPr>
              <a:xfrm>
                <a:off x="1989000" y="56656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4" name=""/>
              <p:cNvSpPr/>
              <p:nvPr/>
            </p:nvSpPr>
            <p:spPr>
              <a:xfrm>
                <a:off x="1989000" y="56656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5" name=""/>
              <p:cNvSpPr/>
              <p:nvPr/>
            </p:nvSpPr>
            <p:spPr>
              <a:xfrm>
                <a:off x="1989000" y="56656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6" name=""/>
              <p:cNvSpPr/>
              <p:nvPr/>
            </p:nvSpPr>
            <p:spPr>
              <a:xfrm>
                <a:off x="1989000" y="56656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7" name=""/>
              <p:cNvSpPr/>
              <p:nvPr/>
            </p:nvSpPr>
            <p:spPr>
              <a:xfrm flipV="1">
                <a:off x="1989000" y="5646960"/>
                <a:ext cx="108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>
                <a:off x="1989000" y="56473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9" name=""/>
              <p:cNvSpPr/>
              <p:nvPr/>
            </p:nvSpPr>
            <p:spPr>
              <a:xfrm>
                <a:off x="1989000" y="5647320"/>
                <a:ext cx="15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0" name=""/>
              <p:cNvSpPr/>
              <p:nvPr/>
            </p:nvSpPr>
            <p:spPr>
              <a:xfrm>
                <a:off x="2004480" y="5647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>
                <a:off x="2004480" y="5647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>
                <a:off x="2004480" y="5647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3" name=""/>
              <p:cNvSpPr/>
              <p:nvPr/>
            </p:nvSpPr>
            <p:spPr>
              <a:xfrm>
                <a:off x="2004480" y="5647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4" name=""/>
              <p:cNvSpPr/>
              <p:nvPr/>
            </p:nvSpPr>
            <p:spPr>
              <a:xfrm>
                <a:off x="2004480" y="5647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5" name=""/>
              <p:cNvSpPr/>
              <p:nvPr/>
            </p:nvSpPr>
            <p:spPr>
              <a:xfrm>
                <a:off x="2004480" y="5647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6" name=""/>
              <p:cNvSpPr/>
              <p:nvPr/>
            </p:nvSpPr>
            <p:spPr>
              <a:xfrm>
                <a:off x="2004480" y="5647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 flipV="1">
                <a:off x="2004480" y="5628600"/>
                <a:ext cx="144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>
                <a:off x="2004480" y="56289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>
                <a:off x="2004480" y="5628960"/>
                <a:ext cx="1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2018520" y="5628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2018520" y="5628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2018520" y="5628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>
                <a:off x="2018520" y="5628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2018520" y="5628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2018520" y="5628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2018520" y="5628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 flipV="1">
                <a:off x="2018520" y="5610240"/>
                <a:ext cx="108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2018520" y="5610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2018520" y="5610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2018520" y="5610600"/>
                <a:ext cx="1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2032560" y="5610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2032560" y="5610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2032560" y="5610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2032560" y="5610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2032560" y="5610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 flipV="1">
                <a:off x="2032560" y="5591880"/>
                <a:ext cx="108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2032560" y="55922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2032560" y="55922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2032560" y="55922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2032560" y="55922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2032560" y="5592240"/>
                <a:ext cx="15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2048040" y="55922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2048040" y="55922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>
                <a:off x="2048040" y="55922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>
                <a:off x="2048040" y="55922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 flipV="1">
                <a:off x="2048040" y="5573160"/>
                <a:ext cx="1080" cy="1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2048040" y="55731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>
                <a:off x="2048040" y="55731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>
                <a:off x="2048040" y="55731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2048040" y="55731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2048040" y="55731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>
                <a:off x="2048040" y="5573160"/>
                <a:ext cx="13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2061720" y="55731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2061720" y="55731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2061720" y="55731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 flipV="1">
                <a:off x="2061720" y="5554440"/>
                <a:ext cx="144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2061720" y="55548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2061720" y="55548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2061720" y="55548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2061720" y="55548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2061720" y="55548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2061720" y="55548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2061720" y="55548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2061720" y="5554800"/>
                <a:ext cx="14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 flipV="1">
                <a:off x="2076120" y="5536080"/>
                <a:ext cx="108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2076120" y="55364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2076120" y="55364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2076120" y="55364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2076120" y="55364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2076120" y="55364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2076120" y="55364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2076120" y="55364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2076120" y="55364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2076120" y="55364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 flipV="1">
                <a:off x="2076120" y="5517720"/>
                <a:ext cx="108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2076120" y="5518080"/>
                <a:ext cx="15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2091600" y="5518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2091600" y="5518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2091600" y="5518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>
                <a:off x="2091600" y="5518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>
                <a:off x="2091600" y="5518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>
                <a:off x="2091600" y="5518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2091600" y="5518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2091600" y="5518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 flipV="1">
                <a:off x="2091600" y="5499360"/>
                <a:ext cx="144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>
                <a:off x="2091600" y="54997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>
                <a:off x="2091600" y="54997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>
                <a:off x="2091600" y="5499720"/>
                <a:ext cx="1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2105640" y="54997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2105640" y="54997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>
                <a:off x="2105640" y="54997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>
                <a:off x="2105640" y="54997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>
                <a:off x="2105640" y="54997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 flipV="1">
                <a:off x="2105640" y="5481000"/>
                <a:ext cx="108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2105640" y="54813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2105640" y="54813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2105640" y="54813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2105640" y="54813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>
                <a:off x="2105640" y="54813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2105640" y="5481360"/>
                <a:ext cx="13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2119320" y="54813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2119320" y="54813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2119320" y="54813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 flipV="1">
                <a:off x="2119320" y="5462640"/>
                <a:ext cx="144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2119320" y="54630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2119320" y="54630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2119320" y="54630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2119320" y="54630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2119320" y="54630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2119320" y="54630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2119320" y="54630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2119320" y="54630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2119320" y="5463000"/>
                <a:ext cx="158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 flipV="1">
                <a:off x="2135160" y="5444280"/>
                <a:ext cx="108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2135160" y="54446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2135160" y="54446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2135160" y="54446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2135160" y="54446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2135160" y="54446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2135160" y="54446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2135160" y="54446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>
                <a:off x="2135160" y="54446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 flipV="1">
                <a:off x="2135160" y="5425920"/>
                <a:ext cx="108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2135160" y="54262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2135160" y="54262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>
                <a:off x="2135160" y="5426280"/>
                <a:ext cx="13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2149200" y="54262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>
                <a:off x="2149200" y="54262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2149200" y="54262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>
                <a:off x="2149200" y="54262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>
                <a:off x="2149200" y="54262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2149200" y="54262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 flipV="1">
                <a:off x="2149200" y="5407560"/>
                <a:ext cx="144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2149200" y="5407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>
                <a:off x="2149200" y="5407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>
                <a:off x="2149200" y="5407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>
                <a:off x="2149200" y="5407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>
                <a:off x="2149200" y="5407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2149200" y="5407920"/>
                <a:ext cx="1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2163240" y="54079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>
                <a:off x="2163240" y="54079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2163240" y="54079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 flipV="1">
                <a:off x="2163240" y="5389200"/>
                <a:ext cx="1080" cy="1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>
                <a:off x="2163240" y="53892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>
                <a:off x="2163240" y="53892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>
                <a:off x="2163240" y="53892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>
                <a:off x="2163240" y="53892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>
                <a:off x="2163240" y="53892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>
                <a:off x="2163240" y="53892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2163240" y="53892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>
                <a:off x="2163240" y="53892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 flipV="1">
                <a:off x="2163240" y="5370480"/>
                <a:ext cx="108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>
                <a:off x="2163240" y="5370840"/>
                <a:ext cx="15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>
                <a:off x="2178720" y="53708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>
                <a:off x="2178720" y="53708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>
                <a:off x="2178720" y="53708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>
                <a:off x="2178720" y="53708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>
                <a:off x="2178720" y="53708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>
                <a:off x="2178720" y="53708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>
                <a:off x="2178720" y="53708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>
                <a:off x="2178720" y="53708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 flipV="1">
                <a:off x="2178720" y="5352120"/>
                <a:ext cx="108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>
                <a:off x="2178720" y="53524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>
                <a:off x="2178720" y="53524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>
                <a:off x="2178720" y="53524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>
                <a:off x="2178720" y="5352480"/>
                <a:ext cx="14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>
                <a:off x="2192760" y="53524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>
                <a:off x="2192760" y="53524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>
                <a:off x="2192760" y="53524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>
                <a:off x="2192760" y="53524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>
                <a:off x="2192760" y="53524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 flipV="1">
                <a:off x="2192760" y="5333760"/>
                <a:ext cx="108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>
                <a:off x="2192760" y="53341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4" name=""/>
              <p:cNvSpPr/>
              <p:nvPr/>
            </p:nvSpPr>
            <p:spPr>
              <a:xfrm>
                <a:off x="2192760" y="53341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5" name=""/>
              <p:cNvSpPr/>
              <p:nvPr/>
            </p:nvSpPr>
            <p:spPr>
              <a:xfrm>
                <a:off x="2192760" y="53341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6" name=""/>
              <p:cNvSpPr/>
              <p:nvPr/>
            </p:nvSpPr>
            <p:spPr>
              <a:xfrm>
                <a:off x="2192760" y="53341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7" name=""/>
              <p:cNvSpPr/>
              <p:nvPr/>
            </p:nvSpPr>
            <p:spPr>
              <a:xfrm>
                <a:off x="2192760" y="53341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8" name=""/>
              <p:cNvSpPr/>
              <p:nvPr/>
            </p:nvSpPr>
            <p:spPr>
              <a:xfrm>
                <a:off x="2192760" y="53341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>
                <a:off x="2192760" y="53341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0" name=""/>
              <p:cNvSpPr/>
              <p:nvPr/>
            </p:nvSpPr>
            <p:spPr>
              <a:xfrm>
                <a:off x="2192760" y="5334120"/>
                <a:ext cx="13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 flipV="1">
                <a:off x="2206440" y="5315400"/>
                <a:ext cx="144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2" name=""/>
              <p:cNvSpPr/>
              <p:nvPr/>
            </p:nvSpPr>
            <p:spPr>
              <a:xfrm>
                <a:off x="2206440" y="5315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3" name=""/>
              <p:cNvSpPr/>
              <p:nvPr/>
            </p:nvSpPr>
            <p:spPr>
              <a:xfrm>
                <a:off x="2206440" y="5315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4" name=""/>
              <p:cNvSpPr/>
              <p:nvPr/>
            </p:nvSpPr>
            <p:spPr>
              <a:xfrm>
                <a:off x="2206440" y="5315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5" name=""/>
              <p:cNvSpPr/>
              <p:nvPr/>
            </p:nvSpPr>
            <p:spPr>
              <a:xfrm>
                <a:off x="2206440" y="5315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6" name=""/>
              <p:cNvSpPr/>
              <p:nvPr/>
            </p:nvSpPr>
            <p:spPr>
              <a:xfrm>
                <a:off x="2206440" y="5315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7" name=""/>
              <p:cNvSpPr/>
              <p:nvPr/>
            </p:nvSpPr>
            <p:spPr>
              <a:xfrm>
                <a:off x="2206440" y="5315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8" name=""/>
              <p:cNvSpPr/>
              <p:nvPr/>
            </p:nvSpPr>
            <p:spPr>
              <a:xfrm>
                <a:off x="2206440" y="5315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9" name=""/>
              <p:cNvSpPr/>
              <p:nvPr/>
            </p:nvSpPr>
            <p:spPr>
              <a:xfrm>
                <a:off x="2206440" y="5315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0" name=""/>
              <p:cNvSpPr/>
              <p:nvPr/>
            </p:nvSpPr>
            <p:spPr>
              <a:xfrm>
                <a:off x="2206440" y="5315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1" name=""/>
              <p:cNvSpPr/>
              <p:nvPr/>
            </p:nvSpPr>
            <p:spPr>
              <a:xfrm flipV="1">
                <a:off x="2206440" y="5297040"/>
                <a:ext cx="144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2" name=""/>
              <p:cNvSpPr/>
              <p:nvPr/>
            </p:nvSpPr>
            <p:spPr>
              <a:xfrm>
                <a:off x="2206440" y="52974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3" name=""/>
              <p:cNvSpPr/>
              <p:nvPr/>
            </p:nvSpPr>
            <p:spPr>
              <a:xfrm>
                <a:off x="2206440" y="52974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4" name=""/>
              <p:cNvSpPr/>
              <p:nvPr/>
            </p:nvSpPr>
            <p:spPr>
              <a:xfrm>
                <a:off x="2206440" y="5297400"/>
                <a:ext cx="158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5" name=""/>
              <p:cNvSpPr/>
              <p:nvPr/>
            </p:nvSpPr>
            <p:spPr>
              <a:xfrm>
                <a:off x="2222640" y="52974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6" name=""/>
              <p:cNvSpPr/>
              <p:nvPr/>
            </p:nvSpPr>
            <p:spPr>
              <a:xfrm>
                <a:off x="2222640" y="52974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7" name=""/>
              <p:cNvSpPr/>
              <p:nvPr/>
            </p:nvSpPr>
            <p:spPr>
              <a:xfrm>
                <a:off x="2222640" y="52974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8" name=""/>
              <p:cNvSpPr/>
              <p:nvPr/>
            </p:nvSpPr>
            <p:spPr>
              <a:xfrm>
                <a:off x="2222640" y="52974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9" name=""/>
              <p:cNvSpPr/>
              <p:nvPr/>
            </p:nvSpPr>
            <p:spPr>
              <a:xfrm>
                <a:off x="2222640" y="52974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0" name=""/>
              <p:cNvSpPr/>
              <p:nvPr/>
            </p:nvSpPr>
            <p:spPr>
              <a:xfrm>
                <a:off x="2222640" y="52974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1" name=""/>
            <p:cNvGrpSpPr/>
            <p:nvPr/>
          </p:nvGrpSpPr>
          <p:grpSpPr>
            <a:xfrm>
              <a:off x="2222640" y="4911840"/>
              <a:ext cx="202680" cy="384840"/>
              <a:chOff x="2222640" y="4911840"/>
              <a:chExt cx="202680" cy="384840"/>
            </a:xfrm>
          </p:grpSpPr>
          <p:sp>
            <p:nvSpPr>
              <p:cNvPr id="7112" name=""/>
              <p:cNvSpPr/>
              <p:nvPr/>
            </p:nvSpPr>
            <p:spPr>
              <a:xfrm flipV="1">
                <a:off x="2222640" y="527868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3" name=""/>
              <p:cNvSpPr/>
              <p:nvPr/>
            </p:nvSpPr>
            <p:spPr>
              <a:xfrm>
                <a:off x="2222640" y="52786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4" name=""/>
              <p:cNvSpPr/>
              <p:nvPr/>
            </p:nvSpPr>
            <p:spPr>
              <a:xfrm>
                <a:off x="2222640" y="52786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5" name=""/>
              <p:cNvSpPr/>
              <p:nvPr/>
            </p:nvSpPr>
            <p:spPr>
              <a:xfrm>
                <a:off x="2222640" y="52786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6" name=""/>
              <p:cNvSpPr/>
              <p:nvPr/>
            </p:nvSpPr>
            <p:spPr>
              <a:xfrm>
                <a:off x="2222640" y="52786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7" name=""/>
              <p:cNvSpPr/>
              <p:nvPr/>
            </p:nvSpPr>
            <p:spPr>
              <a:xfrm>
                <a:off x="2222640" y="52786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8" name=""/>
              <p:cNvSpPr/>
              <p:nvPr/>
            </p:nvSpPr>
            <p:spPr>
              <a:xfrm>
                <a:off x="2222640" y="52786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9" name=""/>
              <p:cNvSpPr/>
              <p:nvPr/>
            </p:nvSpPr>
            <p:spPr>
              <a:xfrm>
                <a:off x="2222640" y="5278680"/>
                <a:ext cx="13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0" name=""/>
              <p:cNvSpPr/>
              <p:nvPr/>
            </p:nvSpPr>
            <p:spPr>
              <a:xfrm>
                <a:off x="2236320" y="52786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1" name=""/>
              <p:cNvSpPr/>
              <p:nvPr/>
            </p:nvSpPr>
            <p:spPr>
              <a:xfrm flipV="1">
                <a:off x="2236320" y="526068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2" name=""/>
              <p:cNvSpPr/>
              <p:nvPr/>
            </p:nvSpPr>
            <p:spPr>
              <a:xfrm>
                <a:off x="2236320" y="52606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3" name=""/>
              <p:cNvSpPr/>
              <p:nvPr/>
            </p:nvSpPr>
            <p:spPr>
              <a:xfrm>
                <a:off x="2236320" y="52606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4" name=""/>
              <p:cNvSpPr/>
              <p:nvPr/>
            </p:nvSpPr>
            <p:spPr>
              <a:xfrm>
                <a:off x="2236320" y="52606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5" name=""/>
              <p:cNvSpPr/>
              <p:nvPr/>
            </p:nvSpPr>
            <p:spPr>
              <a:xfrm>
                <a:off x="2236320" y="52606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>
                <a:off x="2236320" y="52606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7" name=""/>
              <p:cNvSpPr/>
              <p:nvPr/>
            </p:nvSpPr>
            <p:spPr>
              <a:xfrm>
                <a:off x="2236320" y="52606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8" name=""/>
              <p:cNvSpPr/>
              <p:nvPr/>
            </p:nvSpPr>
            <p:spPr>
              <a:xfrm>
                <a:off x="2236320" y="52606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9" name=""/>
              <p:cNvSpPr/>
              <p:nvPr/>
            </p:nvSpPr>
            <p:spPr>
              <a:xfrm>
                <a:off x="2236320" y="52606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0" name=""/>
              <p:cNvSpPr/>
              <p:nvPr/>
            </p:nvSpPr>
            <p:spPr>
              <a:xfrm>
                <a:off x="2236320" y="52606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1" name=""/>
              <p:cNvSpPr/>
              <p:nvPr/>
            </p:nvSpPr>
            <p:spPr>
              <a:xfrm flipV="1">
                <a:off x="2236320" y="524232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2" name=""/>
              <p:cNvSpPr/>
              <p:nvPr/>
            </p:nvSpPr>
            <p:spPr>
              <a:xfrm>
                <a:off x="2236320" y="5242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3" name=""/>
              <p:cNvSpPr/>
              <p:nvPr/>
            </p:nvSpPr>
            <p:spPr>
              <a:xfrm>
                <a:off x="2236320" y="5242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4" name=""/>
              <p:cNvSpPr/>
              <p:nvPr/>
            </p:nvSpPr>
            <p:spPr>
              <a:xfrm>
                <a:off x="2236320" y="5242320"/>
                <a:ext cx="1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5" name=""/>
              <p:cNvSpPr/>
              <p:nvPr/>
            </p:nvSpPr>
            <p:spPr>
              <a:xfrm>
                <a:off x="2250360" y="52423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6" name=""/>
              <p:cNvSpPr/>
              <p:nvPr/>
            </p:nvSpPr>
            <p:spPr>
              <a:xfrm>
                <a:off x="2250360" y="52423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7" name=""/>
              <p:cNvSpPr/>
              <p:nvPr/>
            </p:nvSpPr>
            <p:spPr>
              <a:xfrm>
                <a:off x="2250360" y="52423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8" name=""/>
              <p:cNvSpPr/>
              <p:nvPr/>
            </p:nvSpPr>
            <p:spPr>
              <a:xfrm>
                <a:off x="2250360" y="52423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9" name=""/>
              <p:cNvSpPr/>
              <p:nvPr/>
            </p:nvSpPr>
            <p:spPr>
              <a:xfrm>
                <a:off x="2250360" y="52423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0" name=""/>
              <p:cNvSpPr/>
              <p:nvPr/>
            </p:nvSpPr>
            <p:spPr>
              <a:xfrm>
                <a:off x="2250360" y="52423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1" name=""/>
              <p:cNvSpPr/>
              <p:nvPr/>
            </p:nvSpPr>
            <p:spPr>
              <a:xfrm flipV="1">
                <a:off x="2250360" y="522396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2" name=""/>
              <p:cNvSpPr/>
              <p:nvPr/>
            </p:nvSpPr>
            <p:spPr>
              <a:xfrm>
                <a:off x="2250360" y="5223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3" name=""/>
              <p:cNvSpPr/>
              <p:nvPr/>
            </p:nvSpPr>
            <p:spPr>
              <a:xfrm>
                <a:off x="2250360" y="5223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4" name=""/>
              <p:cNvSpPr/>
              <p:nvPr/>
            </p:nvSpPr>
            <p:spPr>
              <a:xfrm>
                <a:off x="2250360" y="5223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5" name=""/>
              <p:cNvSpPr/>
              <p:nvPr/>
            </p:nvSpPr>
            <p:spPr>
              <a:xfrm>
                <a:off x="2250360" y="5223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6" name=""/>
              <p:cNvSpPr/>
              <p:nvPr/>
            </p:nvSpPr>
            <p:spPr>
              <a:xfrm>
                <a:off x="2250360" y="5223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7" name=""/>
              <p:cNvSpPr/>
              <p:nvPr/>
            </p:nvSpPr>
            <p:spPr>
              <a:xfrm>
                <a:off x="2250360" y="5223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8" name=""/>
              <p:cNvSpPr/>
              <p:nvPr/>
            </p:nvSpPr>
            <p:spPr>
              <a:xfrm>
                <a:off x="2250360" y="5223960"/>
                <a:ext cx="15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9" name=""/>
              <p:cNvSpPr/>
              <p:nvPr/>
            </p:nvSpPr>
            <p:spPr>
              <a:xfrm>
                <a:off x="2266200" y="5223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0" name=""/>
              <p:cNvSpPr/>
              <p:nvPr/>
            </p:nvSpPr>
            <p:spPr>
              <a:xfrm flipV="1">
                <a:off x="2266200" y="520560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1" name=""/>
              <p:cNvSpPr/>
              <p:nvPr/>
            </p:nvSpPr>
            <p:spPr>
              <a:xfrm>
                <a:off x="2266200" y="5205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2" name=""/>
              <p:cNvSpPr/>
              <p:nvPr/>
            </p:nvSpPr>
            <p:spPr>
              <a:xfrm>
                <a:off x="2266200" y="5205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3" name=""/>
              <p:cNvSpPr/>
              <p:nvPr/>
            </p:nvSpPr>
            <p:spPr>
              <a:xfrm>
                <a:off x="2266200" y="5205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4" name=""/>
              <p:cNvSpPr/>
              <p:nvPr/>
            </p:nvSpPr>
            <p:spPr>
              <a:xfrm>
                <a:off x="2266200" y="5205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5" name=""/>
              <p:cNvSpPr/>
              <p:nvPr/>
            </p:nvSpPr>
            <p:spPr>
              <a:xfrm>
                <a:off x="2266200" y="5205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6" name=""/>
              <p:cNvSpPr/>
              <p:nvPr/>
            </p:nvSpPr>
            <p:spPr>
              <a:xfrm>
                <a:off x="2266200" y="5205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7" name=""/>
              <p:cNvSpPr/>
              <p:nvPr/>
            </p:nvSpPr>
            <p:spPr>
              <a:xfrm>
                <a:off x="2266200" y="5205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8" name=""/>
              <p:cNvSpPr/>
              <p:nvPr/>
            </p:nvSpPr>
            <p:spPr>
              <a:xfrm>
                <a:off x="2266200" y="5205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9" name=""/>
              <p:cNvSpPr/>
              <p:nvPr/>
            </p:nvSpPr>
            <p:spPr>
              <a:xfrm>
                <a:off x="2266200" y="5205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0" name=""/>
              <p:cNvSpPr/>
              <p:nvPr/>
            </p:nvSpPr>
            <p:spPr>
              <a:xfrm flipV="1">
                <a:off x="2266200" y="5186880"/>
                <a:ext cx="1080" cy="1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1" name=""/>
              <p:cNvSpPr/>
              <p:nvPr/>
            </p:nvSpPr>
            <p:spPr>
              <a:xfrm>
                <a:off x="2266200" y="51868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2" name=""/>
              <p:cNvSpPr/>
              <p:nvPr/>
            </p:nvSpPr>
            <p:spPr>
              <a:xfrm>
                <a:off x="2266200" y="51868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3" name=""/>
              <p:cNvSpPr/>
              <p:nvPr/>
            </p:nvSpPr>
            <p:spPr>
              <a:xfrm>
                <a:off x="2266200" y="5186880"/>
                <a:ext cx="14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4" name=""/>
              <p:cNvSpPr/>
              <p:nvPr/>
            </p:nvSpPr>
            <p:spPr>
              <a:xfrm>
                <a:off x="2280240" y="51868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5" name=""/>
              <p:cNvSpPr/>
              <p:nvPr/>
            </p:nvSpPr>
            <p:spPr>
              <a:xfrm>
                <a:off x="2280240" y="51868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6" name=""/>
              <p:cNvSpPr/>
              <p:nvPr/>
            </p:nvSpPr>
            <p:spPr>
              <a:xfrm>
                <a:off x="2280240" y="51868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7" name=""/>
              <p:cNvSpPr/>
              <p:nvPr/>
            </p:nvSpPr>
            <p:spPr>
              <a:xfrm>
                <a:off x="2280240" y="51868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8" name=""/>
              <p:cNvSpPr/>
              <p:nvPr/>
            </p:nvSpPr>
            <p:spPr>
              <a:xfrm>
                <a:off x="2280240" y="51868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9" name=""/>
              <p:cNvSpPr/>
              <p:nvPr/>
            </p:nvSpPr>
            <p:spPr>
              <a:xfrm>
                <a:off x="2280240" y="51868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0" name=""/>
              <p:cNvSpPr/>
              <p:nvPr/>
            </p:nvSpPr>
            <p:spPr>
              <a:xfrm flipV="1">
                <a:off x="2280240" y="516852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1" name=""/>
              <p:cNvSpPr/>
              <p:nvPr/>
            </p:nvSpPr>
            <p:spPr>
              <a:xfrm>
                <a:off x="2280240" y="51685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2" name=""/>
              <p:cNvSpPr/>
              <p:nvPr/>
            </p:nvSpPr>
            <p:spPr>
              <a:xfrm>
                <a:off x="2280240" y="51685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3" name=""/>
              <p:cNvSpPr/>
              <p:nvPr/>
            </p:nvSpPr>
            <p:spPr>
              <a:xfrm>
                <a:off x="2280240" y="51685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4" name=""/>
              <p:cNvSpPr/>
              <p:nvPr/>
            </p:nvSpPr>
            <p:spPr>
              <a:xfrm>
                <a:off x="2280240" y="51685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5" name=""/>
              <p:cNvSpPr/>
              <p:nvPr/>
            </p:nvSpPr>
            <p:spPr>
              <a:xfrm>
                <a:off x="2280240" y="51685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6" name=""/>
              <p:cNvSpPr/>
              <p:nvPr/>
            </p:nvSpPr>
            <p:spPr>
              <a:xfrm>
                <a:off x="2280240" y="51685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7" name=""/>
              <p:cNvSpPr/>
              <p:nvPr/>
            </p:nvSpPr>
            <p:spPr>
              <a:xfrm>
                <a:off x="2280240" y="51685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8" name=""/>
              <p:cNvSpPr/>
              <p:nvPr/>
            </p:nvSpPr>
            <p:spPr>
              <a:xfrm>
                <a:off x="2280240" y="5168520"/>
                <a:ext cx="13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9" name=""/>
              <p:cNvSpPr/>
              <p:nvPr/>
            </p:nvSpPr>
            <p:spPr>
              <a:xfrm flipV="1">
                <a:off x="2293920" y="515016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0" name=""/>
              <p:cNvSpPr/>
              <p:nvPr/>
            </p:nvSpPr>
            <p:spPr>
              <a:xfrm>
                <a:off x="2293920" y="51501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1" name=""/>
              <p:cNvSpPr/>
              <p:nvPr/>
            </p:nvSpPr>
            <p:spPr>
              <a:xfrm>
                <a:off x="2293920" y="51501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2" name=""/>
              <p:cNvSpPr/>
              <p:nvPr/>
            </p:nvSpPr>
            <p:spPr>
              <a:xfrm>
                <a:off x="2293920" y="51501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3" name=""/>
              <p:cNvSpPr/>
              <p:nvPr/>
            </p:nvSpPr>
            <p:spPr>
              <a:xfrm>
                <a:off x="2293920" y="51501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4" name=""/>
              <p:cNvSpPr/>
              <p:nvPr/>
            </p:nvSpPr>
            <p:spPr>
              <a:xfrm>
                <a:off x="2293920" y="51501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5" name=""/>
              <p:cNvSpPr/>
              <p:nvPr/>
            </p:nvSpPr>
            <p:spPr>
              <a:xfrm>
                <a:off x="2293920" y="51501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6" name=""/>
              <p:cNvSpPr/>
              <p:nvPr/>
            </p:nvSpPr>
            <p:spPr>
              <a:xfrm>
                <a:off x="2293920" y="51501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7" name=""/>
              <p:cNvSpPr/>
              <p:nvPr/>
            </p:nvSpPr>
            <p:spPr>
              <a:xfrm>
                <a:off x="2293920" y="51501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8" name=""/>
              <p:cNvSpPr/>
              <p:nvPr/>
            </p:nvSpPr>
            <p:spPr>
              <a:xfrm>
                <a:off x="2293920" y="51501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9" name=""/>
              <p:cNvSpPr/>
              <p:nvPr/>
            </p:nvSpPr>
            <p:spPr>
              <a:xfrm flipV="1">
                <a:off x="2293920" y="513180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0" name=""/>
              <p:cNvSpPr/>
              <p:nvPr/>
            </p:nvSpPr>
            <p:spPr>
              <a:xfrm>
                <a:off x="2293920" y="51318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1" name=""/>
              <p:cNvSpPr/>
              <p:nvPr/>
            </p:nvSpPr>
            <p:spPr>
              <a:xfrm>
                <a:off x="2293920" y="51318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2" name=""/>
              <p:cNvSpPr/>
              <p:nvPr/>
            </p:nvSpPr>
            <p:spPr>
              <a:xfrm>
                <a:off x="2293920" y="5131800"/>
                <a:ext cx="15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3" name=""/>
              <p:cNvSpPr/>
              <p:nvPr/>
            </p:nvSpPr>
            <p:spPr>
              <a:xfrm>
                <a:off x="2309760" y="51318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>
                <a:off x="2309760" y="51318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5" name=""/>
              <p:cNvSpPr/>
              <p:nvPr/>
            </p:nvSpPr>
            <p:spPr>
              <a:xfrm>
                <a:off x="2309760" y="51318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6" name=""/>
              <p:cNvSpPr/>
              <p:nvPr/>
            </p:nvSpPr>
            <p:spPr>
              <a:xfrm>
                <a:off x="2309760" y="51318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7" name=""/>
              <p:cNvSpPr/>
              <p:nvPr/>
            </p:nvSpPr>
            <p:spPr>
              <a:xfrm>
                <a:off x="2309760" y="51318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8" name=""/>
              <p:cNvSpPr/>
              <p:nvPr/>
            </p:nvSpPr>
            <p:spPr>
              <a:xfrm>
                <a:off x="2309760" y="51318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9" name=""/>
              <p:cNvSpPr/>
              <p:nvPr/>
            </p:nvSpPr>
            <p:spPr>
              <a:xfrm flipV="1">
                <a:off x="2309760" y="511344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>
                <a:off x="2309760" y="51134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1" name=""/>
              <p:cNvSpPr/>
              <p:nvPr/>
            </p:nvSpPr>
            <p:spPr>
              <a:xfrm>
                <a:off x="2309760" y="51134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2" name=""/>
              <p:cNvSpPr/>
              <p:nvPr/>
            </p:nvSpPr>
            <p:spPr>
              <a:xfrm>
                <a:off x="2309760" y="51134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3" name=""/>
              <p:cNvSpPr/>
              <p:nvPr/>
            </p:nvSpPr>
            <p:spPr>
              <a:xfrm>
                <a:off x="2309760" y="51134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4" name=""/>
              <p:cNvSpPr/>
              <p:nvPr/>
            </p:nvSpPr>
            <p:spPr>
              <a:xfrm>
                <a:off x="2309760" y="51134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5" name=""/>
              <p:cNvSpPr/>
              <p:nvPr/>
            </p:nvSpPr>
            <p:spPr>
              <a:xfrm>
                <a:off x="2309760" y="51134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6" name=""/>
              <p:cNvSpPr/>
              <p:nvPr/>
            </p:nvSpPr>
            <p:spPr>
              <a:xfrm>
                <a:off x="2309760" y="51134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7" name=""/>
              <p:cNvSpPr/>
              <p:nvPr/>
            </p:nvSpPr>
            <p:spPr>
              <a:xfrm>
                <a:off x="2309760" y="5113440"/>
                <a:ext cx="1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8" name=""/>
              <p:cNvSpPr/>
              <p:nvPr/>
            </p:nvSpPr>
            <p:spPr>
              <a:xfrm>
                <a:off x="2323800" y="51134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9" name=""/>
              <p:cNvSpPr/>
              <p:nvPr/>
            </p:nvSpPr>
            <p:spPr>
              <a:xfrm flipV="1">
                <a:off x="2323800" y="509508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0" name=""/>
              <p:cNvSpPr/>
              <p:nvPr/>
            </p:nvSpPr>
            <p:spPr>
              <a:xfrm>
                <a:off x="2323800" y="50950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>
                <a:off x="2323800" y="50950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2" name=""/>
              <p:cNvSpPr/>
              <p:nvPr/>
            </p:nvSpPr>
            <p:spPr>
              <a:xfrm>
                <a:off x="2323800" y="50950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>
                <a:off x="2323800" y="50950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>
                <a:off x="2323800" y="50950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>
                <a:off x="2323800" y="50950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>
                <a:off x="2323800" y="50950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7" name=""/>
              <p:cNvSpPr/>
              <p:nvPr/>
            </p:nvSpPr>
            <p:spPr>
              <a:xfrm>
                <a:off x="2323800" y="50950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8" name=""/>
              <p:cNvSpPr/>
              <p:nvPr/>
            </p:nvSpPr>
            <p:spPr>
              <a:xfrm flipV="1">
                <a:off x="2323800" y="507708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9" name=""/>
              <p:cNvSpPr/>
              <p:nvPr/>
            </p:nvSpPr>
            <p:spPr>
              <a:xfrm>
                <a:off x="2323800" y="50770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>
                <a:off x="2323800" y="50770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>
                <a:off x="2323800" y="50770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>
                <a:off x="2323800" y="5077080"/>
                <a:ext cx="1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>
                <a:off x="2337840" y="50770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>
                <a:off x="2337840" y="50770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>
                <a:off x="2337840" y="50770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>
                <a:off x="2337840" y="50770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>
                <a:off x="2337840" y="50770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8" name=""/>
              <p:cNvSpPr/>
              <p:nvPr/>
            </p:nvSpPr>
            <p:spPr>
              <a:xfrm flipV="1">
                <a:off x="2337840" y="505872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9" name=""/>
              <p:cNvSpPr/>
              <p:nvPr/>
            </p:nvSpPr>
            <p:spPr>
              <a:xfrm>
                <a:off x="2337840" y="50587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>
                <a:off x="2337840" y="50587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>
                <a:off x="2337840" y="50587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2" name=""/>
              <p:cNvSpPr/>
              <p:nvPr/>
            </p:nvSpPr>
            <p:spPr>
              <a:xfrm>
                <a:off x="2337840" y="50587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3" name=""/>
              <p:cNvSpPr/>
              <p:nvPr/>
            </p:nvSpPr>
            <p:spPr>
              <a:xfrm>
                <a:off x="2337840" y="50587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4" name=""/>
              <p:cNvSpPr/>
              <p:nvPr/>
            </p:nvSpPr>
            <p:spPr>
              <a:xfrm>
                <a:off x="2337840" y="50587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5" name=""/>
              <p:cNvSpPr/>
              <p:nvPr/>
            </p:nvSpPr>
            <p:spPr>
              <a:xfrm>
                <a:off x="2337840" y="50587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6" name=""/>
              <p:cNvSpPr/>
              <p:nvPr/>
            </p:nvSpPr>
            <p:spPr>
              <a:xfrm>
                <a:off x="2337840" y="50587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7" name=""/>
              <p:cNvSpPr/>
              <p:nvPr/>
            </p:nvSpPr>
            <p:spPr>
              <a:xfrm>
                <a:off x="2337840" y="5058720"/>
                <a:ext cx="15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8" name=""/>
              <p:cNvSpPr/>
              <p:nvPr/>
            </p:nvSpPr>
            <p:spPr>
              <a:xfrm flipV="1">
                <a:off x="2353680" y="504036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9" name=""/>
              <p:cNvSpPr/>
              <p:nvPr/>
            </p:nvSpPr>
            <p:spPr>
              <a:xfrm>
                <a:off x="2353680" y="50403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0" name=""/>
              <p:cNvSpPr/>
              <p:nvPr/>
            </p:nvSpPr>
            <p:spPr>
              <a:xfrm>
                <a:off x="2353680" y="50403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1" name=""/>
              <p:cNvSpPr/>
              <p:nvPr/>
            </p:nvSpPr>
            <p:spPr>
              <a:xfrm>
                <a:off x="2353680" y="50403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2" name=""/>
              <p:cNvSpPr/>
              <p:nvPr/>
            </p:nvSpPr>
            <p:spPr>
              <a:xfrm>
                <a:off x="2353680" y="50403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3" name=""/>
              <p:cNvSpPr/>
              <p:nvPr/>
            </p:nvSpPr>
            <p:spPr>
              <a:xfrm>
                <a:off x="2353680" y="50403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4" name=""/>
              <p:cNvSpPr/>
              <p:nvPr/>
            </p:nvSpPr>
            <p:spPr>
              <a:xfrm>
                <a:off x="2353680" y="50403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5" name=""/>
              <p:cNvSpPr/>
              <p:nvPr/>
            </p:nvSpPr>
            <p:spPr>
              <a:xfrm>
                <a:off x="2353680" y="50403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6" name=""/>
              <p:cNvSpPr/>
              <p:nvPr/>
            </p:nvSpPr>
            <p:spPr>
              <a:xfrm>
                <a:off x="2353680" y="50403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7" name=""/>
              <p:cNvSpPr/>
              <p:nvPr/>
            </p:nvSpPr>
            <p:spPr>
              <a:xfrm flipV="1">
                <a:off x="2353680" y="502200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8" name=""/>
              <p:cNvSpPr/>
              <p:nvPr/>
            </p:nvSpPr>
            <p:spPr>
              <a:xfrm>
                <a:off x="2353680" y="50220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9" name=""/>
              <p:cNvSpPr/>
              <p:nvPr/>
            </p:nvSpPr>
            <p:spPr>
              <a:xfrm>
                <a:off x="2353680" y="50220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0" name=""/>
              <p:cNvSpPr/>
              <p:nvPr/>
            </p:nvSpPr>
            <p:spPr>
              <a:xfrm>
                <a:off x="2353680" y="50220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1" name=""/>
              <p:cNvSpPr/>
              <p:nvPr/>
            </p:nvSpPr>
            <p:spPr>
              <a:xfrm>
                <a:off x="2353680" y="50220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2" name=""/>
              <p:cNvSpPr/>
              <p:nvPr/>
            </p:nvSpPr>
            <p:spPr>
              <a:xfrm>
                <a:off x="2353680" y="5022000"/>
                <a:ext cx="1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3" name=""/>
              <p:cNvSpPr/>
              <p:nvPr/>
            </p:nvSpPr>
            <p:spPr>
              <a:xfrm>
                <a:off x="2367720" y="50220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4" name=""/>
              <p:cNvSpPr/>
              <p:nvPr/>
            </p:nvSpPr>
            <p:spPr>
              <a:xfrm>
                <a:off x="2367720" y="50220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5" name=""/>
              <p:cNvSpPr/>
              <p:nvPr/>
            </p:nvSpPr>
            <p:spPr>
              <a:xfrm>
                <a:off x="2367720" y="50220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6" name=""/>
              <p:cNvSpPr/>
              <p:nvPr/>
            </p:nvSpPr>
            <p:spPr>
              <a:xfrm>
                <a:off x="2367720" y="50220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7" name=""/>
              <p:cNvSpPr/>
              <p:nvPr/>
            </p:nvSpPr>
            <p:spPr>
              <a:xfrm flipV="1">
                <a:off x="2367720" y="5003280"/>
                <a:ext cx="1080" cy="1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8" name=""/>
              <p:cNvSpPr/>
              <p:nvPr/>
            </p:nvSpPr>
            <p:spPr>
              <a:xfrm>
                <a:off x="2367720" y="50032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9" name=""/>
              <p:cNvSpPr/>
              <p:nvPr/>
            </p:nvSpPr>
            <p:spPr>
              <a:xfrm>
                <a:off x="2367720" y="50032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0" name=""/>
              <p:cNvSpPr/>
              <p:nvPr/>
            </p:nvSpPr>
            <p:spPr>
              <a:xfrm>
                <a:off x="2367720" y="50032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1" name=""/>
              <p:cNvSpPr/>
              <p:nvPr/>
            </p:nvSpPr>
            <p:spPr>
              <a:xfrm>
                <a:off x="2367720" y="50032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2" name=""/>
              <p:cNvSpPr/>
              <p:nvPr/>
            </p:nvSpPr>
            <p:spPr>
              <a:xfrm>
                <a:off x="2367720" y="50032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3" name=""/>
              <p:cNvSpPr/>
              <p:nvPr/>
            </p:nvSpPr>
            <p:spPr>
              <a:xfrm>
                <a:off x="2367720" y="50032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4" name=""/>
              <p:cNvSpPr/>
              <p:nvPr/>
            </p:nvSpPr>
            <p:spPr>
              <a:xfrm>
                <a:off x="2367720" y="50032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5" name=""/>
              <p:cNvSpPr/>
              <p:nvPr/>
            </p:nvSpPr>
            <p:spPr>
              <a:xfrm>
                <a:off x="2367720" y="50032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6" name=""/>
              <p:cNvSpPr/>
              <p:nvPr/>
            </p:nvSpPr>
            <p:spPr>
              <a:xfrm>
                <a:off x="2367720" y="50032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7" name=""/>
              <p:cNvSpPr/>
              <p:nvPr/>
            </p:nvSpPr>
            <p:spPr>
              <a:xfrm flipV="1">
                <a:off x="2367720" y="4984920"/>
                <a:ext cx="136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8" name=""/>
              <p:cNvSpPr/>
              <p:nvPr/>
            </p:nvSpPr>
            <p:spPr>
              <a:xfrm>
                <a:off x="2381400" y="49849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9" name=""/>
              <p:cNvSpPr/>
              <p:nvPr/>
            </p:nvSpPr>
            <p:spPr>
              <a:xfrm>
                <a:off x="2381400" y="49849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0" name=""/>
              <p:cNvSpPr/>
              <p:nvPr/>
            </p:nvSpPr>
            <p:spPr>
              <a:xfrm>
                <a:off x="2381400" y="49849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1" name=""/>
              <p:cNvSpPr/>
              <p:nvPr/>
            </p:nvSpPr>
            <p:spPr>
              <a:xfrm>
                <a:off x="2381400" y="49849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2" name=""/>
              <p:cNvSpPr/>
              <p:nvPr/>
            </p:nvSpPr>
            <p:spPr>
              <a:xfrm>
                <a:off x="2381400" y="49849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3" name=""/>
              <p:cNvSpPr/>
              <p:nvPr/>
            </p:nvSpPr>
            <p:spPr>
              <a:xfrm>
                <a:off x="2381400" y="49849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4" name=""/>
              <p:cNvSpPr/>
              <p:nvPr/>
            </p:nvSpPr>
            <p:spPr>
              <a:xfrm>
                <a:off x="2381400" y="49849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5" name=""/>
              <p:cNvSpPr/>
              <p:nvPr/>
            </p:nvSpPr>
            <p:spPr>
              <a:xfrm>
                <a:off x="2381400" y="49849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6" name=""/>
              <p:cNvSpPr/>
              <p:nvPr/>
            </p:nvSpPr>
            <p:spPr>
              <a:xfrm flipV="1">
                <a:off x="2381400" y="496656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7" name=""/>
              <p:cNvSpPr/>
              <p:nvPr/>
            </p:nvSpPr>
            <p:spPr>
              <a:xfrm>
                <a:off x="2381400" y="49665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8" name=""/>
              <p:cNvSpPr/>
              <p:nvPr/>
            </p:nvSpPr>
            <p:spPr>
              <a:xfrm>
                <a:off x="2381400" y="49665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9" name=""/>
              <p:cNvSpPr/>
              <p:nvPr/>
            </p:nvSpPr>
            <p:spPr>
              <a:xfrm>
                <a:off x="2381400" y="49665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0" name=""/>
              <p:cNvSpPr/>
              <p:nvPr/>
            </p:nvSpPr>
            <p:spPr>
              <a:xfrm>
                <a:off x="2381400" y="49665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1" name=""/>
              <p:cNvSpPr/>
              <p:nvPr/>
            </p:nvSpPr>
            <p:spPr>
              <a:xfrm>
                <a:off x="2381400" y="4966560"/>
                <a:ext cx="14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2" name=""/>
              <p:cNvSpPr/>
              <p:nvPr/>
            </p:nvSpPr>
            <p:spPr>
              <a:xfrm>
                <a:off x="2395800" y="49665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3" name=""/>
              <p:cNvSpPr/>
              <p:nvPr/>
            </p:nvSpPr>
            <p:spPr>
              <a:xfrm>
                <a:off x="2395800" y="49665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4" name=""/>
              <p:cNvSpPr/>
              <p:nvPr/>
            </p:nvSpPr>
            <p:spPr>
              <a:xfrm>
                <a:off x="2395800" y="49665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5" name=""/>
              <p:cNvSpPr/>
              <p:nvPr/>
            </p:nvSpPr>
            <p:spPr>
              <a:xfrm>
                <a:off x="2395800" y="49665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6" name=""/>
              <p:cNvSpPr/>
              <p:nvPr/>
            </p:nvSpPr>
            <p:spPr>
              <a:xfrm flipV="1">
                <a:off x="2395800" y="494820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7" name=""/>
              <p:cNvSpPr/>
              <p:nvPr/>
            </p:nvSpPr>
            <p:spPr>
              <a:xfrm>
                <a:off x="2395800" y="49482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8" name=""/>
              <p:cNvSpPr/>
              <p:nvPr/>
            </p:nvSpPr>
            <p:spPr>
              <a:xfrm>
                <a:off x="2395800" y="49482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9" name=""/>
              <p:cNvSpPr/>
              <p:nvPr/>
            </p:nvSpPr>
            <p:spPr>
              <a:xfrm>
                <a:off x="2395800" y="49482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0" name=""/>
              <p:cNvSpPr/>
              <p:nvPr/>
            </p:nvSpPr>
            <p:spPr>
              <a:xfrm>
                <a:off x="2395800" y="49482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1" name=""/>
              <p:cNvSpPr/>
              <p:nvPr/>
            </p:nvSpPr>
            <p:spPr>
              <a:xfrm>
                <a:off x="2395800" y="49482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2" name=""/>
              <p:cNvSpPr/>
              <p:nvPr/>
            </p:nvSpPr>
            <p:spPr>
              <a:xfrm>
                <a:off x="2395800" y="49482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3" name=""/>
              <p:cNvSpPr/>
              <p:nvPr/>
            </p:nvSpPr>
            <p:spPr>
              <a:xfrm>
                <a:off x="2395800" y="49482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4" name=""/>
              <p:cNvSpPr/>
              <p:nvPr/>
            </p:nvSpPr>
            <p:spPr>
              <a:xfrm>
                <a:off x="2395800" y="49482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5" name=""/>
              <p:cNvSpPr/>
              <p:nvPr/>
            </p:nvSpPr>
            <p:spPr>
              <a:xfrm>
                <a:off x="2395800" y="49482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6" name=""/>
              <p:cNvSpPr/>
              <p:nvPr/>
            </p:nvSpPr>
            <p:spPr>
              <a:xfrm flipV="1">
                <a:off x="2395800" y="4929840"/>
                <a:ext cx="154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7" name=""/>
              <p:cNvSpPr/>
              <p:nvPr/>
            </p:nvSpPr>
            <p:spPr>
              <a:xfrm>
                <a:off x="2411280" y="49298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8" name=""/>
              <p:cNvSpPr/>
              <p:nvPr/>
            </p:nvSpPr>
            <p:spPr>
              <a:xfrm>
                <a:off x="2411280" y="49298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9" name=""/>
              <p:cNvSpPr/>
              <p:nvPr/>
            </p:nvSpPr>
            <p:spPr>
              <a:xfrm>
                <a:off x="2411280" y="49298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0" name=""/>
              <p:cNvSpPr/>
              <p:nvPr/>
            </p:nvSpPr>
            <p:spPr>
              <a:xfrm>
                <a:off x="2411280" y="49298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1" name=""/>
              <p:cNvSpPr/>
              <p:nvPr/>
            </p:nvSpPr>
            <p:spPr>
              <a:xfrm>
                <a:off x="2411280" y="49298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2" name=""/>
              <p:cNvSpPr/>
              <p:nvPr/>
            </p:nvSpPr>
            <p:spPr>
              <a:xfrm>
                <a:off x="2411280" y="49298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3" name=""/>
              <p:cNvSpPr/>
              <p:nvPr/>
            </p:nvSpPr>
            <p:spPr>
              <a:xfrm>
                <a:off x="2411280" y="49298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4" name=""/>
              <p:cNvSpPr/>
              <p:nvPr/>
            </p:nvSpPr>
            <p:spPr>
              <a:xfrm>
                <a:off x="2411280" y="49298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5" name=""/>
              <p:cNvSpPr/>
              <p:nvPr/>
            </p:nvSpPr>
            <p:spPr>
              <a:xfrm flipV="1">
                <a:off x="2411280" y="491184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6" name=""/>
              <p:cNvSpPr/>
              <p:nvPr/>
            </p:nvSpPr>
            <p:spPr>
              <a:xfrm>
                <a:off x="2411280" y="49118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7" name=""/>
              <p:cNvSpPr/>
              <p:nvPr/>
            </p:nvSpPr>
            <p:spPr>
              <a:xfrm>
                <a:off x="2411280" y="49118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8" name=""/>
              <p:cNvSpPr/>
              <p:nvPr/>
            </p:nvSpPr>
            <p:spPr>
              <a:xfrm>
                <a:off x="2411280" y="49118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9" name=""/>
              <p:cNvSpPr/>
              <p:nvPr/>
            </p:nvSpPr>
            <p:spPr>
              <a:xfrm>
                <a:off x="2411280" y="49118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0" name=""/>
              <p:cNvSpPr/>
              <p:nvPr/>
            </p:nvSpPr>
            <p:spPr>
              <a:xfrm>
                <a:off x="2411280" y="49118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1" name=""/>
              <p:cNvSpPr/>
              <p:nvPr/>
            </p:nvSpPr>
            <p:spPr>
              <a:xfrm>
                <a:off x="2411280" y="4911840"/>
                <a:ext cx="1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2" name=""/>
            <p:cNvGrpSpPr/>
            <p:nvPr/>
          </p:nvGrpSpPr>
          <p:grpSpPr>
            <a:xfrm>
              <a:off x="2425680" y="4525920"/>
              <a:ext cx="218880" cy="387000"/>
              <a:chOff x="2425680" y="4525920"/>
              <a:chExt cx="218880" cy="387000"/>
            </a:xfrm>
          </p:grpSpPr>
          <p:sp>
            <p:nvSpPr>
              <p:cNvPr id="7313" name=""/>
              <p:cNvSpPr/>
              <p:nvPr/>
            </p:nvSpPr>
            <p:spPr>
              <a:xfrm>
                <a:off x="2425680" y="49114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4" name=""/>
              <p:cNvSpPr/>
              <p:nvPr/>
            </p:nvSpPr>
            <p:spPr>
              <a:xfrm>
                <a:off x="2425680" y="49114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5" name=""/>
              <p:cNvSpPr/>
              <p:nvPr/>
            </p:nvSpPr>
            <p:spPr>
              <a:xfrm>
                <a:off x="2425680" y="49114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6" name=""/>
              <p:cNvSpPr/>
              <p:nvPr/>
            </p:nvSpPr>
            <p:spPr>
              <a:xfrm flipV="1">
                <a:off x="2425680" y="489312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7" name=""/>
              <p:cNvSpPr/>
              <p:nvPr/>
            </p:nvSpPr>
            <p:spPr>
              <a:xfrm>
                <a:off x="2425680" y="48931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8" name=""/>
              <p:cNvSpPr/>
              <p:nvPr/>
            </p:nvSpPr>
            <p:spPr>
              <a:xfrm>
                <a:off x="2425680" y="48931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9" name=""/>
              <p:cNvSpPr/>
              <p:nvPr/>
            </p:nvSpPr>
            <p:spPr>
              <a:xfrm>
                <a:off x="2425680" y="48931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0" name=""/>
              <p:cNvSpPr/>
              <p:nvPr/>
            </p:nvSpPr>
            <p:spPr>
              <a:xfrm>
                <a:off x="2425680" y="48931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1" name=""/>
              <p:cNvSpPr/>
              <p:nvPr/>
            </p:nvSpPr>
            <p:spPr>
              <a:xfrm>
                <a:off x="2425680" y="48931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2" name=""/>
              <p:cNvSpPr/>
              <p:nvPr/>
            </p:nvSpPr>
            <p:spPr>
              <a:xfrm>
                <a:off x="2425680" y="48931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3" name=""/>
              <p:cNvSpPr/>
              <p:nvPr/>
            </p:nvSpPr>
            <p:spPr>
              <a:xfrm>
                <a:off x="2425680" y="48931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4" name=""/>
              <p:cNvSpPr/>
              <p:nvPr/>
            </p:nvSpPr>
            <p:spPr>
              <a:xfrm>
                <a:off x="2425680" y="48931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5" name=""/>
              <p:cNvSpPr/>
              <p:nvPr/>
            </p:nvSpPr>
            <p:spPr>
              <a:xfrm>
                <a:off x="2425680" y="48931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6" name=""/>
              <p:cNvSpPr/>
              <p:nvPr/>
            </p:nvSpPr>
            <p:spPr>
              <a:xfrm flipV="1">
                <a:off x="2425680" y="4874760"/>
                <a:ext cx="136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7" name=""/>
              <p:cNvSpPr/>
              <p:nvPr/>
            </p:nvSpPr>
            <p:spPr>
              <a:xfrm>
                <a:off x="2439360" y="48747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8" name=""/>
              <p:cNvSpPr/>
              <p:nvPr/>
            </p:nvSpPr>
            <p:spPr>
              <a:xfrm>
                <a:off x="2439360" y="48747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9" name=""/>
              <p:cNvSpPr/>
              <p:nvPr/>
            </p:nvSpPr>
            <p:spPr>
              <a:xfrm>
                <a:off x="2439360" y="48747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0" name=""/>
              <p:cNvSpPr/>
              <p:nvPr/>
            </p:nvSpPr>
            <p:spPr>
              <a:xfrm>
                <a:off x="2439360" y="48747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1" name=""/>
              <p:cNvSpPr/>
              <p:nvPr/>
            </p:nvSpPr>
            <p:spPr>
              <a:xfrm>
                <a:off x="2439360" y="48747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2" name=""/>
              <p:cNvSpPr/>
              <p:nvPr/>
            </p:nvSpPr>
            <p:spPr>
              <a:xfrm>
                <a:off x="2439360" y="48747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3" name=""/>
              <p:cNvSpPr/>
              <p:nvPr/>
            </p:nvSpPr>
            <p:spPr>
              <a:xfrm>
                <a:off x="2439360" y="48747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4" name=""/>
              <p:cNvSpPr/>
              <p:nvPr/>
            </p:nvSpPr>
            <p:spPr>
              <a:xfrm>
                <a:off x="2439360" y="48747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5" name=""/>
              <p:cNvSpPr/>
              <p:nvPr/>
            </p:nvSpPr>
            <p:spPr>
              <a:xfrm flipV="1">
                <a:off x="2439360" y="485640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6" name=""/>
              <p:cNvSpPr/>
              <p:nvPr/>
            </p:nvSpPr>
            <p:spPr>
              <a:xfrm>
                <a:off x="2439360" y="48564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7" name=""/>
              <p:cNvSpPr/>
              <p:nvPr/>
            </p:nvSpPr>
            <p:spPr>
              <a:xfrm>
                <a:off x="2439360" y="48564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8" name=""/>
              <p:cNvSpPr/>
              <p:nvPr/>
            </p:nvSpPr>
            <p:spPr>
              <a:xfrm>
                <a:off x="2439360" y="48564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9" name=""/>
              <p:cNvSpPr/>
              <p:nvPr/>
            </p:nvSpPr>
            <p:spPr>
              <a:xfrm>
                <a:off x="2439360" y="48564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0" name=""/>
              <p:cNvSpPr/>
              <p:nvPr/>
            </p:nvSpPr>
            <p:spPr>
              <a:xfrm>
                <a:off x="2439360" y="48564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1" name=""/>
              <p:cNvSpPr/>
              <p:nvPr/>
            </p:nvSpPr>
            <p:spPr>
              <a:xfrm>
                <a:off x="2439360" y="4856400"/>
                <a:ext cx="158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2" name=""/>
              <p:cNvSpPr/>
              <p:nvPr/>
            </p:nvSpPr>
            <p:spPr>
              <a:xfrm>
                <a:off x="2455200" y="48564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3" name=""/>
              <p:cNvSpPr/>
              <p:nvPr/>
            </p:nvSpPr>
            <p:spPr>
              <a:xfrm>
                <a:off x="2455200" y="48564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4" name=""/>
              <p:cNvSpPr/>
              <p:nvPr/>
            </p:nvSpPr>
            <p:spPr>
              <a:xfrm>
                <a:off x="2455200" y="48564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5" name=""/>
              <p:cNvSpPr/>
              <p:nvPr/>
            </p:nvSpPr>
            <p:spPr>
              <a:xfrm flipV="1">
                <a:off x="2455200" y="483804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6" name=""/>
              <p:cNvSpPr/>
              <p:nvPr/>
            </p:nvSpPr>
            <p:spPr>
              <a:xfrm>
                <a:off x="2455200" y="48380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7" name=""/>
              <p:cNvSpPr/>
              <p:nvPr/>
            </p:nvSpPr>
            <p:spPr>
              <a:xfrm>
                <a:off x="2455200" y="48380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8" name=""/>
              <p:cNvSpPr/>
              <p:nvPr/>
            </p:nvSpPr>
            <p:spPr>
              <a:xfrm>
                <a:off x="2455200" y="48380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9" name=""/>
              <p:cNvSpPr/>
              <p:nvPr/>
            </p:nvSpPr>
            <p:spPr>
              <a:xfrm>
                <a:off x="2455200" y="48380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0" name=""/>
              <p:cNvSpPr/>
              <p:nvPr/>
            </p:nvSpPr>
            <p:spPr>
              <a:xfrm>
                <a:off x="2455200" y="48380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1" name=""/>
              <p:cNvSpPr/>
              <p:nvPr/>
            </p:nvSpPr>
            <p:spPr>
              <a:xfrm>
                <a:off x="2455200" y="48380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2" name=""/>
              <p:cNvSpPr/>
              <p:nvPr/>
            </p:nvSpPr>
            <p:spPr>
              <a:xfrm>
                <a:off x="2455200" y="48380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3" name=""/>
              <p:cNvSpPr/>
              <p:nvPr/>
            </p:nvSpPr>
            <p:spPr>
              <a:xfrm>
                <a:off x="2455200" y="48380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4" name=""/>
              <p:cNvSpPr/>
              <p:nvPr/>
            </p:nvSpPr>
            <p:spPr>
              <a:xfrm>
                <a:off x="2455200" y="48380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5" name=""/>
              <p:cNvSpPr/>
              <p:nvPr/>
            </p:nvSpPr>
            <p:spPr>
              <a:xfrm flipV="1">
                <a:off x="2455200" y="4819320"/>
                <a:ext cx="13680" cy="1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6" name=""/>
              <p:cNvSpPr/>
              <p:nvPr/>
            </p:nvSpPr>
            <p:spPr>
              <a:xfrm>
                <a:off x="2468880" y="48193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7" name=""/>
              <p:cNvSpPr/>
              <p:nvPr/>
            </p:nvSpPr>
            <p:spPr>
              <a:xfrm>
                <a:off x="2468880" y="48193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8" name=""/>
              <p:cNvSpPr/>
              <p:nvPr/>
            </p:nvSpPr>
            <p:spPr>
              <a:xfrm>
                <a:off x="2468880" y="48193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9" name=""/>
              <p:cNvSpPr/>
              <p:nvPr/>
            </p:nvSpPr>
            <p:spPr>
              <a:xfrm>
                <a:off x="2468880" y="48193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0" name=""/>
              <p:cNvSpPr/>
              <p:nvPr/>
            </p:nvSpPr>
            <p:spPr>
              <a:xfrm>
                <a:off x="2468880" y="48193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1" name=""/>
              <p:cNvSpPr/>
              <p:nvPr/>
            </p:nvSpPr>
            <p:spPr>
              <a:xfrm>
                <a:off x="2468880" y="48193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2" name=""/>
              <p:cNvSpPr/>
              <p:nvPr/>
            </p:nvSpPr>
            <p:spPr>
              <a:xfrm>
                <a:off x="2468880" y="48193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3" name=""/>
              <p:cNvSpPr/>
              <p:nvPr/>
            </p:nvSpPr>
            <p:spPr>
              <a:xfrm>
                <a:off x="2468880" y="48193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4" name=""/>
              <p:cNvSpPr/>
              <p:nvPr/>
            </p:nvSpPr>
            <p:spPr>
              <a:xfrm flipV="1">
                <a:off x="2468880" y="480096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5" name=""/>
              <p:cNvSpPr/>
              <p:nvPr/>
            </p:nvSpPr>
            <p:spPr>
              <a:xfrm>
                <a:off x="2468880" y="48009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>
                <a:off x="2468880" y="48009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7" name=""/>
              <p:cNvSpPr/>
              <p:nvPr/>
            </p:nvSpPr>
            <p:spPr>
              <a:xfrm>
                <a:off x="2468880" y="48009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8" name=""/>
              <p:cNvSpPr/>
              <p:nvPr/>
            </p:nvSpPr>
            <p:spPr>
              <a:xfrm>
                <a:off x="2468880" y="48009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9" name=""/>
              <p:cNvSpPr/>
              <p:nvPr/>
            </p:nvSpPr>
            <p:spPr>
              <a:xfrm>
                <a:off x="2468880" y="4800960"/>
                <a:ext cx="14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0" name=""/>
              <p:cNvSpPr/>
              <p:nvPr/>
            </p:nvSpPr>
            <p:spPr>
              <a:xfrm>
                <a:off x="2482920" y="48009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1" name=""/>
              <p:cNvSpPr/>
              <p:nvPr/>
            </p:nvSpPr>
            <p:spPr>
              <a:xfrm>
                <a:off x="2482920" y="48009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2" name=""/>
              <p:cNvSpPr/>
              <p:nvPr/>
            </p:nvSpPr>
            <p:spPr>
              <a:xfrm>
                <a:off x="2482920" y="48009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3" name=""/>
              <p:cNvSpPr/>
              <p:nvPr/>
            </p:nvSpPr>
            <p:spPr>
              <a:xfrm>
                <a:off x="2482920" y="48009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 flipV="1">
                <a:off x="2482920" y="478260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5" name=""/>
              <p:cNvSpPr/>
              <p:nvPr/>
            </p:nvSpPr>
            <p:spPr>
              <a:xfrm>
                <a:off x="2482920" y="47826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6" name=""/>
              <p:cNvSpPr/>
              <p:nvPr/>
            </p:nvSpPr>
            <p:spPr>
              <a:xfrm>
                <a:off x="2482920" y="47826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7" name=""/>
              <p:cNvSpPr/>
              <p:nvPr/>
            </p:nvSpPr>
            <p:spPr>
              <a:xfrm>
                <a:off x="2482920" y="47826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8" name=""/>
              <p:cNvSpPr/>
              <p:nvPr/>
            </p:nvSpPr>
            <p:spPr>
              <a:xfrm>
                <a:off x="2482920" y="47826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9" name=""/>
              <p:cNvSpPr/>
              <p:nvPr/>
            </p:nvSpPr>
            <p:spPr>
              <a:xfrm>
                <a:off x="2482920" y="47826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0" name=""/>
              <p:cNvSpPr/>
              <p:nvPr/>
            </p:nvSpPr>
            <p:spPr>
              <a:xfrm>
                <a:off x="2482920" y="47826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1" name=""/>
              <p:cNvSpPr/>
              <p:nvPr/>
            </p:nvSpPr>
            <p:spPr>
              <a:xfrm>
                <a:off x="2482920" y="47826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2" name=""/>
              <p:cNvSpPr/>
              <p:nvPr/>
            </p:nvSpPr>
            <p:spPr>
              <a:xfrm>
                <a:off x="2482920" y="47826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3" name=""/>
              <p:cNvSpPr/>
              <p:nvPr/>
            </p:nvSpPr>
            <p:spPr>
              <a:xfrm>
                <a:off x="2482920" y="4782600"/>
                <a:ext cx="15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4" name=""/>
              <p:cNvSpPr/>
              <p:nvPr/>
            </p:nvSpPr>
            <p:spPr>
              <a:xfrm flipV="1">
                <a:off x="2498400" y="476424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5" name=""/>
              <p:cNvSpPr/>
              <p:nvPr/>
            </p:nvSpPr>
            <p:spPr>
              <a:xfrm>
                <a:off x="2498400" y="47642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6" name=""/>
              <p:cNvSpPr/>
              <p:nvPr/>
            </p:nvSpPr>
            <p:spPr>
              <a:xfrm>
                <a:off x="2498400" y="47642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7" name=""/>
              <p:cNvSpPr/>
              <p:nvPr/>
            </p:nvSpPr>
            <p:spPr>
              <a:xfrm>
                <a:off x="2498400" y="47642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8" name=""/>
              <p:cNvSpPr/>
              <p:nvPr/>
            </p:nvSpPr>
            <p:spPr>
              <a:xfrm>
                <a:off x="2498400" y="47642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9" name=""/>
              <p:cNvSpPr/>
              <p:nvPr/>
            </p:nvSpPr>
            <p:spPr>
              <a:xfrm>
                <a:off x="2498400" y="47642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0" name=""/>
              <p:cNvSpPr/>
              <p:nvPr/>
            </p:nvSpPr>
            <p:spPr>
              <a:xfrm>
                <a:off x="2498400" y="47642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1" name=""/>
              <p:cNvSpPr/>
              <p:nvPr/>
            </p:nvSpPr>
            <p:spPr>
              <a:xfrm>
                <a:off x="2498400" y="47642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>
                <a:off x="2498400" y="47642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 flipV="1">
                <a:off x="2498400" y="474588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4" name=""/>
              <p:cNvSpPr/>
              <p:nvPr/>
            </p:nvSpPr>
            <p:spPr>
              <a:xfrm>
                <a:off x="2498400" y="47458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5" name=""/>
              <p:cNvSpPr/>
              <p:nvPr/>
            </p:nvSpPr>
            <p:spPr>
              <a:xfrm>
                <a:off x="2498400" y="47458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6" name=""/>
              <p:cNvSpPr/>
              <p:nvPr/>
            </p:nvSpPr>
            <p:spPr>
              <a:xfrm>
                <a:off x="2498400" y="4745880"/>
                <a:ext cx="1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7" name=""/>
              <p:cNvSpPr/>
              <p:nvPr/>
            </p:nvSpPr>
            <p:spPr>
              <a:xfrm>
                <a:off x="2512440" y="47458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8" name=""/>
              <p:cNvSpPr/>
              <p:nvPr/>
            </p:nvSpPr>
            <p:spPr>
              <a:xfrm>
                <a:off x="2512440" y="47458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9" name=""/>
              <p:cNvSpPr/>
              <p:nvPr/>
            </p:nvSpPr>
            <p:spPr>
              <a:xfrm>
                <a:off x="2512440" y="47458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>
                <a:off x="2512440" y="47458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1" name=""/>
              <p:cNvSpPr/>
              <p:nvPr/>
            </p:nvSpPr>
            <p:spPr>
              <a:xfrm>
                <a:off x="2512440" y="47458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>
                <a:off x="2512440" y="47458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3" name=""/>
              <p:cNvSpPr/>
              <p:nvPr/>
            </p:nvSpPr>
            <p:spPr>
              <a:xfrm flipV="1">
                <a:off x="2512440" y="472788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>
                <a:off x="2512440" y="47278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5" name=""/>
              <p:cNvSpPr/>
              <p:nvPr/>
            </p:nvSpPr>
            <p:spPr>
              <a:xfrm>
                <a:off x="2512440" y="47278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>
                <a:off x="2512440" y="47278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7" name=""/>
              <p:cNvSpPr/>
              <p:nvPr/>
            </p:nvSpPr>
            <p:spPr>
              <a:xfrm>
                <a:off x="2512440" y="47278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8" name=""/>
              <p:cNvSpPr/>
              <p:nvPr/>
            </p:nvSpPr>
            <p:spPr>
              <a:xfrm>
                <a:off x="2512440" y="47278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9" name=""/>
              <p:cNvSpPr/>
              <p:nvPr/>
            </p:nvSpPr>
            <p:spPr>
              <a:xfrm>
                <a:off x="2512440" y="47278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0" name=""/>
              <p:cNvSpPr/>
              <p:nvPr/>
            </p:nvSpPr>
            <p:spPr>
              <a:xfrm>
                <a:off x="2512440" y="4727880"/>
                <a:ext cx="13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1" name=""/>
              <p:cNvSpPr/>
              <p:nvPr/>
            </p:nvSpPr>
            <p:spPr>
              <a:xfrm>
                <a:off x="2526480" y="47278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2" name=""/>
              <p:cNvSpPr/>
              <p:nvPr/>
            </p:nvSpPr>
            <p:spPr>
              <a:xfrm>
                <a:off x="2526480" y="47278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3" name=""/>
              <p:cNvSpPr/>
              <p:nvPr/>
            </p:nvSpPr>
            <p:spPr>
              <a:xfrm flipV="1">
                <a:off x="2526480" y="470952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4" name=""/>
              <p:cNvSpPr/>
              <p:nvPr/>
            </p:nvSpPr>
            <p:spPr>
              <a:xfrm>
                <a:off x="2526480" y="47095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5" name=""/>
              <p:cNvSpPr/>
              <p:nvPr/>
            </p:nvSpPr>
            <p:spPr>
              <a:xfrm>
                <a:off x="2526480" y="47095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>
                <a:off x="2526480" y="47095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>
                <a:off x="2526480" y="47095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>
                <a:off x="2526480" y="47095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>
                <a:off x="2526480" y="47095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0" name=""/>
              <p:cNvSpPr/>
              <p:nvPr/>
            </p:nvSpPr>
            <p:spPr>
              <a:xfrm>
                <a:off x="2526480" y="47095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>
                <a:off x="2526480" y="47095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2" name=""/>
              <p:cNvSpPr/>
              <p:nvPr/>
            </p:nvSpPr>
            <p:spPr>
              <a:xfrm flipV="1">
                <a:off x="2526480" y="469116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3" name=""/>
              <p:cNvSpPr/>
              <p:nvPr/>
            </p:nvSpPr>
            <p:spPr>
              <a:xfrm>
                <a:off x="2526480" y="4691160"/>
                <a:ext cx="158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4" name=""/>
              <p:cNvSpPr/>
              <p:nvPr/>
            </p:nvSpPr>
            <p:spPr>
              <a:xfrm>
                <a:off x="2542320" y="46911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5" name=""/>
              <p:cNvSpPr/>
              <p:nvPr/>
            </p:nvSpPr>
            <p:spPr>
              <a:xfrm>
                <a:off x="2542320" y="46911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6" name=""/>
              <p:cNvSpPr/>
              <p:nvPr/>
            </p:nvSpPr>
            <p:spPr>
              <a:xfrm>
                <a:off x="2542320" y="46911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7" name=""/>
              <p:cNvSpPr/>
              <p:nvPr/>
            </p:nvSpPr>
            <p:spPr>
              <a:xfrm>
                <a:off x="2542320" y="46911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8" name=""/>
              <p:cNvSpPr/>
              <p:nvPr/>
            </p:nvSpPr>
            <p:spPr>
              <a:xfrm>
                <a:off x="2542320" y="46911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9" name=""/>
              <p:cNvSpPr/>
              <p:nvPr/>
            </p:nvSpPr>
            <p:spPr>
              <a:xfrm>
                <a:off x="2542320" y="46911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0" name=""/>
              <p:cNvSpPr/>
              <p:nvPr/>
            </p:nvSpPr>
            <p:spPr>
              <a:xfrm>
                <a:off x="2542320" y="46911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1" name=""/>
              <p:cNvSpPr/>
              <p:nvPr/>
            </p:nvSpPr>
            <p:spPr>
              <a:xfrm>
                <a:off x="2542320" y="46911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2" name=""/>
              <p:cNvSpPr/>
              <p:nvPr/>
            </p:nvSpPr>
            <p:spPr>
              <a:xfrm flipV="1">
                <a:off x="2542320" y="467280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3" name=""/>
              <p:cNvSpPr/>
              <p:nvPr/>
            </p:nvSpPr>
            <p:spPr>
              <a:xfrm>
                <a:off x="2542320" y="46728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4" name=""/>
              <p:cNvSpPr/>
              <p:nvPr/>
            </p:nvSpPr>
            <p:spPr>
              <a:xfrm>
                <a:off x="2542320" y="46728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5" name=""/>
              <p:cNvSpPr/>
              <p:nvPr/>
            </p:nvSpPr>
            <p:spPr>
              <a:xfrm>
                <a:off x="2542320" y="46728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6" name=""/>
              <p:cNvSpPr/>
              <p:nvPr/>
            </p:nvSpPr>
            <p:spPr>
              <a:xfrm>
                <a:off x="2542320" y="4672800"/>
                <a:ext cx="13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7" name=""/>
              <p:cNvSpPr/>
              <p:nvPr/>
            </p:nvSpPr>
            <p:spPr>
              <a:xfrm>
                <a:off x="2556000" y="4672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8" name=""/>
              <p:cNvSpPr/>
              <p:nvPr/>
            </p:nvSpPr>
            <p:spPr>
              <a:xfrm>
                <a:off x="2556000" y="4672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9" name=""/>
              <p:cNvSpPr/>
              <p:nvPr/>
            </p:nvSpPr>
            <p:spPr>
              <a:xfrm>
                <a:off x="2556000" y="4672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0" name=""/>
              <p:cNvSpPr/>
              <p:nvPr/>
            </p:nvSpPr>
            <p:spPr>
              <a:xfrm>
                <a:off x="2556000" y="4672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1" name=""/>
              <p:cNvSpPr/>
              <p:nvPr/>
            </p:nvSpPr>
            <p:spPr>
              <a:xfrm>
                <a:off x="2556000" y="4672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2" name=""/>
              <p:cNvSpPr/>
              <p:nvPr/>
            </p:nvSpPr>
            <p:spPr>
              <a:xfrm flipV="1">
                <a:off x="2556000" y="465444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3" name=""/>
              <p:cNvSpPr/>
              <p:nvPr/>
            </p:nvSpPr>
            <p:spPr>
              <a:xfrm>
                <a:off x="2556000" y="46544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4" name=""/>
              <p:cNvSpPr/>
              <p:nvPr/>
            </p:nvSpPr>
            <p:spPr>
              <a:xfrm>
                <a:off x="2556000" y="46544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5" name=""/>
              <p:cNvSpPr/>
              <p:nvPr/>
            </p:nvSpPr>
            <p:spPr>
              <a:xfrm>
                <a:off x="2556000" y="46544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6" name=""/>
              <p:cNvSpPr/>
              <p:nvPr/>
            </p:nvSpPr>
            <p:spPr>
              <a:xfrm>
                <a:off x="2556000" y="46544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7" name=""/>
              <p:cNvSpPr/>
              <p:nvPr/>
            </p:nvSpPr>
            <p:spPr>
              <a:xfrm>
                <a:off x="2556000" y="46544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8" name=""/>
              <p:cNvSpPr/>
              <p:nvPr/>
            </p:nvSpPr>
            <p:spPr>
              <a:xfrm>
                <a:off x="2556000" y="46544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9" name=""/>
              <p:cNvSpPr/>
              <p:nvPr/>
            </p:nvSpPr>
            <p:spPr>
              <a:xfrm>
                <a:off x="2556000" y="4654440"/>
                <a:ext cx="1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0" name=""/>
              <p:cNvSpPr/>
              <p:nvPr/>
            </p:nvSpPr>
            <p:spPr>
              <a:xfrm>
                <a:off x="2570040" y="46544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1" name=""/>
              <p:cNvSpPr/>
              <p:nvPr/>
            </p:nvSpPr>
            <p:spPr>
              <a:xfrm flipV="1">
                <a:off x="2570040" y="4635720"/>
                <a:ext cx="1080" cy="1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2" name=""/>
              <p:cNvSpPr/>
              <p:nvPr/>
            </p:nvSpPr>
            <p:spPr>
              <a:xfrm>
                <a:off x="2570040" y="46357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3" name=""/>
              <p:cNvSpPr/>
              <p:nvPr/>
            </p:nvSpPr>
            <p:spPr>
              <a:xfrm>
                <a:off x="2570040" y="46357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4" name=""/>
              <p:cNvSpPr/>
              <p:nvPr/>
            </p:nvSpPr>
            <p:spPr>
              <a:xfrm>
                <a:off x="2570040" y="46357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5" name=""/>
              <p:cNvSpPr/>
              <p:nvPr/>
            </p:nvSpPr>
            <p:spPr>
              <a:xfrm>
                <a:off x="2570040" y="46357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6" name=""/>
              <p:cNvSpPr/>
              <p:nvPr/>
            </p:nvSpPr>
            <p:spPr>
              <a:xfrm>
                <a:off x="2570040" y="46357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7" name=""/>
              <p:cNvSpPr/>
              <p:nvPr/>
            </p:nvSpPr>
            <p:spPr>
              <a:xfrm>
                <a:off x="2570040" y="46357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8" name=""/>
              <p:cNvSpPr/>
              <p:nvPr/>
            </p:nvSpPr>
            <p:spPr>
              <a:xfrm>
                <a:off x="2570040" y="46357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9" name=""/>
              <p:cNvSpPr/>
              <p:nvPr/>
            </p:nvSpPr>
            <p:spPr>
              <a:xfrm>
                <a:off x="2570040" y="46357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0" name=""/>
              <p:cNvSpPr/>
              <p:nvPr/>
            </p:nvSpPr>
            <p:spPr>
              <a:xfrm>
                <a:off x="2570040" y="46357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1" name=""/>
              <p:cNvSpPr/>
              <p:nvPr/>
            </p:nvSpPr>
            <p:spPr>
              <a:xfrm flipV="1">
                <a:off x="2570040" y="4617360"/>
                <a:ext cx="154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2" name=""/>
              <p:cNvSpPr/>
              <p:nvPr/>
            </p:nvSpPr>
            <p:spPr>
              <a:xfrm>
                <a:off x="2585520" y="46173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3" name=""/>
              <p:cNvSpPr/>
              <p:nvPr/>
            </p:nvSpPr>
            <p:spPr>
              <a:xfrm>
                <a:off x="2585520" y="46173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4" name=""/>
              <p:cNvSpPr/>
              <p:nvPr/>
            </p:nvSpPr>
            <p:spPr>
              <a:xfrm>
                <a:off x="2585520" y="46173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5" name=""/>
              <p:cNvSpPr/>
              <p:nvPr/>
            </p:nvSpPr>
            <p:spPr>
              <a:xfrm>
                <a:off x="2585520" y="46173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6" name=""/>
              <p:cNvSpPr/>
              <p:nvPr/>
            </p:nvSpPr>
            <p:spPr>
              <a:xfrm>
                <a:off x="2585520" y="46173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7" name=""/>
              <p:cNvSpPr/>
              <p:nvPr/>
            </p:nvSpPr>
            <p:spPr>
              <a:xfrm>
                <a:off x="2585520" y="46173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8" name=""/>
              <p:cNvSpPr/>
              <p:nvPr/>
            </p:nvSpPr>
            <p:spPr>
              <a:xfrm>
                <a:off x="2585520" y="46173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9" name=""/>
              <p:cNvSpPr/>
              <p:nvPr/>
            </p:nvSpPr>
            <p:spPr>
              <a:xfrm>
                <a:off x="2585520" y="46173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0" name=""/>
              <p:cNvSpPr/>
              <p:nvPr/>
            </p:nvSpPr>
            <p:spPr>
              <a:xfrm>
                <a:off x="2585520" y="46173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1" name=""/>
              <p:cNvSpPr/>
              <p:nvPr/>
            </p:nvSpPr>
            <p:spPr>
              <a:xfrm flipV="1">
                <a:off x="2585520" y="459900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2" name=""/>
              <p:cNvSpPr/>
              <p:nvPr/>
            </p:nvSpPr>
            <p:spPr>
              <a:xfrm>
                <a:off x="2585520" y="45990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3" name=""/>
              <p:cNvSpPr/>
              <p:nvPr/>
            </p:nvSpPr>
            <p:spPr>
              <a:xfrm>
                <a:off x="2585520" y="4599000"/>
                <a:ext cx="14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4" name=""/>
              <p:cNvSpPr/>
              <p:nvPr/>
            </p:nvSpPr>
            <p:spPr>
              <a:xfrm>
                <a:off x="2599560" y="45990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5" name=""/>
              <p:cNvSpPr/>
              <p:nvPr/>
            </p:nvSpPr>
            <p:spPr>
              <a:xfrm>
                <a:off x="2599560" y="45990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6" name=""/>
              <p:cNvSpPr/>
              <p:nvPr/>
            </p:nvSpPr>
            <p:spPr>
              <a:xfrm>
                <a:off x="2599560" y="45990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7" name=""/>
              <p:cNvSpPr/>
              <p:nvPr/>
            </p:nvSpPr>
            <p:spPr>
              <a:xfrm>
                <a:off x="2599560" y="45990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8" name=""/>
              <p:cNvSpPr/>
              <p:nvPr/>
            </p:nvSpPr>
            <p:spPr>
              <a:xfrm>
                <a:off x="2599560" y="45990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9" name=""/>
              <p:cNvSpPr/>
              <p:nvPr/>
            </p:nvSpPr>
            <p:spPr>
              <a:xfrm>
                <a:off x="2599560" y="45990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0" name=""/>
              <p:cNvSpPr/>
              <p:nvPr/>
            </p:nvSpPr>
            <p:spPr>
              <a:xfrm flipV="1">
                <a:off x="2599560" y="458064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1" name=""/>
              <p:cNvSpPr/>
              <p:nvPr/>
            </p:nvSpPr>
            <p:spPr>
              <a:xfrm>
                <a:off x="2599560" y="45806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2" name=""/>
              <p:cNvSpPr/>
              <p:nvPr/>
            </p:nvSpPr>
            <p:spPr>
              <a:xfrm>
                <a:off x="2599560" y="45806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3" name=""/>
              <p:cNvSpPr/>
              <p:nvPr/>
            </p:nvSpPr>
            <p:spPr>
              <a:xfrm>
                <a:off x="2599560" y="45806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4" name=""/>
              <p:cNvSpPr/>
              <p:nvPr/>
            </p:nvSpPr>
            <p:spPr>
              <a:xfrm>
                <a:off x="2599560" y="45806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5" name=""/>
              <p:cNvSpPr/>
              <p:nvPr/>
            </p:nvSpPr>
            <p:spPr>
              <a:xfrm>
                <a:off x="2599560" y="4580640"/>
                <a:ext cx="13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6" name=""/>
              <p:cNvSpPr/>
              <p:nvPr/>
            </p:nvSpPr>
            <p:spPr>
              <a:xfrm>
                <a:off x="2613240" y="45806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7" name=""/>
              <p:cNvSpPr/>
              <p:nvPr/>
            </p:nvSpPr>
            <p:spPr>
              <a:xfrm>
                <a:off x="2613240" y="45806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8" name=""/>
              <p:cNvSpPr/>
              <p:nvPr/>
            </p:nvSpPr>
            <p:spPr>
              <a:xfrm>
                <a:off x="2613240" y="45806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9" name=""/>
              <p:cNvSpPr/>
              <p:nvPr/>
            </p:nvSpPr>
            <p:spPr>
              <a:xfrm>
                <a:off x="2613240" y="45806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0" name=""/>
              <p:cNvSpPr/>
              <p:nvPr/>
            </p:nvSpPr>
            <p:spPr>
              <a:xfrm flipV="1">
                <a:off x="2613240" y="456228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1" name=""/>
              <p:cNvSpPr/>
              <p:nvPr/>
            </p:nvSpPr>
            <p:spPr>
              <a:xfrm>
                <a:off x="2613240" y="45622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2" name=""/>
              <p:cNvSpPr/>
              <p:nvPr/>
            </p:nvSpPr>
            <p:spPr>
              <a:xfrm>
                <a:off x="2613240" y="45622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3" name=""/>
              <p:cNvSpPr/>
              <p:nvPr/>
            </p:nvSpPr>
            <p:spPr>
              <a:xfrm>
                <a:off x="2613240" y="45622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4" name=""/>
              <p:cNvSpPr/>
              <p:nvPr/>
            </p:nvSpPr>
            <p:spPr>
              <a:xfrm>
                <a:off x="2613240" y="45622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5" name=""/>
              <p:cNvSpPr/>
              <p:nvPr/>
            </p:nvSpPr>
            <p:spPr>
              <a:xfrm>
                <a:off x="2613240" y="45622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6" name=""/>
              <p:cNvSpPr/>
              <p:nvPr/>
            </p:nvSpPr>
            <p:spPr>
              <a:xfrm>
                <a:off x="2613240" y="45622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7" name=""/>
              <p:cNvSpPr/>
              <p:nvPr/>
            </p:nvSpPr>
            <p:spPr>
              <a:xfrm>
                <a:off x="2613240" y="4562280"/>
                <a:ext cx="15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8" name=""/>
              <p:cNvSpPr/>
              <p:nvPr/>
            </p:nvSpPr>
            <p:spPr>
              <a:xfrm>
                <a:off x="2628720" y="45622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9" name=""/>
              <p:cNvSpPr/>
              <p:nvPr/>
            </p:nvSpPr>
            <p:spPr>
              <a:xfrm>
                <a:off x="2628720" y="45622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0" name=""/>
              <p:cNvSpPr/>
              <p:nvPr/>
            </p:nvSpPr>
            <p:spPr>
              <a:xfrm flipV="1">
                <a:off x="2628720" y="454392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1" name=""/>
              <p:cNvSpPr/>
              <p:nvPr/>
            </p:nvSpPr>
            <p:spPr>
              <a:xfrm>
                <a:off x="2628720" y="4543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2" name=""/>
              <p:cNvSpPr/>
              <p:nvPr/>
            </p:nvSpPr>
            <p:spPr>
              <a:xfrm>
                <a:off x="2628720" y="4543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3" name=""/>
              <p:cNvSpPr/>
              <p:nvPr/>
            </p:nvSpPr>
            <p:spPr>
              <a:xfrm>
                <a:off x="2628720" y="4543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4" name=""/>
              <p:cNvSpPr/>
              <p:nvPr/>
            </p:nvSpPr>
            <p:spPr>
              <a:xfrm>
                <a:off x="2628720" y="4543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5" name=""/>
              <p:cNvSpPr/>
              <p:nvPr/>
            </p:nvSpPr>
            <p:spPr>
              <a:xfrm>
                <a:off x="2628720" y="4543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6" name=""/>
              <p:cNvSpPr/>
              <p:nvPr/>
            </p:nvSpPr>
            <p:spPr>
              <a:xfrm>
                <a:off x="2628720" y="4543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7" name=""/>
              <p:cNvSpPr/>
              <p:nvPr/>
            </p:nvSpPr>
            <p:spPr>
              <a:xfrm>
                <a:off x="2628720" y="4543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8" name=""/>
              <p:cNvSpPr/>
              <p:nvPr/>
            </p:nvSpPr>
            <p:spPr>
              <a:xfrm>
                <a:off x="2628720" y="4543920"/>
                <a:ext cx="1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9" name=""/>
              <p:cNvSpPr/>
              <p:nvPr/>
            </p:nvSpPr>
            <p:spPr>
              <a:xfrm>
                <a:off x="2643120" y="4543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0" name=""/>
              <p:cNvSpPr/>
              <p:nvPr/>
            </p:nvSpPr>
            <p:spPr>
              <a:xfrm flipV="1">
                <a:off x="2643120" y="452592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1" name=""/>
              <p:cNvSpPr/>
              <p:nvPr/>
            </p:nvSpPr>
            <p:spPr>
              <a:xfrm>
                <a:off x="2643120" y="4525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2" name=""/>
              <p:cNvSpPr/>
              <p:nvPr/>
            </p:nvSpPr>
            <p:spPr>
              <a:xfrm>
                <a:off x="2643120" y="4525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13" name=""/>
            <p:cNvGrpSpPr/>
            <p:nvPr/>
          </p:nvGrpSpPr>
          <p:grpSpPr>
            <a:xfrm>
              <a:off x="2643120" y="4160880"/>
              <a:ext cx="510840" cy="366480"/>
              <a:chOff x="2643120" y="4160880"/>
              <a:chExt cx="510840" cy="366480"/>
            </a:xfrm>
          </p:grpSpPr>
          <p:sp>
            <p:nvSpPr>
              <p:cNvPr id="7514" name=""/>
              <p:cNvSpPr/>
              <p:nvPr/>
            </p:nvSpPr>
            <p:spPr>
              <a:xfrm>
                <a:off x="2643120" y="4525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5" name=""/>
              <p:cNvSpPr/>
              <p:nvPr/>
            </p:nvSpPr>
            <p:spPr>
              <a:xfrm>
                <a:off x="2643120" y="4525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6" name=""/>
              <p:cNvSpPr/>
              <p:nvPr/>
            </p:nvSpPr>
            <p:spPr>
              <a:xfrm>
                <a:off x="2643120" y="4525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7" name=""/>
              <p:cNvSpPr/>
              <p:nvPr/>
            </p:nvSpPr>
            <p:spPr>
              <a:xfrm>
                <a:off x="2643120" y="4525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8" name=""/>
              <p:cNvSpPr/>
              <p:nvPr/>
            </p:nvSpPr>
            <p:spPr>
              <a:xfrm>
                <a:off x="2643120" y="4525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9" name=""/>
              <p:cNvSpPr/>
              <p:nvPr/>
            </p:nvSpPr>
            <p:spPr>
              <a:xfrm>
                <a:off x="2643120" y="4525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0" name=""/>
              <p:cNvSpPr/>
              <p:nvPr/>
            </p:nvSpPr>
            <p:spPr>
              <a:xfrm flipV="1">
                <a:off x="2643120" y="4507560"/>
                <a:ext cx="140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1" name=""/>
              <p:cNvSpPr/>
              <p:nvPr/>
            </p:nvSpPr>
            <p:spPr>
              <a:xfrm>
                <a:off x="2657160" y="45075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2" name=""/>
              <p:cNvSpPr/>
              <p:nvPr/>
            </p:nvSpPr>
            <p:spPr>
              <a:xfrm>
                <a:off x="2657160" y="45075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3" name=""/>
              <p:cNvSpPr/>
              <p:nvPr/>
            </p:nvSpPr>
            <p:spPr>
              <a:xfrm>
                <a:off x="2657160" y="45075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4" name=""/>
              <p:cNvSpPr/>
              <p:nvPr/>
            </p:nvSpPr>
            <p:spPr>
              <a:xfrm>
                <a:off x="2657160" y="45075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5" name=""/>
              <p:cNvSpPr/>
              <p:nvPr/>
            </p:nvSpPr>
            <p:spPr>
              <a:xfrm>
                <a:off x="2657160" y="45075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6" name=""/>
              <p:cNvSpPr/>
              <p:nvPr/>
            </p:nvSpPr>
            <p:spPr>
              <a:xfrm>
                <a:off x="2657160" y="45075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7" name=""/>
              <p:cNvSpPr/>
              <p:nvPr/>
            </p:nvSpPr>
            <p:spPr>
              <a:xfrm>
                <a:off x="2657160" y="45075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8" name=""/>
              <p:cNvSpPr/>
              <p:nvPr/>
            </p:nvSpPr>
            <p:spPr>
              <a:xfrm>
                <a:off x="2657160" y="45075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9" name=""/>
              <p:cNvSpPr/>
              <p:nvPr/>
            </p:nvSpPr>
            <p:spPr>
              <a:xfrm>
                <a:off x="2657160" y="45075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0" name=""/>
              <p:cNvSpPr/>
              <p:nvPr/>
            </p:nvSpPr>
            <p:spPr>
              <a:xfrm flipV="1">
                <a:off x="2657160" y="448920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1" name=""/>
              <p:cNvSpPr/>
              <p:nvPr/>
            </p:nvSpPr>
            <p:spPr>
              <a:xfrm>
                <a:off x="2657160" y="4489200"/>
                <a:ext cx="15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2" name=""/>
              <p:cNvSpPr/>
              <p:nvPr/>
            </p:nvSpPr>
            <p:spPr>
              <a:xfrm>
                <a:off x="2672640" y="44892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3" name=""/>
              <p:cNvSpPr/>
              <p:nvPr/>
            </p:nvSpPr>
            <p:spPr>
              <a:xfrm>
                <a:off x="2672640" y="44892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4" name=""/>
              <p:cNvSpPr/>
              <p:nvPr/>
            </p:nvSpPr>
            <p:spPr>
              <a:xfrm>
                <a:off x="2672640" y="44892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5" name=""/>
              <p:cNvSpPr/>
              <p:nvPr/>
            </p:nvSpPr>
            <p:spPr>
              <a:xfrm>
                <a:off x="2672640" y="44892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6" name=""/>
              <p:cNvSpPr/>
              <p:nvPr/>
            </p:nvSpPr>
            <p:spPr>
              <a:xfrm>
                <a:off x="2672640" y="44892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7" name=""/>
              <p:cNvSpPr/>
              <p:nvPr/>
            </p:nvSpPr>
            <p:spPr>
              <a:xfrm>
                <a:off x="2672640" y="44892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8" name=""/>
              <p:cNvSpPr/>
              <p:nvPr/>
            </p:nvSpPr>
            <p:spPr>
              <a:xfrm>
                <a:off x="2672640" y="44892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9" name=""/>
              <p:cNvSpPr/>
              <p:nvPr/>
            </p:nvSpPr>
            <p:spPr>
              <a:xfrm>
                <a:off x="2672640" y="44892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0" name=""/>
              <p:cNvSpPr/>
              <p:nvPr/>
            </p:nvSpPr>
            <p:spPr>
              <a:xfrm flipV="1">
                <a:off x="2672640" y="447084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1" name=""/>
              <p:cNvSpPr/>
              <p:nvPr/>
            </p:nvSpPr>
            <p:spPr>
              <a:xfrm>
                <a:off x="2672640" y="4470840"/>
                <a:ext cx="1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2" name=""/>
              <p:cNvSpPr/>
              <p:nvPr/>
            </p:nvSpPr>
            <p:spPr>
              <a:xfrm>
                <a:off x="2687040" y="44708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3" name=""/>
              <p:cNvSpPr/>
              <p:nvPr/>
            </p:nvSpPr>
            <p:spPr>
              <a:xfrm>
                <a:off x="2687040" y="44708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4" name=""/>
              <p:cNvSpPr/>
              <p:nvPr/>
            </p:nvSpPr>
            <p:spPr>
              <a:xfrm>
                <a:off x="2687040" y="44708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5" name=""/>
              <p:cNvSpPr/>
              <p:nvPr/>
            </p:nvSpPr>
            <p:spPr>
              <a:xfrm>
                <a:off x="2687040" y="44708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6" name=""/>
              <p:cNvSpPr/>
              <p:nvPr/>
            </p:nvSpPr>
            <p:spPr>
              <a:xfrm>
                <a:off x="2687040" y="44708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7" name=""/>
              <p:cNvSpPr/>
              <p:nvPr/>
            </p:nvSpPr>
            <p:spPr>
              <a:xfrm>
                <a:off x="2687040" y="44708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8" name=""/>
              <p:cNvSpPr/>
              <p:nvPr/>
            </p:nvSpPr>
            <p:spPr>
              <a:xfrm>
                <a:off x="2687040" y="44708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9" name=""/>
              <p:cNvSpPr/>
              <p:nvPr/>
            </p:nvSpPr>
            <p:spPr>
              <a:xfrm flipV="1">
                <a:off x="2687040" y="445248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0" name=""/>
              <p:cNvSpPr/>
              <p:nvPr/>
            </p:nvSpPr>
            <p:spPr>
              <a:xfrm>
                <a:off x="2687040" y="44524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1" name=""/>
              <p:cNvSpPr/>
              <p:nvPr/>
            </p:nvSpPr>
            <p:spPr>
              <a:xfrm>
                <a:off x="2687040" y="4452480"/>
                <a:ext cx="13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2" name=""/>
              <p:cNvSpPr/>
              <p:nvPr/>
            </p:nvSpPr>
            <p:spPr>
              <a:xfrm>
                <a:off x="2700720" y="44524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3" name=""/>
              <p:cNvSpPr/>
              <p:nvPr/>
            </p:nvSpPr>
            <p:spPr>
              <a:xfrm>
                <a:off x="2700720" y="44524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4" name=""/>
              <p:cNvSpPr/>
              <p:nvPr/>
            </p:nvSpPr>
            <p:spPr>
              <a:xfrm>
                <a:off x="2700720" y="44524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5" name=""/>
              <p:cNvSpPr/>
              <p:nvPr/>
            </p:nvSpPr>
            <p:spPr>
              <a:xfrm>
                <a:off x="2700720" y="44524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6" name=""/>
              <p:cNvSpPr/>
              <p:nvPr/>
            </p:nvSpPr>
            <p:spPr>
              <a:xfrm>
                <a:off x="2700720" y="44524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7" name=""/>
              <p:cNvSpPr/>
              <p:nvPr/>
            </p:nvSpPr>
            <p:spPr>
              <a:xfrm>
                <a:off x="2700720" y="44524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8" name=""/>
              <p:cNvSpPr/>
              <p:nvPr/>
            </p:nvSpPr>
            <p:spPr>
              <a:xfrm>
                <a:off x="2700720" y="44524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9" name=""/>
              <p:cNvSpPr/>
              <p:nvPr/>
            </p:nvSpPr>
            <p:spPr>
              <a:xfrm flipV="1">
                <a:off x="2700720" y="4433400"/>
                <a:ext cx="144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0" name=""/>
              <p:cNvSpPr/>
              <p:nvPr/>
            </p:nvSpPr>
            <p:spPr>
              <a:xfrm>
                <a:off x="2700720" y="4433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1" name=""/>
              <p:cNvSpPr/>
              <p:nvPr/>
            </p:nvSpPr>
            <p:spPr>
              <a:xfrm>
                <a:off x="2700720" y="4433760"/>
                <a:ext cx="15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2" name=""/>
              <p:cNvSpPr/>
              <p:nvPr/>
            </p:nvSpPr>
            <p:spPr>
              <a:xfrm>
                <a:off x="2716200" y="4433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3" name=""/>
              <p:cNvSpPr/>
              <p:nvPr/>
            </p:nvSpPr>
            <p:spPr>
              <a:xfrm>
                <a:off x="2716200" y="4433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4" name=""/>
              <p:cNvSpPr/>
              <p:nvPr/>
            </p:nvSpPr>
            <p:spPr>
              <a:xfrm>
                <a:off x="2716200" y="4433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5" name=""/>
              <p:cNvSpPr/>
              <p:nvPr/>
            </p:nvSpPr>
            <p:spPr>
              <a:xfrm>
                <a:off x="2716200" y="4433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6" name=""/>
              <p:cNvSpPr/>
              <p:nvPr/>
            </p:nvSpPr>
            <p:spPr>
              <a:xfrm>
                <a:off x="2716200" y="4433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7" name=""/>
              <p:cNvSpPr/>
              <p:nvPr/>
            </p:nvSpPr>
            <p:spPr>
              <a:xfrm>
                <a:off x="2716200" y="4433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8" name=""/>
              <p:cNvSpPr/>
              <p:nvPr/>
            </p:nvSpPr>
            <p:spPr>
              <a:xfrm>
                <a:off x="2716200" y="4433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9" name=""/>
              <p:cNvSpPr/>
              <p:nvPr/>
            </p:nvSpPr>
            <p:spPr>
              <a:xfrm flipV="1">
                <a:off x="2716200" y="441576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0" name=""/>
              <p:cNvSpPr/>
              <p:nvPr/>
            </p:nvSpPr>
            <p:spPr>
              <a:xfrm>
                <a:off x="2716200" y="4415760"/>
                <a:ext cx="14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1" name=""/>
              <p:cNvSpPr/>
              <p:nvPr/>
            </p:nvSpPr>
            <p:spPr>
              <a:xfrm>
                <a:off x="2730600" y="4415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2" name=""/>
              <p:cNvSpPr/>
              <p:nvPr/>
            </p:nvSpPr>
            <p:spPr>
              <a:xfrm>
                <a:off x="2730600" y="4415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3" name=""/>
              <p:cNvSpPr/>
              <p:nvPr/>
            </p:nvSpPr>
            <p:spPr>
              <a:xfrm>
                <a:off x="2730600" y="4415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4" name=""/>
              <p:cNvSpPr/>
              <p:nvPr/>
            </p:nvSpPr>
            <p:spPr>
              <a:xfrm>
                <a:off x="2730600" y="4415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5" name=""/>
              <p:cNvSpPr/>
              <p:nvPr/>
            </p:nvSpPr>
            <p:spPr>
              <a:xfrm>
                <a:off x="2730600" y="4415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6" name=""/>
              <p:cNvSpPr/>
              <p:nvPr/>
            </p:nvSpPr>
            <p:spPr>
              <a:xfrm>
                <a:off x="2730600" y="4415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7" name=""/>
              <p:cNvSpPr/>
              <p:nvPr/>
            </p:nvSpPr>
            <p:spPr>
              <a:xfrm>
                <a:off x="2730600" y="4415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8" name=""/>
              <p:cNvSpPr/>
              <p:nvPr/>
            </p:nvSpPr>
            <p:spPr>
              <a:xfrm flipV="1">
                <a:off x="2730600" y="439740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9" name=""/>
              <p:cNvSpPr/>
              <p:nvPr/>
            </p:nvSpPr>
            <p:spPr>
              <a:xfrm>
                <a:off x="2730600" y="4397400"/>
                <a:ext cx="14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0" name=""/>
              <p:cNvSpPr/>
              <p:nvPr/>
            </p:nvSpPr>
            <p:spPr>
              <a:xfrm>
                <a:off x="2744640" y="43974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1" name=""/>
              <p:cNvSpPr/>
              <p:nvPr/>
            </p:nvSpPr>
            <p:spPr>
              <a:xfrm>
                <a:off x="2744640" y="43974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2" name=""/>
              <p:cNvSpPr/>
              <p:nvPr/>
            </p:nvSpPr>
            <p:spPr>
              <a:xfrm>
                <a:off x="2744640" y="43974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3" name=""/>
              <p:cNvSpPr/>
              <p:nvPr/>
            </p:nvSpPr>
            <p:spPr>
              <a:xfrm>
                <a:off x="2744640" y="43974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4" name=""/>
              <p:cNvSpPr/>
              <p:nvPr/>
            </p:nvSpPr>
            <p:spPr>
              <a:xfrm>
                <a:off x="2744640" y="43974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5" name=""/>
              <p:cNvSpPr/>
              <p:nvPr/>
            </p:nvSpPr>
            <p:spPr>
              <a:xfrm>
                <a:off x="2744640" y="43974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6" name=""/>
              <p:cNvSpPr/>
              <p:nvPr/>
            </p:nvSpPr>
            <p:spPr>
              <a:xfrm>
                <a:off x="2744640" y="43974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7" name=""/>
              <p:cNvSpPr/>
              <p:nvPr/>
            </p:nvSpPr>
            <p:spPr>
              <a:xfrm>
                <a:off x="2744640" y="4397400"/>
                <a:ext cx="13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8" name=""/>
              <p:cNvSpPr/>
              <p:nvPr/>
            </p:nvSpPr>
            <p:spPr>
              <a:xfrm flipV="1">
                <a:off x="2758680" y="437904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9" name=""/>
              <p:cNvSpPr/>
              <p:nvPr/>
            </p:nvSpPr>
            <p:spPr>
              <a:xfrm>
                <a:off x="2758680" y="43790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0" name=""/>
              <p:cNvSpPr/>
              <p:nvPr/>
            </p:nvSpPr>
            <p:spPr>
              <a:xfrm>
                <a:off x="2758680" y="43790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1" name=""/>
              <p:cNvSpPr/>
              <p:nvPr/>
            </p:nvSpPr>
            <p:spPr>
              <a:xfrm>
                <a:off x="2758680" y="43790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2" name=""/>
              <p:cNvSpPr/>
              <p:nvPr/>
            </p:nvSpPr>
            <p:spPr>
              <a:xfrm>
                <a:off x="2758680" y="43790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3" name=""/>
              <p:cNvSpPr/>
              <p:nvPr/>
            </p:nvSpPr>
            <p:spPr>
              <a:xfrm>
                <a:off x="2758680" y="43790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4" name=""/>
              <p:cNvSpPr/>
              <p:nvPr/>
            </p:nvSpPr>
            <p:spPr>
              <a:xfrm>
                <a:off x="2758680" y="43790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5" name=""/>
              <p:cNvSpPr/>
              <p:nvPr/>
            </p:nvSpPr>
            <p:spPr>
              <a:xfrm>
                <a:off x="2758680" y="43790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6" name=""/>
              <p:cNvSpPr/>
              <p:nvPr/>
            </p:nvSpPr>
            <p:spPr>
              <a:xfrm>
                <a:off x="2758680" y="4379040"/>
                <a:ext cx="15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7" name=""/>
              <p:cNvSpPr/>
              <p:nvPr/>
            </p:nvSpPr>
            <p:spPr>
              <a:xfrm>
                <a:off x="2774520" y="43790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8" name=""/>
              <p:cNvSpPr/>
              <p:nvPr/>
            </p:nvSpPr>
            <p:spPr>
              <a:xfrm flipV="1">
                <a:off x="2774520" y="436068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9" name=""/>
              <p:cNvSpPr/>
              <p:nvPr/>
            </p:nvSpPr>
            <p:spPr>
              <a:xfrm>
                <a:off x="2774520" y="43606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0" name=""/>
              <p:cNvSpPr/>
              <p:nvPr/>
            </p:nvSpPr>
            <p:spPr>
              <a:xfrm>
                <a:off x="2774520" y="43606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1" name=""/>
              <p:cNvSpPr/>
              <p:nvPr/>
            </p:nvSpPr>
            <p:spPr>
              <a:xfrm>
                <a:off x="2774520" y="43606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2" name=""/>
              <p:cNvSpPr/>
              <p:nvPr/>
            </p:nvSpPr>
            <p:spPr>
              <a:xfrm>
                <a:off x="2774520" y="43606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3" name=""/>
              <p:cNvSpPr/>
              <p:nvPr/>
            </p:nvSpPr>
            <p:spPr>
              <a:xfrm>
                <a:off x="2774520" y="43606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4" name=""/>
              <p:cNvSpPr/>
              <p:nvPr/>
            </p:nvSpPr>
            <p:spPr>
              <a:xfrm>
                <a:off x="2774520" y="4360680"/>
                <a:ext cx="13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5" name=""/>
              <p:cNvSpPr/>
              <p:nvPr/>
            </p:nvSpPr>
            <p:spPr>
              <a:xfrm>
                <a:off x="2788200" y="43606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6" name=""/>
              <p:cNvSpPr/>
              <p:nvPr/>
            </p:nvSpPr>
            <p:spPr>
              <a:xfrm>
                <a:off x="2788200" y="43606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7" name=""/>
              <p:cNvSpPr/>
              <p:nvPr/>
            </p:nvSpPr>
            <p:spPr>
              <a:xfrm flipV="1">
                <a:off x="2788200" y="434232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8" name=""/>
              <p:cNvSpPr/>
              <p:nvPr/>
            </p:nvSpPr>
            <p:spPr>
              <a:xfrm>
                <a:off x="2788200" y="4342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9" name=""/>
              <p:cNvSpPr/>
              <p:nvPr/>
            </p:nvSpPr>
            <p:spPr>
              <a:xfrm>
                <a:off x="2788200" y="4342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0" name=""/>
              <p:cNvSpPr/>
              <p:nvPr/>
            </p:nvSpPr>
            <p:spPr>
              <a:xfrm>
                <a:off x="2788200" y="4342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1" name=""/>
              <p:cNvSpPr/>
              <p:nvPr/>
            </p:nvSpPr>
            <p:spPr>
              <a:xfrm>
                <a:off x="2788200" y="4342320"/>
                <a:ext cx="1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2" name=""/>
              <p:cNvSpPr/>
              <p:nvPr/>
            </p:nvSpPr>
            <p:spPr>
              <a:xfrm>
                <a:off x="2802600" y="43423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3" name=""/>
              <p:cNvSpPr/>
              <p:nvPr/>
            </p:nvSpPr>
            <p:spPr>
              <a:xfrm>
                <a:off x="2802600" y="43423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4" name=""/>
              <p:cNvSpPr/>
              <p:nvPr/>
            </p:nvSpPr>
            <p:spPr>
              <a:xfrm>
                <a:off x="2802600" y="43423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5" name=""/>
              <p:cNvSpPr/>
              <p:nvPr/>
            </p:nvSpPr>
            <p:spPr>
              <a:xfrm>
                <a:off x="2802600" y="43423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6" name=""/>
              <p:cNvSpPr/>
              <p:nvPr/>
            </p:nvSpPr>
            <p:spPr>
              <a:xfrm>
                <a:off x="2802600" y="43423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7" name=""/>
              <p:cNvSpPr/>
              <p:nvPr/>
            </p:nvSpPr>
            <p:spPr>
              <a:xfrm flipV="1">
                <a:off x="2802600" y="432396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8" name=""/>
              <p:cNvSpPr/>
              <p:nvPr/>
            </p:nvSpPr>
            <p:spPr>
              <a:xfrm>
                <a:off x="2802600" y="4323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9" name=""/>
              <p:cNvSpPr/>
              <p:nvPr/>
            </p:nvSpPr>
            <p:spPr>
              <a:xfrm>
                <a:off x="2802600" y="4323960"/>
                <a:ext cx="15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0" name=""/>
              <p:cNvSpPr/>
              <p:nvPr/>
            </p:nvSpPr>
            <p:spPr>
              <a:xfrm>
                <a:off x="2818080" y="4323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1" name=""/>
              <p:cNvSpPr/>
              <p:nvPr/>
            </p:nvSpPr>
            <p:spPr>
              <a:xfrm>
                <a:off x="2818080" y="4323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2" name=""/>
              <p:cNvSpPr/>
              <p:nvPr/>
            </p:nvSpPr>
            <p:spPr>
              <a:xfrm>
                <a:off x="2818080" y="4323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3" name=""/>
              <p:cNvSpPr/>
              <p:nvPr/>
            </p:nvSpPr>
            <p:spPr>
              <a:xfrm>
                <a:off x="2818080" y="4323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4" name=""/>
              <p:cNvSpPr/>
              <p:nvPr/>
            </p:nvSpPr>
            <p:spPr>
              <a:xfrm>
                <a:off x="2818080" y="4323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5" name=""/>
              <p:cNvSpPr/>
              <p:nvPr/>
            </p:nvSpPr>
            <p:spPr>
              <a:xfrm>
                <a:off x="2818080" y="4323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6" name=""/>
              <p:cNvSpPr/>
              <p:nvPr/>
            </p:nvSpPr>
            <p:spPr>
              <a:xfrm>
                <a:off x="2818080" y="4323960"/>
                <a:ext cx="1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7" name=""/>
              <p:cNvSpPr/>
              <p:nvPr/>
            </p:nvSpPr>
            <p:spPr>
              <a:xfrm flipV="1">
                <a:off x="2832120" y="430596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8" name=""/>
              <p:cNvSpPr/>
              <p:nvPr/>
            </p:nvSpPr>
            <p:spPr>
              <a:xfrm>
                <a:off x="2832120" y="4305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9" name=""/>
              <p:cNvSpPr/>
              <p:nvPr/>
            </p:nvSpPr>
            <p:spPr>
              <a:xfrm>
                <a:off x="2832120" y="4305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0" name=""/>
              <p:cNvSpPr/>
              <p:nvPr/>
            </p:nvSpPr>
            <p:spPr>
              <a:xfrm>
                <a:off x="2832120" y="4305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1" name=""/>
              <p:cNvSpPr/>
              <p:nvPr/>
            </p:nvSpPr>
            <p:spPr>
              <a:xfrm>
                <a:off x="2832120" y="4305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2" name=""/>
              <p:cNvSpPr/>
              <p:nvPr/>
            </p:nvSpPr>
            <p:spPr>
              <a:xfrm>
                <a:off x="2832120" y="4305960"/>
                <a:ext cx="13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3" name=""/>
              <p:cNvSpPr/>
              <p:nvPr/>
            </p:nvSpPr>
            <p:spPr>
              <a:xfrm>
                <a:off x="2846160" y="43059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4" name=""/>
              <p:cNvSpPr/>
              <p:nvPr/>
            </p:nvSpPr>
            <p:spPr>
              <a:xfrm>
                <a:off x="2846160" y="43059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5" name=""/>
              <p:cNvSpPr/>
              <p:nvPr/>
            </p:nvSpPr>
            <p:spPr>
              <a:xfrm>
                <a:off x="2846160" y="43059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6" name=""/>
              <p:cNvSpPr/>
              <p:nvPr/>
            </p:nvSpPr>
            <p:spPr>
              <a:xfrm flipV="1">
                <a:off x="2846160" y="428760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7" name=""/>
              <p:cNvSpPr/>
              <p:nvPr/>
            </p:nvSpPr>
            <p:spPr>
              <a:xfrm>
                <a:off x="2846160" y="42876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8" name=""/>
              <p:cNvSpPr/>
              <p:nvPr/>
            </p:nvSpPr>
            <p:spPr>
              <a:xfrm>
                <a:off x="2846160" y="42876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9" name=""/>
              <p:cNvSpPr/>
              <p:nvPr/>
            </p:nvSpPr>
            <p:spPr>
              <a:xfrm>
                <a:off x="2846160" y="4287600"/>
                <a:ext cx="158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0" name=""/>
              <p:cNvSpPr/>
              <p:nvPr/>
            </p:nvSpPr>
            <p:spPr>
              <a:xfrm>
                <a:off x="2862000" y="4287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1" name=""/>
              <p:cNvSpPr/>
              <p:nvPr/>
            </p:nvSpPr>
            <p:spPr>
              <a:xfrm>
                <a:off x="2862000" y="4287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2" name=""/>
              <p:cNvSpPr/>
              <p:nvPr/>
            </p:nvSpPr>
            <p:spPr>
              <a:xfrm>
                <a:off x="2862000" y="4287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3" name=""/>
              <p:cNvSpPr/>
              <p:nvPr/>
            </p:nvSpPr>
            <p:spPr>
              <a:xfrm>
                <a:off x="2862000" y="4287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4" name=""/>
              <p:cNvSpPr/>
              <p:nvPr/>
            </p:nvSpPr>
            <p:spPr>
              <a:xfrm>
                <a:off x="2862000" y="4287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5" name=""/>
              <p:cNvSpPr/>
              <p:nvPr/>
            </p:nvSpPr>
            <p:spPr>
              <a:xfrm>
                <a:off x="2862000" y="4287600"/>
                <a:ext cx="13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6" name=""/>
              <p:cNvSpPr/>
              <p:nvPr/>
            </p:nvSpPr>
            <p:spPr>
              <a:xfrm flipV="1">
                <a:off x="2875680" y="426924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7" name=""/>
              <p:cNvSpPr/>
              <p:nvPr/>
            </p:nvSpPr>
            <p:spPr>
              <a:xfrm>
                <a:off x="2875680" y="42692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8" name=""/>
              <p:cNvSpPr/>
              <p:nvPr/>
            </p:nvSpPr>
            <p:spPr>
              <a:xfrm>
                <a:off x="2875680" y="42692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9" name=""/>
              <p:cNvSpPr/>
              <p:nvPr/>
            </p:nvSpPr>
            <p:spPr>
              <a:xfrm>
                <a:off x="2875680" y="42692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0" name=""/>
              <p:cNvSpPr/>
              <p:nvPr/>
            </p:nvSpPr>
            <p:spPr>
              <a:xfrm>
                <a:off x="2875680" y="4269240"/>
                <a:ext cx="1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1" name=""/>
              <p:cNvSpPr/>
              <p:nvPr/>
            </p:nvSpPr>
            <p:spPr>
              <a:xfrm>
                <a:off x="2890080" y="42692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2" name=""/>
              <p:cNvSpPr/>
              <p:nvPr/>
            </p:nvSpPr>
            <p:spPr>
              <a:xfrm>
                <a:off x="2890080" y="42692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3" name=""/>
              <p:cNvSpPr/>
              <p:nvPr/>
            </p:nvSpPr>
            <p:spPr>
              <a:xfrm>
                <a:off x="2890080" y="42692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4" name=""/>
              <p:cNvSpPr/>
              <p:nvPr/>
            </p:nvSpPr>
            <p:spPr>
              <a:xfrm>
                <a:off x="2890080" y="42692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5" name=""/>
              <p:cNvSpPr/>
              <p:nvPr/>
            </p:nvSpPr>
            <p:spPr>
              <a:xfrm>
                <a:off x="2890080" y="42692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6" name=""/>
              <p:cNvSpPr/>
              <p:nvPr/>
            </p:nvSpPr>
            <p:spPr>
              <a:xfrm flipV="1">
                <a:off x="2890080" y="4250160"/>
                <a:ext cx="1548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7" name=""/>
              <p:cNvSpPr/>
              <p:nvPr/>
            </p:nvSpPr>
            <p:spPr>
              <a:xfrm>
                <a:off x="2905560" y="42505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8" name=""/>
              <p:cNvSpPr/>
              <p:nvPr/>
            </p:nvSpPr>
            <p:spPr>
              <a:xfrm>
                <a:off x="2905560" y="42505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9" name=""/>
              <p:cNvSpPr/>
              <p:nvPr/>
            </p:nvSpPr>
            <p:spPr>
              <a:xfrm>
                <a:off x="2905560" y="42505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0" name=""/>
              <p:cNvSpPr/>
              <p:nvPr/>
            </p:nvSpPr>
            <p:spPr>
              <a:xfrm>
                <a:off x="2905560" y="42505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1" name=""/>
              <p:cNvSpPr/>
              <p:nvPr/>
            </p:nvSpPr>
            <p:spPr>
              <a:xfrm>
                <a:off x="2905560" y="4250520"/>
                <a:ext cx="14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2" name=""/>
              <p:cNvSpPr/>
              <p:nvPr/>
            </p:nvSpPr>
            <p:spPr>
              <a:xfrm>
                <a:off x="2919960" y="42505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3" name=""/>
              <p:cNvSpPr/>
              <p:nvPr/>
            </p:nvSpPr>
            <p:spPr>
              <a:xfrm>
                <a:off x="2919960" y="42505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4" name=""/>
              <p:cNvSpPr/>
              <p:nvPr/>
            </p:nvSpPr>
            <p:spPr>
              <a:xfrm>
                <a:off x="2919960" y="42505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5" name=""/>
              <p:cNvSpPr/>
              <p:nvPr/>
            </p:nvSpPr>
            <p:spPr>
              <a:xfrm flipV="1">
                <a:off x="2919960" y="4233960"/>
                <a:ext cx="1080" cy="1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6" name=""/>
              <p:cNvSpPr/>
              <p:nvPr/>
            </p:nvSpPr>
            <p:spPr>
              <a:xfrm>
                <a:off x="2919960" y="4234320"/>
                <a:ext cx="13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7" name=""/>
              <p:cNvSpPr/>
              <p:nvPr/>
            </p:nvSpPr>
            <p:spPr>
              <a:xfrm>
                <a:off x="2933640" y="4234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8" name=""/>
              <p:cNvSpPr/>
              <p:nvPr/>
            </p:nvSpPr>
            <p:spPr>
              <a:xfrm>
                <a:off x="2933640" y="4234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9" name=""/>
              <p:cNvSpPr/>
              <p:nvPr/>
            </p:nvSpPr>
            <p:spPr>
              <a:xfrm>
                <a:off x="2933640" y="4234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0" name=""/>
              <p:cNvSpPr/>
              <p:nvPr/>
            </p:nvSpPr>
            <p:spPr>
              <a:xfrm>
                <a:off x="2933640" y="4234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1" name=""/>
              <p:cNvSpPr/>
              <p:nvPr/>
            </p:nvSpPr>
            <p:spPr>
              <a:xfrm>
                <a:off x="2933640" y="4234320"/>
                <a:ext cx="15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2" name=""/>
              <p:cNvSpPr/>
              <p:nvPr/>
            </p:nvSpPr>
            <p:spPr>
              <a:xfrm>
                <a:off x="2949120" y="4234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3" name=""/>
              <p:cNvSpPr/>
              <p:nvPr/>
            </p:nvSpPr>
            <p:spPr>
              <a:xfrm>
                <a:off x="2949120" y="4234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4" name=""/>
              <p:cNvSpPr/>
              <p:nvPr/>
            </p:nvSpPr>
            <p:spPr>
              <a:xfrm>
                <a:off x="2949120" y="4234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5" name=""/>
              <p:cNvSpPr/>
              <p:nvPr/>
            </p:nvSpPr>
            <p:spPr>
              <a:xfrm flipV="1">
                <a:off x="2949120" y="4215960"/>
                <a:ext cx="140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6" name=""/>
              <p:cNvSpPr/>
              <p:nvPr/>
            </p:nvSpPr>
            <p:spPr>
              <a:xfrm>
                <a:off x="2963520" y="42159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7" name=""/>
              <p:cNvSpPr/>
              <p:nvPr/>
            </p:nvSpPr>
            <p:spPr>
              <a:xfrm>
                <a:off x="2963520" y="42159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8" name=""/>
              <p:cNvSpPr/>
              <p:nvPr/>
            </p:nvSpPr>
            <p:spPr>
              <a:xfrm>
                <a:off x="2963520" y="42159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9" name=""/>
              <p:cNvSpPr/>
              <p:nvPr/>
            </p:nvSpPr>
            <p:spPr>
              <a:xfrm>
                <a:off x="2963520" y="4215960"/>
                <a:ext cx="1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0" name=""/>
              <p:cNvSpPr/>
              <p:nvPr/>
            </p:nvSpPr>
            <p:spPr>
              <a:xfrm>
                <a:off x="2977560" y="4215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1" name=""/>
              <p:cNvSpPr/>
              <p:nvPr/>
            </p:nvSpPr>
            <p:spPr>
              <a:xfrm>
                <a:off x="2977560" y="4215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2" name=""/>
              <p:cNvSpPr/>
              <p:nvPr/>
            </p:nvSpPr>
            <p:spPr>
              <a:xfrm>
                <a:off x="2977560" y="4215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3" name=""/>
              <p:cNvSpPr/>
              <p:nvPr/>
            </p:nvSpPr>
            <p:spPr>
              <a:xfrm>
                <a:off x="2977560" y="4215960"/>
                <a:ext cx="15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4" name=""/>
              <p:cNvSpPr/>
              <p:nvPr/>
            </p:nvSpPr>
            <p:spPr>
              <a:xfrm>
                <a:off x="2993040" y="4215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5" name=""/>
              <p:cNvSpPr/>
              <p:nvPr/>
            </p:nvSpPr>
            <p:spPr>
              <a:xfrm flipV="1">
                <a:off x="2993040" y="419760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6" name=""/>
              <p:cNvSpPr/>
              <p:nvPr/>
            </p:nvSpPr>
            <p:spPr>
              <a:xfrm>
                <a:off x="2993040" y="4197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7" name=""/>
              <p:cNvSpPr/>
              <p:nvPr/>
            </p:nvSpPr>
            <p:spPr>
              <a:xfrm>
                <a:off x="2993040" y="4197600"/>
                <a:ext cx="1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8" name=""/>
              <p:cNvSpPr/>
              <p:nvPr/>
            </p:nvSpPr>
            <p:spPr>
              <a:xfrm>
                <a:off x="3007440" y="4197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9" name=""/>
              <p:cNvSpPr/>
              <p:nvPr/>
            </p:nvSpPr>
            <p:spPr>
              <a:xfrm>
                <a:off x="3007440" y="4197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0" name=""/>
              <p:cNvSpPr/>
              <p:nvPr/>
            </p:nvSpPr>
            <p:spPr>
              <a:xfrm>
                <a:off x="3007440" y="4197600"/>
                <a:ext cx="13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1" name=""/>
              <p:cNvSpPr/>
              <p:nvPr/>
            </p:nvSpPr>
            <p:spPr>
              <a:xfrm>
                <a:off x="3021120" y="41976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2" name=""/>
              <p:cNvSpPr/>
              <p:nvPr/>
            </p:nvSpPr>
            <p:spPr>
              <a:xfrm>
                <a:off x="3021120" y="41976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3" name=""/>
              <p:cNvSpPr/>
              <p:nvPr/>
            </p:nvSpPr>
            <p:spPr>
              <a:xfrm>
                <a:off x="3021120" y="4197600"/>
                <a:ext cx="15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4" name=""/>
              <p:cNvSpPr/>
              <p:nvPr/>
            </p:nvSpPr>
            <p:spPr>
              <a:xfrm flipV="1">
                <a:off x="3036960" y="4178520"/>
                <a:ext cx="144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5" name=""/>
              <p:cNvSpPr/>
              <p:nvPr/>
            </p:nvSpPr>
            <p:spPr>
              <a:xfrm>
                <a:off x="3036960" y="41788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6" name=""/>
              <p:cNvSpPr/>
              <p:nvPr/>
            </p:nvSpPr>
            <p:spPr>
              <a:xfrm>
                <a:off x="3036960" y="4178880"/>
                <a:ext cx="14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7" name=""/>
              <p:cNvSpPr/>
              <p:nvPr/>
            </p:nvSpPr>
            <p:spPr>
              <a:xfrm>
                <a:off x="3051000" y="41788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8" name=""/>
              <p:cNvSpPr/>
              <p:nvPr/>
            </p:nvSpPr>
            <p:spPr>
              <a:xfrm>
                <a:off x="3051000" y="41788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9" name=""/>
              <p:cNvSpPr/>
              <p:nvPr/>
            </p:nvSpPr>
            <p:spPr>
              <a:xfrm>
                <a:off x="3051000" y="4178880"/>
                <a:ext cx="14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0" name=""/>
              <p:cNvSpPr/>
              <p:nvPr/>
            </p:nvSpPr>
            <p:spPr>
              <a:xfrm>
                <a:off x="3065040" y="41788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1" name=""/>
              <p:cNvSpPr/>
              <p:nvPr/>
            </p:nvSpPr>
            <p:spPr>
              <a:xfrm>
                <a:off x="3065040" y="41788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2" name=""/>
              <p:cNvSpPr/>
              <p:nvPr/>
            </p:nvSpPr>
            <p:spPr>
              <a:xfrm>
                <a:off x="3065040" y="4178880"/>
                <a:ext cx="15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3" name=""/>
              <p:cNvSpPr/>
              <p:nvPr/>
            </p:nvSpPr>
            <p:spPr>
              <a:xfrm>
                <a:off x="3080880" y="41788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4" name=""/>
              <p:cNvSpPr/>
              <p:nvPr/>
            </p:nvSpPr>
            <p:spPr>
              <a:xfrm flipV="1">
                <a:off x="3080880" y="4160880"/>
                <a:ext cx="140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5" name=""/>
              <p:cNvSpPr/>
              <p:nvPr/>
            </p:nvSpPr>
            <p:spPr>
              <a:xfrm>
                <a:off x="3094920" y="41608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6" name=""/>
              <p:cNvSpPr/>
              <p:nvPr/>
            </p:nvSpPr>
            <p:spPr>
              <a:xfrm>
                <a:off x="3094920" y="4160880"/>
                <a:ext cx="13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7" name=""/>
              <p:cNvSpPr/>
              <p:nvPr/>
            </p:nvSpPr>
            <p:spPr>
              <a:xfrm>
                <a:off x="3108600" y="41608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8" name=""/>
              <p:cNvSpPr/>
              <p:nvPr/>
            </p:nvSpPr>
            <p:spPr>
              <a:xfrm>
                <a:off x="3108600" y="4160880"/>
                <a:ext cx="14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9" name=""/>
              <p:cNvSpPr/>
              <p:nvPr/>
            </p:nvSpPr>
            <p:spPr>
              <a:xfrm>
                <a:off x="3123000" y="41608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0" name=""/>
              <p:cNvSpPr/>
              <p:nvPr/>
            </p:nvSpPr>
            <p:spPr>
              <a:xfrm>
                <a:off x="3123000" y="4160880"/>
                <a:ext cx="15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1" name=""/>
              <p:cNvSpPr/>
              <p:nvPr/>
            </p:nvSpPr>
            <p:spPr>
              <a:xfrm>
                <a:off x="3138480" y="41608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2" name=""/>
              <p:cNvSpPr/>
              <p:nvPr/>
            </p:nvSpPr>
            <p:spPr>
              <a:xfrm>
                <a:off x="3138480" y="4160880"/>
                <a:ext cx="14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3" name=""/>
              <p:cNvSpPr/>
              <p:nvPr/>
            </p:nvSpPr>
            <p:spPr>
              <a:xfrm>
                <a:off x="3152880" y="41608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14" name=""/>
            <p:cNvSpPr/>
            <p:nvPr/>
          </p:nvSpPr>
          <p:spPr>
            <a:xfrm flipV="1">
              <a:off x="3152880" y="4141440"/>
              <a:ext cx="126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5" name=""/>
            <p:cNvSpPr/>
            <p:nvPr/>
          </p:nvSpPr>
          <p:spPr>
            <a:xfrm>
              <a:off x="3165480" y="4141800"/>
              <a:ext cx="158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6" name=""/>
            <p:cNvSpPr/>
            <p:nvPr/>
          </p:nvSpPr>
          <p:spPr>
            <a:xfrm>
              <a:off x="3181320" y="414180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7" name=""/>
            <p:cNvSpPr/>
            <p:nvPr/>
          </p:nvSpPr>
          <p:spPr>
            <a:xfrm>
              <a:off x="3181320" y="4141800"/>
              <a:ext cx="14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8" name=""/>
            <p:cNvSpPr/>
            <p:nvPr/>
          </p:nvSpPr>
          <p:spPr>
            <a:xfrm>
              <a:off x="3195720" y="4141800"/>
              <a:ext cx="140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9" name=""/>
            <p:cNvSpPr/>
            <p:nvPr/>
          </p:nvSpPr>
          <p:spPr>
            <a:xfrm>
              <a:off x="3209760" y="4141800"/>
              <a:ext cx="162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0" name=""/>
            <p:cNvSpPr/>
            <p:nvPr/>
          </p:nvSpPr>
          <p:spPr>
            <a:xfrm>
              <a:off x="3225960" y="414180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1" name=""/>
            <p:cNvSpPr/>
            <p:nvPr/>
          </p:nvSpPr>
          <p:spPr>
            <a:xfrm>
              <a:off x="3225960" y="4141800"/>
              <a:ext cx="140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2" name=""/>
            <p:cNvSpPr/>
            <p:nvPr/>
          </p:nvSpPr>
          <p:spPr>
            <a:xfrm>
              <a:off x="3240000" y="414180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3" name=""/>
            <p:cNvSpPr/>
            <p:nvPr/>
          </p:nvSpPr>
          <p:spPr>
            <a:xfrm flipV="1">
              <a:off x="3252960" y="4123800"/>
              <a:ext cx="2988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4" name=""/>
            <p:cNvSpPr/>
            <p:nvPr/>
          </p:nvSpPr>
          <p:spPr>
            <a:xfrm>
              <a:off x="3282840" y="412416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5" name=""/>
            <p:cNvSpPr/>
            <p:nvPr/>
          </p:nvSpPr>
          <p:spPr>
            <a:xfrm>
              <a:off x="3297240" y="4124160"/>
              <a:ext cx="15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6" name=""/>
            <p:cNvSpPr/>
            <p:nvPr/>
          </p:nvSpPr>
          <p:spPr>
            <a:xfrm>
              <a:off x="3313080" y="4124160"/>
              <a:ext cx="27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7" name=""/>
            <p:cNvSpPr/>
            <p:nvPr/>
          </p:nvSpPr>
          <p:spPr>
            <a:xfrm>
              <a:off x="3340080" y="4124160"/>
              <a:ext cx="30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8" name=""/>
            <p:cNvSpPr/>
            <p:nvPr/>
          </p:nvSpPr>
          <p:spPr>
            <a:xfrm>
              <a:off x="3370320" y="4124160"/>
              <a:ext cx="44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9" name=""/>
            <p:cNvSpPr/>
            <p:nvPr/>
          </p:nvSpPr>
          <p:spPr>
            <a:xfrm>
              <a:off x="3414600" y="4124160"/>
              <a:ext cx="4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0" name=""/>
            <p:cNvSpPr/>
            <p:nvPr/>
          </p:nvSpPr>
          <p:spPr>
            <a:xfrm>
              <a:off x="3457440" y="4124160"/>
              <a:ext cx="87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1" name=""/>
            <p:cNvSpPr/>
            <p:nvPr/>
          </p:nvSpPr>
          <p:spPr>
            <a:xfrm>
              <a:off x="507600" y="5923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2" name=""/>
            <p:cNvSpPr/>
            <p:nvPr/>
          </p:nvSpPr>
          <p:spPr>
            <a:xfrm>
              <a:off x="405720" y="5537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3" name=""/>
            <p:cNvSpPr/>
            <p:nvPr/>
          </p:nvSpPr>
          <p:spPr>
            <a:xfrm>
              <a:off x="405720" y="5168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4" name=""/>
            <p:cNvSpPr/>
            <p:nvPr/>
          </p:nvSpPr>
          <p:spPr>
            <a:xfrm>
              <a:off x="405720" y="47829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5" name=""/>
            <p:cNvSpPr/>
            <p:nvPr/>
          </p:nvSpPr>
          <p:spPr>
            <a:xfrm>
              <a:off x="405720" y="4397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6" name=""/>
            <p:cNvSpPr/>
            <p:nvPr/>
          </p:nvSpPr>
          <p:spPr>
            <a:xfrm>
              <a:off x="536040" y="4032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7" name=""/>
            <p:cNvSpPr/>
            <p:nvPr/>
          </p:nvSpPr>
          <p:spPr>
            <a:xfrm>
              <a:off x="434160" y="3646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8" name=""/>
            <p:cNvSpPr/>
            <p:nvPr/>
          </p:nvSpPr>
          <p:spPr>
            <a:xfrm>
              <a:off x="521640" y="61228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9" name=""/>
            <p:cNvSpPr/>
            <p:nvPr/>
          </p:nvSpPr>
          <p:spPr>
            <a:xfrm>
              <a:off x="1088280" y="61228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0" name=""/>
            <p:cNvSpPr/>
            <p:nvPr/>
          </p:nvSpPr>
          <p:spPr>
            <a:xfrm>
              <a:off x="1640880" y="61228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1" name=""/>
            <p:cNvSpPr/>
            <p:nvPr/>
          </p:nvSpPr>
          <p:spPr>
            <a:xfrm>
              <a:off x="2207520" y="61228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2" name=""/>
            <p:cNvSpPr/>
            <p:nvPr/>
          </p:nvSpPr>
          <p:spPr>
            <a:xfrm>
              <a:off x="2743920" y="61228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3" name=""/>
            <p:cNvSpPr/>
            <p:nvPr/>
          </p:nvSpPr>
          <p:spPr>
            <a:xfrm>
              <a:off x="3326760" y="61228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4" name=""/>
            <p:cNvSpPr/>
            <p:nvPr/>
          </p:nvSpPr>
          <p:spPr>
            <a:xfrm>
              <a:off x="3877560" y="61228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5" name=""/>
            <p:cNvSpPr/>
            <p:nvPr/>
          </p:nvSpPr>
          <p:spPr>
            <a:xfrm>
              <a:off x="1917720" y="6399360"/>
              <a:ext cx="739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pital Co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6" name=""/>
            <p:cNvSpPr/>
            <p:nvPr/>
          </p:nvSpPr>
          <p:spPr>
            <a:xfrm>
              <a:off x="0" y="3425760"/>
              <a:ext cx="4329000" cy="3432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7" name=""/>
            <p:cNvSpPr/>
            <p:nvPr/>
          </p:nvSpPr>
          <p:spPr>
            <a:xfrm rot="16200000">
              <a:off x="-43200" y="4761720"/>
              <a:ext cx="63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(x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8" name=""/>
          <p:cNvGrpSpPr/>
          <p:nvPr/>
        </p:nvGrpSpPr>
        <p:grpSpPr>
          <a:xfrm>
            <a:off x="0" y="3416400"/>
            <a:ext cx="4571640" cy="3441240"/>
            <a:chOff x="0" y="3416400"/>
            <a:chExt cx="4571640" cy="3441240"/>
          </a:xfrm>
        </p:grpSpPr>
        <p:sp>
          <p:nvSpPr>
            <p:cNvPr id="7749" name=""/>
            <p:cNvSpPr/>
            <p:nvPr/>
          </p:nvSpPr>
          <p:spPr>
            <a:xfrm>
              <a:off x="0" y="3416400"/>
              <a:ext cx="4571640" cy="344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0" name=""/>
            <p:cNvSpPr/>
            <p:nvPr/>
          </p:nvSpPr>
          <p:spPr>
            <a:xfrm>
              <a:off x="753120" y="6274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1" name=""/>
            <p:cNvSpPr/>
            <p:nvPr/>
          </p:nvSpPr>
          <p:spPr>
            <a:xfrm>
              <a:off x="1874520" y="6313680"/>
              <a:ext cx="1321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tributed variable, 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2" name=""/>
            <p:cNvSpPr/>
            <p:nvPr/>
          </p:nvSpPr>
          <p:spPr>
            <a:xfrm rot="16200000">
              <a:off x="-643680" y="4964760"/>
              <a:ext cx="187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bability Mass Function, F(x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3" name=""/>
            <p:cNvSpPr/>
            <p:nvPr/>
          </p:nvSpPr>
          <p:spPr>
            <a:xfrm>
              <a:off x="796680" y="3717360"/>
              <a:ext cx="3517200" cy="2414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4" name=""/>
            <p:cNvSpPr/>
            <p:nvPr/>
          </p:nvSpPr>
          <p:spPr>
            <a:xfrm>
              <a:off x="754200" y="6131880"/>
              <a:ext cx="42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5" name=""/>
            <p:cNvSpPr/>
            <p:nvPr/>
          </p:nvSpPr>
          <p:spPr>
            <a:xfrm>
              <a:off x="754200" y="3710880"/>
              <a:ext cx="424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6" name=""/>
            <p:cNvSpPr/>
            <p:nvPr/>
          </p:nvSpPr>
          <p:spPr>
            <a:xfrm flipV="1">
              <a:off x="796680" y="6131880"/>
              <a:ext cx="1800" cy="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7" name=""/>
            <p:cNvSpPr/>
            <p:nvPr/>
          </p:nvSpPr>
          <p:spPr>
            <a:xfrm flipV="1">
              <a:off x="4313880" y="6131880"/>
              <a:ext cx="1440" cy="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8" name=""/>
            <p:cNvSpPr/>
            <p:nvPr/>
          </p:nvSpPr>
          <p:spPr>
            <a:xfrm>
              <a:off x="596520" y="6009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9" name=""/>
            <p:cNvSpPr/>
            <p:nvPr/>
          </p:nvSpPr>
          <p:spPr>
            <a:xfrm>
              <a:off x="596520" y="3589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0" name=""/>
            <p:cNvSpPr/>
            <p:nvPr/>
          </p:nvSpPr>
          <p:spPr>
            <a:xfrm>
              <a:off x="1496880" y="3729240"/>
              <a:ext cx="2356560" cy="2408760"/>
            </a:xfrm>
            <a:custGeom>
              <a:avLst/>
              <a:gdLst/>
              <a:ahLst/>
              <a:rect l="l" t="t" r="r" b="b"/>
              <a:pathLst>
                <a:path w="1434" h="1190">
                  <a:moveTo>
                    <a:pt x="0" y="1182"/>
                  </a:moveTo>
                  <a:cubicBezTo>
                    <a:pt x="26" y="1186"/>
                    <a:pt x="53" y="1190"/>
                    <a:pt x="96" y="1182"/>
                  </a:cubicBezTo>
                  <a:cubicBezTo>
                    <a:pt x="139" y="1174"/>
                    <a:pt x="212" y="1155"/>
                    <a:pt x="258" y="1134"/>
                  </a:cubicBezTo>
                  <a:cubicBezTo>
                    <a:pt x="304" y="1113"/>
                    <a:pt x="337" y="1087"/>
                    <a:pt x="372" y="1056"/>
                  </a:cubicBezTo>
                  <a:cubicBezTo>
                    <a:pt x="407" y="1025"/>
                    <a:pt x="430" y="1000"/>
                    <a:pt x="468" y="948"/>
                  </a:cubicBezTo>
                  <a:cubicBezTo>
                    <a:pt x="506" y="896"/>
                    <a:pt x="561" y="814"/>
                    <a:pt x="600" y="744"/>
                  </a:cubicBezTo>
                  <a:cubicBezTo>
                    <a:pt x="639" y="674"/>
                    <a:pt x="662" y="603"/>
                    <a:pt x="702" y="528"/>
                  </a:cubicBezTo>
                  <a:cubicBezTo>
                    <a:pt x="742" y="453"/>
                    <a:pt x="795" y="360"/>
                    <a:pt x="840" y="294"/>
                  </a:cubicBezTo>
                  <a:cubicBezTo>
                    <a:pt x="885" y="228"/>
                    <a:pt x="935" y="171"/>
                    <a:pt x="972" y="132"/>
                  </a:cubicBezTo>
                  <a:cubicBezTo>
                    <a:pt x="1009" y="93"/>
                    <a:pt x="1019" y="80"/>
                    <a:pt x="1062" y="60"/>
                  </a:cubicBezTo>
                  <a:cubicBezTo>
                    <a:pt x="1105" y="40"/>
                    <a:pt x="1168" y="22"/>
                    <a:pt x="1230" y="12"/>
                  </a:cubicBezTo>
                  <a:cubicBezTo>
                    <a:pt x="1292" y="2"/>
                    <a:pt x="1400" y="2"/>
                    <a:pt x="143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1" name=""/>
            <p:cNvSpPr/>
            <p:nvPr/>
          </p:nvSpPr>
          <p:spPr>
            <a:xfrm>
              <a:off x="796680" y="4543200"/>
              <a:ext cx="2001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2" name=""/>
            <p:cNvSpPr/>
            <p:nvPr/>
          </p:nvSpPr>
          <p:spPr>
            <a:xfrm>
              <a:off x="2795040" y="4543200"/>
              <a:ext cx="0" cy="15901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3" name=""/>
            <p:cNvSpPr/>
            <p:nvPr/>
          </p:nvSpPr>
          <p:spPr>
            <a:xfrm>
              <a:off x="1152000" y="4215600"/>
              <a:ext cx="67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y = F(x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4" name=""/>
            <p:cNvSpPr/>
            <p:nvPr/>
          </p:nvSpPr>
          <p:spPr>
            <a:xfrm>
              <a:off x="2831400" y="5458320"/>
              <a:ext cx="114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 = F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65" name=""/>
          <p:cNvGrpSpPr/>
          <p:nvPr/>
        </p:nvGrpSpPr>
        <p:grpSpPr>
          <a:xfrm>
            <a:off x="0" y="3425760"/>
            <a:ext cx="4566960" cy="3432240"/>
            <a:chOff x="0" y="3425760"/>
            <a:chExt cx="4566960" cy="3432240"/>
          </a:xfrm>
        </p:grpSpPr>
        <p:sp>
          <p:nvSpPr>
            <p:cNvPr id="7766" name=""/>
            <p:cNvSpPr/>
            <p:nvPr/>
          </p:nvSpPr>
          <p:spPr>
            <a:xfrm>
              <a:off x="0" y="3425760"/>
              <a:ext cx="4566960" cy="343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7" name=""/>
            <p:cNvSpPr/>
            <p:nvPr/>
          </p:nvSpPr>
          <p:spPr>
            <a:xfrm>
              <a:off x="648000" y="3679920"/>
              <a:ext cx="3801960" cy="23130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8" name=""/>
            <p:cNvSpPr/>
            <p:nvPr/>
          </p:nvSpPr>
          <p:spPr>
            <a:xfrm>
              <a:off x="658080" y="5791320"/>
              <a:ext cx="58320" cy="2016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9" name=""/>
            <p:cNvSpPr/>
            <p:nvPr/>
          </p:nvSpPr>
          <p:spPr>
            <a:xfrm>
              <a:off x="753480" y="5891040"/>
              <a:ext cx="58680" cy="1018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0" name=""/>
            <p:cNvSpPr/>
            <p:nvPr/>
          </p:nvSpPr>
          <p:spPr>
            <a:xfrm>
              <a:off x="847080" y="5891040"/>
              <a:ext cx="58680" cy="1018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1" name=""/>
            <p:cNvSpPr/>
            <p:nvPr/>
          </p:nvSpPr>
          <p:spPr>
            <a:xfrm>
              <a:off x="942840" y="5891040"/>
              <a:ext cx="58320" cy="1018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2" name=""/>
            <p:cNvSpPr/>
            <p:nvPr/>
          </p:nvSpPr>
          <p:spPr>
            <a:xfrm>
              <a:off x="1035000" y="5791320"/>
              <a:ext cx="46800" cy="2016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3" name=""/>
            <p:cNvSpPr/>
            <p:nvPr/>
          </p:nvSpPr>
          <p:spPr>
            <a:xfrm>
              <a:off x="1118880" y="5599080"/>
              <a:ext cx="58320" cy="3938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4" name=""/>
            <p:cNvSpPr/>
            <p:nvPr/>
          </p:nvSpPr>
          <p:spPr>
            <a:xfrm>
              <a:off x="1212480" y="5459400"/>
              <a:ext cx="58320" cy="5335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5" name=""/>
            <p:cNvSpPr/>
            <p:nvPr/>
          </p:nvSpPr>
          <p:spPr>
            <a:xfrm>
              <a:off x="1306440" y="5662440"/>
              <a:ext cx="58320" cy="3304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6" name=""/>
            <p:cNvSpPr/>
            <p:nvPr/>
          </p:nvSpPr>
          <p:spPr>
            <a:xfrm>
              <a:off x="1400040" y="5459400"/>
              <a:ext cx="58320" cy="5335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7" name=""/>
            <p:cNvSpPr/>
            <p:nvPr/>
          </p:nvSpPr>
          <p:spPr>
            <a:xfrm>
              <a:off x="1495440" y="5205240"/>
              <a:ext cx="58320" cy="7876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8" name=""/>
            <p:cNvSpPr/>
            <p:nvPr/>
          </p:nvSpPr>
          <p:spPr>
            <a:xfrm>
              <a:off x="1589400" y="5294160"/>
              <a:ext cx="58320" cy="69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9" name=""/>
            <p:cNvSpPr/>
            <p:nvPr/>
          </p:nvSpPr>
          <p:spPr>
            <a:xfrm>
              <a:off x="1683000" y="4875120"/>
              <a:ext cx="58320" cy="11178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0" name=""/>
            <p:cNvSpPr/>
            <p:nvPr/>
          </p:nvSpPr>
          <p:spPr>
            <a:xfrm>
              <a:off x="1776960" y="4799160"/>
              <a:ext cx="46440" cy="1193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1" name=""/>
            <p:cNvSpPr/>
            <p:nvPr/>
          </p:nvSpPr>
          <p:spPr>
            <a:xfrm>
              <a:off x="1860480" y="4468680"/>
              <a:ext cx="58680" cy="15242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2" name=""/>
            <p:cNvSpPr/>
            <p:nvPr/>
          </p:nvSpPr>
          <p:spPr>
            <a:xfrm>
              <a:off x="1953000" y="4405320"/>
              <a:ext cx="58320" cy="15876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3" name=""/>
            <p:cNvSpPr/>
            <p:nvPr/>
          </p:nvSpPr>
          <p:spPr>
            <a:xfrm>
              <a:off x="2048040" y="4468680"/>
              <a:ext cx="58320" cy="15242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4" name=""/>
            <p:cNvSpPr/>
            <p:nvPr/>
          </p:nvSpPr>
          <p:spPr>
            <a:xfrm>
              <a:off x="2142000" y="4405320"/>
              <a:ext cx="58320" cy="15876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5" name=""/>
            <p:cNvSpPr/>
            <p:nvPr/>
          </p:nvSpPr>
          <p:spPr>
            <a:xfrm>
              <a:off x="2237400" y="3844800"/>
              <a:ext cx="58680" cy="21481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6" name=""/>
            <p:cNvSpPr/>
            <p:nvPr/>
          </p:nvSpPr>
          <p:spPr>
            <a:xfrm>
              <a:off x="2329560" y="4073400"/>
              <a:ext cx="58320" cy="19195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7" name=""/>
            <p:cNvSpPr/>
            <p:nvPr/>
          </p:nvSpPr>
          <p:spPr>
            <a:xfrm>
              <a:off x="2424960" y="4049640"/>
              <a:ext cx="58680" cy="19432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8" name=""/>
            <p:cNvSpPr/>
            <p:nvPr/>
          </p:nvSpPr>
          <p:spPr>
            <a:xfrm>
              <a:off x="2518920" y="4176720"/>
              <a:ext cx="46800" cy="18162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9" name=""/>
            <p:cNvSpPr/>
            <p:nvPr/>
          </p:nvSpPr>
          <p:spPr>
            <a:xfrm>
              <a:off x="2600640" y="4073400"/>
              <a:ext cx="58680" cy="19195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0" name=""/>
            <p:cNvSpPr/>
            <p:nvPr/>
          </p:nvSpPr>
          <p:spPr>
            <a:xfrm>
              <a:off x="2694600" y="4341960"/>
              <a:ext cx="58680" cy="1650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1" name=""/>
            <p:cNvSpPr/>
            <p:nvPr/>
          </p:nvSpPr>
          <p:spPr>
            <a:xfrm>
              <a:off x="2790360" y="4506840"/>
              <a:ext cx="58320" cy="1486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2" name=""/>
            <p:cNvSpPr/>
            <p:nvPr/>
          </p:nvSpPr>
          <p:spPr>
            <a:xfrm>
              <a:off x="2884320" y="5167440"/>
              <a:ext cx="58320" cy="8254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3" name=""/>
            <p:cNvSpPr/>
            <p:nvPr/>
          </p:nvSpPr>
          <p:spPr>
            <a:xfrm>
              <a:off x="2977560" y="4405320"/>
              <a:ext cx="58680" cy="15876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4" name=""/>
            <p:cNvSpPr/>
            <p:nvPr/>
          </p:nvSpPr>
          <p:spPr>
            <a:xfrm>
              <a:off x="3071520" y="5205240"/>
              <a:ext cx="58680" cy="7876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5" name=""/>
            <p:cNvSpPr/>
            <p:nvPr/>
          </p:nvSpPr>
          <p:spPr>
            <a:xfrm>
              <a:off x="3167280" y="5129280"/>
              <a:ext cx="58320" cy="8636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6" name=""/>
            <p:cNvSpPr/>
            <p:nvPr/>
          </p:nvSpPr>
          <p:spPr>
            <a:xfrm>
              <a:off x="3259080" y="5129280"/>
              <a:ext cx="46800" cy="8636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7" name=""/>
            <p:cNvSpPr/>
            <p:nvPr/>
          </p:nvSpPr>
          <p:spPr>
            <a:xfrm>
              <a:off x="3342960" y="5040360"/>
              <a:ext cx="58320" cy="9525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8" name=""/>
            <p:cNvSpPr/>
            <p:nvPr/>
          </p:nvSpPr>
          <p:spPr>
            <a:xfrm>
              <a:off x="3436920" y="5624640"/>
              <a:ext cx="58320" cy="3682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9" name=""/>
            <p:cNvSpPr/>
            <p:nvPr/>
          </p:nvSpPr>
          <p:spPr>
            <a:xfrm>
              <a:off x="3531960" y="5599080"/>
              <a:ext cx="58320" cy="3938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0" name=""/>
            <p:cNvSpPr/>
            <p:nvPr/>
          </p:nvSpPr>
          <p:spPr>
            <a:xfrm>
              <a:off x="3624480" y="5662440"/>
              <a:ext cx="58320" cy="3304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1" name=""/>
            <p:cNvSpPr/>
            <p:nvPr/>
          </p:nvSpPr>
          <p:spPr>
            <a:xfrm>
              <a:off x="3719880" y="5764320"/>
              <a:ext cx="58320" cy="2286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2" name=""/>
            <p:cNvSpPr/>
            <p:nvPr/>
          </p:nvSpPr>
          <p:spPr>
            <a:xfrm>
              <a:off x="3813480" y="5791320"/>
              <a:ext cx="58320" cy="2016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3" name=""/>
            <p:cNvSpPr/>
            <p:nvPr/>
          </p:nvSpPr>
          <p:spPr>
            <a:xfrm>
              <a:off x="3907440" y="5891040"/>
              <a:ext cx="60120" cy="1018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4" name=""/>
            <p:cNvSpPr/>
            <p:nvPr/>
          </p:nvSpPr>
          <p:spPr>
            <a:xfrm>
              <a:off x="4084920" y="5929200"/>
              <a:ext cx="58680" cy="637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5" name=""/>
            <p:cNvSpPr/>
            <p:nvPr/>
          </p:nvSpPr>
          <p:spPr>
            <a:xfrm>
              <a:off x="4177080" y="5865840"/>
              <a:ext cx="60120" cy="127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6" name=""/>
            <p:cNvSpPr/>
            <p:nvPr/>
          </p:nvSpPr>
          <p:spPr>
            <a:xfrm>
              <a:off x="4272480" y="5954760"/>
              <a:ext cx="58680" cy="381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7" name=""/>
            <p:cNvSpPr/>
            <p:nvPr/>
          </p:nvSpPr>
          <p:spPr>
            <a:xfrm>
              <a:off x="611280" y="599292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8" name=""/>
            <p:cNvSpPr/>
            <p:nvPr/>
          </p:nvSpPr>
          <p:spPr>
            <a:xfrm>
              <a:off x="611280" y="566244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9" name=""/>
            <p:cNvSpPr/>
            <p:nvPr/>
          </p:nvSpPr>
          <p:spPr>
            <a:xfrm>
              <a:off x="611280" y="533232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0" name=""/>
            <p:cNvSpPr/>
            <p:nvPr/>
          </p:nvSpPr>
          <p:spPr>
            <a:xfrm>
              <a:off x="611280" y="500220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1" name=""/>
            <p:cNvSpPr/>
            <p:nvPr/>
          </p:nvSpPr>
          <p:spPr>
            <a:xfrm>
              <a:off x="611280" y="467028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2" name=""/>
            <p:cNvSpPr/>
            <p:nvPr/>
          </p:nvSpPr>
          <p:spPr>
            <a:xfrm>
              <a:off x="611280" y="434196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3" name=""/>
            <p:cNvSpPr/>
            <p:nvPr/>
          </p:nvSpPr>
          <p:spPr>
            <a:xfrm>
              <a:off x="611280" y="401004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4" name=""/>
            <p:cNvSpPr/>
            <p:nvPr/>
          </p:nvSpPr>
          <p:spPr>
            <a:xfrm>
              <a:off x="611280" y="367992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5" name=""/>
            <p:cNvSpPr/>
            <p:nvPr/>
          </p:nvSpPr>
          <p:spPr>
            <a:xfrm flipV="1">
              <a:off x="648000" y="5992920"/>
              <a:ext cx="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6" name=""/>
            <p:cNvSpPr/>
            <p:nvPr/>
          </p:nvSpPr>
          <p:spPr>
            <a:xfrm flipV="1">
              <a:off x="74196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7" name=""/>
            <p:cNvSpPr/>
            <p:nvPr/>
          </p:nvSpPr>
          <p:spPr>
            <a:xfrm flipV="1">
              <a:off x="835560" y="59929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8" name=""/>
            <p:cNvSpPr/>
            <p:nvPr/>
          </p:nvSpPr>
          <p:spPr>
            <a:xfrm flipV="1">
              <a:off x="929160" y="59929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9" name=""/>
            <p:cNvSpPr/>
            <p:nvPr/>
          </p:nvSpPr>
          <p:spPr>
            <a:xfrm flipV="1">
              <a:off x="1023120" y="59929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0" name=""/>
            <p:cNvSpPr/>
            <p:nvPr/>
          </p:nvSpPr>
          <p:spPr>
            <a:xfrm flipV="1">
              <a:off x="110700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1" name=""/>
            <p:cNvSpPr/>
            <p:nvPr/>
          </p:nvSpPr>
          <p:spPr>
            <a:xfrm flipV="1">
              <a:off x="120096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2" name=""/>
            <p:cNvSpPr/>
            <p:nvPr/>
          </p:nvSpPr>
          <p:spPr>
            <a:xfrm flipV="1">
              <a:off x="129456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3" name=""/>
            <p:cNvSpPr/>
            <p:nvPr/>
          </p:nvSpPr>
          <p:spPr>
            <a:xfrm flipV="1">
              <a:off x="138852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4" name=""/>
            <p:cNvSpPr/>
            <p:nvPr/>
          </p:nvSpPr>
          <p:spPr>
            <a:xfrm flipV="1">
              <a:off x="148392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5" name=""/>
            <p:cNvSpPr/>
            <p:nvPr/>
          </p:nvSpPr>
          <p:spPr>
            <a:xfrm flipV="1">
              <a:off x="157608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6" name=""/>
            <p:cNvSpPr/>
            <p:nvPr/>
          </p:nvSpPr>
          <p:spPr>
            <a:xfrm flipV="1">
              <a:off x="167148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7" name=""/>
            <p:cNvSpPr/>
            <p:nvPr/>
          </p:nvSpPr>
          <p:spPr>
            <a:xfrm flipV="1">
              <a:off x="176508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8" name=""/>
            <p:cNvSpPr/>
            <p:nvPr/>
          </p:nvSpPr>
          <p:spPr>
            <a:xfrm flipV="1">
              <a:off x="184716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9" name=""/>
            <p:cNvSpPr/>
            <p:nvPr/>
          </p:nvSpPr>
          <p:spPr>
            <a:xfrm flipV="1">
              <a:off x="1942560" y="59929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0" name=""/>
            <p:cNvSpPr/>
            <p:nvPr/>
          </p:nvSpPr>
          <p:spPr>
            <a:xfrm flipV="1">
              <a:off x="2036520" y="59929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1" name=""/>
            <p:cNvSpPr/>
            <p:nvPr/>
          </p:nvSpPr>
          <p:spPr>
            <a:xfrm flipV="1">
              <a:off x="2130120" y="59929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2" name=""/>
            <p:cNvSpPr/>
            <p:nvPr/>
          </p:nvSpPr>
          <p:spPr>
            <a:xfrm flipV="1">
              <a:off x="2224080" y="59929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3" name=""/>
            <p:cNvSpPr/>
            <p:nvPr/>
          </p:nvSpPr>
          <p:spPr>
            <a:xfrm flipV="1">
              <a:off x="231768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4" name=""/>
            <p:cNvSpPr/>
            <p:nvPr/>
          </p:nvSpPr>
          <p:spPr>
            <a:xfrm flipV="1">
              <a:off x="2413080" y="59929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5" name=""/>
            <p:cNvSpPr/>
            <p:nvPr/>
          </p:nvSpPr>
          <p:spPr>
            <a:xfrm flipV="1">
              <a:off x="2507040" y="59929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6" name=""/>
            <p:cNvSpPr/>
            <p:nvPr/>
          </p:nvSpPr>
          <p:spPr>
            <a:xfrm flipV="1">
              <a:off x="2589120" y="59929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7" name=""/>
            <p:cNvSpPr/>
            <p:nvPr/>
          </p:nvSpPr>
          <p:spPr>
            <a:xfrm flipV="1">
              <a:off x="2684880" y="5992920"/>
              <a:ext cx="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8" name=""/>
            <p:cNvSpPr/>
            <p:nvPr/>
          </p:nvSpPr>
          <p:spPr>
            <a:xfrm flipV="1">
              <a:off x="277848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9" name=""/>
            <p:cNvSpPr/>
            <p:nvPr/>
          </p:nvSpPr>
          <p:spPr>
            <a:xfrm flipV="1">
              <a:off x="2870640" y="59929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0" name=""/>
            <p:cNvSpPr/>
            <p:nvPr/>
          </p:nvSpPr>
          <p:spPr>
            <a:xfrm flipV="1">
              <a:off x="296604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1" name=""/>
            <p:cNvSpPr/>
            <p:nvPr/>
          </p:nvSpPr>
          <p:spPr>
            <a:xfrm flipV="1">
              <a:off x="306000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2" name=""/>
            <p:cNvSpPr/>
            <p:nvPr/>
          </p:nvSpPr>
          <p:spPr>
            <a:xfrm flipV="1">
              <a:off x="315540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3" name=""/>
            <p:cNvSpPr/>
            <p:nvPr/>
          </p:nvSpPr>
          <p:spPr>
            <a:xfrm flipV="1">
              <a:off x="3247200" y="59929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4" name=""/>
            <p:cNvSpPr/>
            <p:nvPr/>
          </p:nvSpPr>
          <p:spPr>
            <a:xfrm flipV="1">
              <a:off x="333108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5" name=""/>
            <p:cNvSpPr/>
            <p:nvPr/>
          </p:nvSpPr>
          <p:spPr>
            <a:xfrm flipV="1">
              <a:off x="342504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6" name=""/>
            <p:cNvSpPr/>
            <p:nvPr/>
          </p:nvSpPr>
          <p:spPr>
            <a:xfrm flipV="1">
              <a:off x="351900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7" name=""/>
            <p:cNvSpPr/>
            <p:nvPr/>
          </p:nvSpPr>
          <p:spPr>
            <a:xfrm flipV="1">
              <a:off x="361260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8" name=""/>
            <p:cNvSpPr/>
            <p:nvPr/>
          </p:nvSpPr>
          <p:spPr>
            <a:xfrm flipV="1">
              <a:off x="3708000" y="59929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9" name=""/>
            <p:cNvSpPr/>
            <p:nvPr/>
          </p:nvSpPr>
          <p:spPr>
            <a:xfrm flipV="1">
              <a:off x="380196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0" name=""/>
            <p:cNvSpPr/>
            <p:nvPr/>
          </p:nvSpPr>
          <p:spPr>
            <a:xfrm flipV="1">
              <a:off x="389556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1" name=""/>
            <p:cNvSpPr/>
            <p:nvPr/>
          </p:nvSpPr>
          <p:spPr>
            <a:xfrm flipV="1">
              <a:off x="398952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2" name=""/>
            <p:cNvSpPr/>
            <p:nvPr/>
          </p:nvSpPr>
          <p:spPr>
            <a:xfrm flipV="1">
              <a:off x="4073040" y="59929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3" name=""/>
            <p:cNvSpPr/>
            <p:nvPr/>
          </p:nvSpPr>
          <p:spPr>
            <a:xfrm flipV="1">
              <a:off x="416520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4" name=""/>
            <p:cNvSpPr/>
            <p:nvPr/>
          </p:nvSpPr>
          <p:spPr>
            <a:xfrm flipV="1">
              <a:off x="4260600" y="59929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5" name=""/>
            <p:cNvSpPr/>
            <p:nvPr/>
          </p:nvSpPr>
          <p:spPr>
            <a:xfrm flipV="1">
              <a:off x="4354560" y="59929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6" name=""/>
            <p:cNvSpPr/>
            <p:nvPr/>
          </p:nvSpPr>
          <p:spPr>
            <a:xfrm flipV="1">
              <a:off x="444996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7" name=""/>
            <p:cNvSpPr/>
            <p:nvPr/>
          </p:nvSpPr>
          <p:spPr>
            <a:xfrm>
              <a:off x="481680" y="5905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8" name=""/>
            <p:cNvSpPr/>
            <p:nvPr/>
          </p:nvSpPr>
          <p:spPr>
            <a:xfrm>
              <a:off x="411840" y="5573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9" name=""/>
            <p:cNvSpPr/>
            <p:nvPr/>
          </p:nvSpPr>
          <p:spPr>
            <a:xfrm>
              <a:off x="411840" y="5243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0" name=""/>
            <p:cNvSpPr/>
            <p:nvPr/>
          </p:nvSpPr>
          <p:spPr>
            <a:xfrm>
              <a:off x="411840" y="4913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1" name=""/>
            <p:cNvSpPr/>
            <p:nvPr/>
          </p:nvSpPr>
          <p:spPr>
            <a:xfrm>
              <a:off x="411840" y="4583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2" name=""/>
            <p:cNvSpPr/>
            <p:nvPr/>
          </p:nvSpPr>
          <p:spPr>
            <a:xfrm>
              <a:off x="411840" y="4251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3" name=""/>
            <p:cNvSpPr/>
            <p:nvPr/>
          </p:nvSpPr>
          <p:spPr>
            <a:xfrm>
              <a:off x="411840" y="3922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4" name=""/>
            <p:cNvSpPr/>
            <p:nvPr/>
          </p:nvSpPr>
          <p:spPr>
            <a:xfrm>
              <a:off x="411840" y="3591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5" name=""/>
            <p:cNvSpPr/>
            <p:nvPr/>
          </p:nvSpPr>
          <p:spPr>
            <a:xfrm rot="16200000">
              <a:off x="553680" y="6162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6" name=""/>
            <p:cNvSpPr/>
            <p:nvPr/>
          </p:nvSpPr>
          <p:spPr>
            <a:xfrm rot="16200000">
              <a:off x="838440" y="6162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7" name=""/>
            <p:cNvSpPr/>
            <p:nvPr/>
          </p:nvSpPr>
          <p:spPr>
            <a:xfrm rot="16200000">
              <a:off x="1106280" y="6162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8" name=""/>
            <p:cNvSpPr/>
            <p:nvPr/>
          </p:nvSpPr>
          <p:spPr>
            <a:xfrm rot="16200000">
              <a:off x="1447920" y="6090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9" name=""/>
            <p:cNvSpPr/>
            <p:nvPr/>
          </p:nvSpPr>
          <p:spPr>
            <a:xfrm rot="16200000">
              <a:off x="1680480" y="61308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0" name=""/>
            <p:cNvSpPr/>
            <p:nvPr/>
          </p:nvSpPr>
          <p:spPr>
            <a:xfrm rot="16200000">
              <a:off x="1965600" y="61322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1" name=""/>
            <p:cNvSpPr/>
            <p:nvPr/>
          </p:nvSpPr>
          <p:spPr>
            <a:xfrm rot="16200000">
              <a:off x="2244960" y="61322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2" name=""/>
            <p:cNvSpPr/>
            <p:nvPr/>
          </p:nvSpPr>
          <p:spPr>
            <a:xfrm rot="16200000">
              <a:off x="2516400" y="61322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3" name=""/>
            <p:cNvSpPr/>
            <p:nvPr/>
          </p:nvSpPr>
          <p:spPr>
            <a:xfrm rot="16200000">
              <a:off x="2799360" y="61322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4" name=""/>
            <p:cNvSpPr/>
            <p:nvPr/>
          </p:nvSpPr>
          <p:spPr>
            <a:xfrm rot="16200000">
              <a:off x="3084480" y="61322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5" name=""/>
            <p:cNvSpPr/>
            <p:nvPr/>
          </p:nvSpPr>
          <p:spPr>
            <a:xfrm rot="16200000">
              <a:off x="3320280" y="61718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6" name=""/>
            <p:cNvSpPr/>
            <p:nvPr/>
          </p:nvSpPr>
          <p:spPr>
            <a:xfrm rot="16200000">
              <a:off x="3601800" y="61718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7" name=""/>
            <p:cNvSpPr/>
            <p:nvPr/>
          </p:nvSpPr>
          <p:spPr>
            <a:xfrm rot="16200000">
              <a:off x="3884760" y="61718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8" name=""/>
            <p:cNvSpPr/>
            <p:nvPr/>
          </p:nvSpPr>
          <p:spPr>
            <a:xfrm rot="16200000">
              <a:off x="4154400" y="61718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9" name=""/>
            <p:cNvSpPr/>
            <p:nvPr/>
          </p:nvSpPr>
          <p:spPr>
            <a:xfrm>
              <a:off x="2402280" y="646416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P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0" name=""/>
            <p:cNvSpPr/>
            <p:nvPr/>
          </p:nvSpPr>
          <p:spPr>
            <a:xfrm rot="16200000">
              <a:off x="-81360" y="4810320"/>
              <a:ext cx="640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requenc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1" name=""/>
            <p:cNvSpPr/>
            <p:nvPr/>
          </p:nvSpPr>
          <p:spPr>
            <a:xfrm>
              <a:off x="0" y="3425760"/>
              <a:ext cx="4566960" cy="3432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2" name=""/>
          <p:cNvGrpSpPr/>
          <p:nvPr/>
        </p:nvGrpSpPr>
        <p:grpSpPr>
          <a:xfrm>
            <a:off x="0" y="3416400"/>
            <a:ext cx="4567320" cy="3441600"/>
            <a:chOff x="0" y="3416400"/>
            <a:chExt cx="4567320" cy="3441600"/>
          </a:xfrm>
        </p:grpSpPr>
        <p:sp>
          <p:nvSpPr>
            <p:cNvPr id="7883" name=""/>
            <p:cNvSpPr/>
            <p:nvPr/>
          </p:nvSpPr>
          <p:spPr>
            <a:xfrm>
              <a:off x="0" y="3416400"/>
              <a:ext cx="4567320" cy="344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4" name=""/>
            <p:cNvSpPr/>
            <p:nvPr/>
          </p:nvSpPr>
          <p:spPr>
            <a:xfrm>
              <a:off x="647640" y="3670200"/>
              <a:ext cx="3801960" cy="2320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5" name=""/>
            <p:cNvSpPr/>
            <p:nvPr/>
          </p:nvSpPr>
          <p:spPr>
            <a:xfrm>
              <a:off x="658800" y="5927760"/>
              <a:ext cx="5868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6" name=""/>
            <p:cNvSpPr/>
            <p:nvPr/>
          </p:nvSpPr>
          <p:spPr>
            <a:xfrm>
              <a:off x="754200" y="5864400"/>
              <a:ext cx="58680" cy="1267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7" name=""/>
            <p:cNvSpPr/>
            <p:nvPr/>
          </p:nvSpPr>
          <p:spPr>
            <a:xfrm>
              <a:off x="847800" y="5927760"/>
              <a:ext cx="5868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8" name=""/>
            <p:cNvSpPr/>
            <p:nvPr/>
          </p:nvSpPr>
          <p:spPr>
            <a:xfrm>
              <a:off x="1035000" y="5888160"/>
              <a:ext cx="47520" cy="102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9" name=""/>
            <p:cNvSpPr/>
            <p:nvPr/>
          </p:nvSpPr>
          <p:spPr>
            <a:xfrm>
              <a:off x="1119240" y="5788080"/>
              <a:ext cx="58680" cy="2030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0" name=""/>
            <p:cNvSpPr/>
            <p:nvPr/>
          </p:nvSpPr>
          <p:spPr>
            <a:xfrm>
              <a:off x="1212840" y="5761080"/>
              <a:ext cx="58680" cy="2300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1" name=""/>
            <p:cNvSpPr/>
            <p:nvPr/>
          </p:nvSpPr>
          <p:spPr>
            <a:xfrm>
              <a:off x="1306440" y="5659560"/>
              <a:ext cx="58680" cy="3315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2" name=""/>
            <p:cNvSpPr/>
            <p:nvPr/>
          </p:nvSpPr>
          <p:spPr>
            <a:xfrm>
              <a:off x="1400040" y="5595840"/>
              <a:ext cx="59040" cy="3952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3" name=""/>
            <p:cNvSpPr/>
            <p:nvPr/>
          </p:nvSpPr>
          <p:spPr>
            <a:xfrm>
              <a:off x="1495440" y="5621400"/>
              <a:ext cx="58680" cy="3697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4" name=""/>
            <p:cNvSpPr/>
            <p:nvPr/>
          </p:nvSpPr>
          <p:spPr>
            <a:xfrm>
              <a:off x="1589040" y="5035680"/>
              <a:ext cx="58680" cy="9554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5" name=""/>
            <p:cNvSpPr/>
            <p:nvPr/>
          </p:nvSpPr>
          <p:spPr>
            <a:xfrm>
              <a:off x="1682640" y="5124600"/>
              <a:ext cx="58680" cy="8665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6" name=""/>
            <p:cNvSpPr/>
            <p:nvPr/>
          </p:nvSpPr>
          <p:spPr>
            <a:xfrm>
              <a:off x="1778040" y="5124600"/>
              <a:ext cx="46080" cy="8665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7" name=""/>
            <p:cNvSpPr/>
            <p:nvPr/>
          </p:nvSpPr>
          <p:spPr>
            <a:xfrm>
              <a:off x="1860480" y="5202360"/>
              <a:ext cx="58680" cy="78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8" name=""/>
            <p:cNvSpPr/>
            <p:nvPr/>
          </p:nvSpPr>
          <p:spPr>
            <a:xfrm>
              <a:off x="1954080" y="4397400"/>
              <a:ext cx="57240" cy="15937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9" name=""/>
            <p:cNvSpPr/>
            <p:nvPr/>
          </p:nvSpPr>
          <p:spPr>
            <a:xfrm>
              <a:off x="2048040" y="5162400"/>
              <a:ext cx="58680" cy="8287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0" name=""/>
            <p:cNvSpPr/>
            <p:nvPr/>
          </p:nvSpPr>
          <p:spPr>
            <a:xfrm>
              <a:off x="2143080" y="4500720"/>
              <a:ext cx="58680" cy="14904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1" name=""/>
            <p:cNvSpPr/>
            <p:nvPr/>
          </p:nvSpPr>
          <p:spPr>
            <a:xfrm>
              <a:off x="2236680" y="4334040"/>
              <a:ext cx="58680" cy="1657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2" name=""/>
            <p:cNvSpPr/>
            <p:nvPr/>
          </p:nvSpPr>
          <p:spPr>
            <a:xfrm>
              <a:off x="2330280" y="4065480"/>
              <a:ext cx="59040" cy="19256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3" name=""/>
            <p:cNvSpPr/>
            <p:nvPr/>
          </p:nvSpPr>
          <p:spPr>
            <a:xfrm>
              <a:off x="2424240" y="4168800"/>
              <a:ext cx="58680" cy="18223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4" name=""/>
            <p:cNvSpPr/>
            <p:nvPr/>
          </p:nvSpPr>
          <p:spPr>
            <a:xfrm>
              <a:off x="2519280" y="4065480"/>
              <a:ext cx="47880" cy="19256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5" name=""/>
            <p:cNvSpPr/>
            <p:nvPr/>
          </p:nvSpPr>
          <p:spPr>
            <a:xfrm>
              <a:off x="2600280" y="4065480"/>
              <a:ext cx="58680" cy="19256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6" name=""/>
            <p:cNvSpPr/>
            <p:nvPr/>
          </p:nvSpPr>
          <p:spPr>
            <a:xfrm>
              <a:off x="2695680" y="3836880"/>
              <a:ext cx="58680" cy="21542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7" name=""/>
            <p:cNvSpPr/>
            <p:nvPr/>
          </p:nvSpPr>
          <p:spPr>
            <a:xfrm>
              <a:off x="2789280" y="4437000"/>
              <a:ext cx="58680" cy="15541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8" name=""/>
            <p:cNvSpPr/>
            <p:nvPr/>
          </p:nvSpPr>
          <p:spPr>
            <a:xfrm>
              <a:off x="2884320" y="4462560"/>
              <a:ext cx="59040" cy="15285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9" name=""/>
            <p:cNvSpPr/>
            <p:nvPr/>
          </p:nvSpPr>
          <p:spPr>
            <a:xfrm>
              <a:off x="2978280" y="4397400"/>
              <a:ext cx="58680" cy="15937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0" name=""/>
            <p:cNvSpPr/>
            <p:nvPr/>
          </p:nvSpPr>
          <p:spPr>
            <a:xfrm>
              <a:off x="3071880" y="4462560"/>
              <a:ext cx="58680" cy="15285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1" name=""/>
            <p:cNvSpPr/>
            <p:nvPr/>
          </p:nvSpPr>
          <p:spPr>
            <a:xfrm>
              <a:off x="3166920" y="4794120"/>
              <a:ext cx="59040" cy="11970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2" name=""/>
            <p:cNvSpPr/>
            <p:nvPr/>
          </p:nvSpPr>
          <p:spPr>
            <a:xfrm>
              <a:off x="3259080" y="4869000"/>
              <a:ext cx="47520" cy="11221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3" name=""/>
            <p:cNvSpPr/>
            <p:nvPr/>
          </p:nvSpPr>
          <p:spPr>
            <a:xfrm>
              <a:off x="3343320" y="5289480"/>
              <a:ext cx="58680" cy="7016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4" name=""/>
            <p:cNvSpPr/>
            <p:nvPr/>
          </p:nvSpPr>
          <p:spPr>
            <a:xfrm>
              <a:off x="3436920" y="5202360"/>
              <a:ext cx="58680" cy="78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5" name=""/>
            <p:cNvSpPr/>
            <p:nvPr/>
          </p:nvSpPr>
          <p:spPr>
            <a:xfrm>
              <a:off x="3532320" y="5456160"/>
              <a:ext cx="58680" cy="534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6" name=""/>
            <p:cNvSpPr/>
            <p:nvPr/>
          </p:nvSpPr>
          <p:spPr>
            <a:xfrm>
              <a:off x="3624120" y="5659560"/>
              <a:ext cx="59040" cy="3315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7" name=""/>
            <p:cNvSpPr/>
            <p:nvPr/>
          </p:nvSpPr>
          <p:spPr>
            <a:xfrm>
              <a:off x="3719520" y="5456160"/>
              <a:ext cx="58680" cy="534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8" name=""/>
            <p:cNvSpPr/>
            <p:nvPr/>
          </p:nvSpPr>
          <p:spPr>
            <a:xfrm>
              <a:off x="3813120" y="5595840"/>
              <a:ext cx="58680" cy="3952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9" name=""/>
            <p:cNvSpPr/>
            <p:nvPr/>
          </p:nvSpPr>
          <p:spPr>
            <a:xfrm>
              <a:off x="3906720" y="5788080"/>
              <a:ext cx="60480" cy="2030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0" name=""/>
            <p:cNvSpPr/>
            <p:nvPr/>
          </p:nvSpPr>
          <p:spPr>
            <a:xfrm>
              <a:off x="4002120" y="5888160"/>
              <a:ext cx="46080" cy="102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1" name=""/>
            <p:cNvSpPr/>
            <p:nvPr/>
          </p:nvSpPr>
          <p:spPr>
            <a:xfrm>
              <a:off x="4084560" y="5888160"/>
              <a:ext cx="58680" cy="102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2" name=""/>
            <p:cNvSpPr/>
            <p:nvPr/>
          </p:nvSpPr>
          <p:spPr>
            <a:xfrm>
              <a:off x="4178160" y="5888160"/>
              <a:ext cx="60480" cy="102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3" name=""/>
            <p:cNvSpPr/>
            <p:nvPr/>
          </p:nvSpPr>
          <p:spPr>
            <a:xfrm>
              <a:off x="4272120" y="5888160"/>
              <a:ext cx="58680" cy="102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4" name=""/>
            <p:cNvSpPr/>
            <p:nvPr/>
          </p:nvSpPr>
          <p:spPr>
            <a:xfrm>
              <a:off x="4367160" y="5951520"/>
              <a:ext cx="58680" cy="396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5" name=""/>
            <p:cNvSpPr/>
            <p:nvPr/>
          </p:nvSpPr>
          <p:spPr>
            <a:xfrm>
              <a:off x="611280" y="59911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6" name=""/>
            <p:cNvSpPr/>
            <p:nvPr/>
          </p:nvSpPr>
          <p:spPr>
            <a:xfrm>
              <a:off x="611280" y="565956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7" name=""/>
            <p:cNvSpPr/>
            <p:nvPr/>
          </p:nvSpPr>
          <p:spPr>
            <a:xfrm>
              <a:off x="611280" y="532908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8" name=""/>
            <p:cNvSpPr/>
            <p:nvPr/>
          </p:nvSpPr>
          <p:spPr>
            <a:xfrm>
              <a:off x="611280" y="499752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9" name=""/>
            <p:cNvSpPr/>
            <p:nvPr/>
          </p:nvSpPr>
          <p:spPr>
            <a:xfrm>
              <a:off x="611280" y="4664160"/>
              <a:ext cx="363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0" name=""/>
            <p:cNvSpPr/>
            <p:nvPr/>
          </p:nvSpPr>
          <p:spPr>
            <a:xfrm>
              <a:off x="611280" y="4334040"/>
              <a:ext cx="363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1" name=""/>
            <p:cNvSpPr/>
            <p:nvPr/>
          </p:nvSpPr>
          <p:spPr>
            <a:xfrm>
              <a:off x="611280" y="400212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2" name=""/>
            <p:cNvSpPr/>
            <p:nvPr/>
          </p:nvSpPr>
          <p:spPr>
            <a:xfrm>
              <a:off x="611280" y="367020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3" name=""/>
            <p:cNvSpPr/>
            <p:nvPr/>
          </p:nvSpPr>
          <p:spPr>
            <a:xfrm flipV="1">
              <a:off x="647640" y="599112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4" name=""/>
            <p:cNvSpPr/>
            <p:nvPr/>
          </p:nvSpPr>
          <p:spPr>
            <a:xfrm flipV="1">
              <a:off x="741240" y="599112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5" name=""/>
            <p:cNvSpPr/>
            <p:nvPr/>
          </p:nvSpPr>
          <p:spPr>
            <a:xfrm flipV="1">
              <a:off x="83664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6" name=""/>
            <p:cNvSpPr/>
            <p:nvPr/>
          </p:nvSpPr>
          <p:spPr>
            <a:xfrm flipV="1">
              <a:off x="92880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7" name=""/>
            <p:cNvSpPr/>
            <p:nvPr/>
          </p:nvSpPr>
          <p:spPr>
            <a:xfrm flipV="1">
              <a:off x="1023840" y="599112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8" name=""/>
            <p:cNvSpPr/>
            <p:nvPr/>
          </p:nvSpPr>
          <p:spPr>
            <a:xfrm flipV="1">
              <a:off x="110664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9" name=""/>
            <p:cNvSpPr/>
            <p:nvPr/>
          </p:nvSpPr>
          <p:spPr>
            <a:xfrm flipV="1">
              <a:off x="120024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0" name=""/>
            <p:cNvSpPr/>
            <p:nvPr/>
          </p:nvSpPr>
          <p:spPr>
            <a:xfrm flipV="1">
              <a:off x="1295280" y="599112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1" name=""/>
            <p:cNvSpPr/>
            <p:nvPr/>
          </p:nvSpPr>
          <p:spPr>
            <a:xfrm flipV="1">
              <a:off x="138924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2" name=""/>
            <p:cNvSpPr/>
            <p:nvPr/>
          </p:nvSpPr>
          <p:spPr>
            <a:xfrm flipV="1">
              <a:off x="1484280" y="599112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3" name=""/>
            <p:cNvSpPr/>
            <p:nvPr/>
          </p:nvSpPr>
          <p:spPr>
            <a:xfrm flipV="1">
              <a:off x="157644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4" name=""/>
            <p:cNvSpPr/>
            <p:nvPr/>
          </p:nvSpPr>
          <p:spPr>
            <a:xfrm flipV="1">
              <a:off x="1671480" y="599112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5" name=""/>
            <p:cNvSpPr/>
            <p:nvPr/>
          </p:nvSpPr>
          <p:spPr>
            <a:xfrm flipV="1">
              <a:off x="176544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6" name=""/>
            <p:cNvSpPr/>
            <p:nvPr/>
          </p:nvSpPr>
          <p:spPr>
            <a:xfrm flipV="1">
              <a:off x="184788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7" name=""/>
            <p:cNvSpPr/>
            <p:nvPr/>
          </p:nvSpPr>
          <p:spPr>
            <a:xfrm flipV="1">
              <a:off x="1941480" y="599112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8" name=""/>
            <p:cNvSpPr/>
            <p:nvPr/>
          </p:nvSpPr>
          <p:spPr>
            <a:xfrm flipV="1">
              <a:off x="203688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9" name=""/>
            <p:cNvSpPr/>
            <p:nvPr/>
          </p:nvSpPr>
          <p:spPr>
            <a:xfrm flipV="1">
              <a:off x="213048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0" name=""/>
            <p:cNvSpPr/>
            <p:nvPr/>
          </p:nvSpPr>
          <p:spPr>
            <a:xfrm flipV="1">
              <a:off x="222408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1" name=""/>
            <p:cNvSpPr/>
            <p:nvPr/>
          </p:nvSpPr>
          <p:spPr>
            <a:xfrm flipV="1">
              <a:off x="231948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2" name=""/>
            <p:cNvSpPr/>
            <p:nvPr/>
          </p:nvSpPr>
          <p:spPr>
            <a:xfrm flipV="1">
              <a:off x="241308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3" name=""/>
            <p:cNvSpPr/>
            <p:nvPr/>
          </p:nvSpPr>
          <p:spPr>
            <a:xfrm flipV="1">
              <a:off x="2508120" y="599112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4" name=""/>
            <p:cNvSpPr/>
            <p:nvPr/>
          </p:nvSpPr>
          <p:spPr>
            <a:xfrm flipV="1">
              <a:off x="2589120" y="599112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5" name=""/>
            <p:cNvSpPr/>
            <p:nvPr/>
          </p:nvSpPr>
          <p:spPr>
            <a:xfrm flipV="1">
              <a:off x="268452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6" name=""/>
            <p:cNvSpPr/>
            <p:nvPr/>
          </p:nvSpPr>
          <p:spPr>
            <a:xfrm flipV="1">
              <a:off x="277812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7" name=""/>
            <p:cNvSpPr/>
            <p:nvPr/>
          </p:nvSpPr>
          <p:spPr>
            <a:xfrm flipV="1">
              <a:off x="2871720" y="599112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8" name=""/>
            <p:cNvSpPr/>
            <p:nvPr/>
          </p:nvSpPr>
          <p:spPr>
            <a:xfrm flipV="1">
              <a:off x="2965320" y="599112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9" name=""/>
            <p:cNvSpPr/>
            <p:nvPr/>
          </p:nvSpPr>
          <p:spPr>
            <a:xfrm flipV="1">
              <a:off x="306072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0" name=""/>
            <p:cNvSpPr/>
            <p:nvPr/>
          </p:nvSpPr>
          <p:spPr>
            <a:xfrm flipV="1">
              <a:off x="315612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1" name=""/>
            <p:cNvSpPr/>
            <p:nvPr/>
          </p:nvSpPr>
          <p:spPr>
            <a:xfrm flipV="1">
              <a:off x="3247920" y="599112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2" name=""/>
            <p:cNvSpPr/>
            <p:nvPr/>
          </p:nvSpPr>
          <p:spPr>
            <a:xfrm flipV="1">
              <a:off x="333072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3" name=""/>
            <p:cNvSpPr/>
            <p:nvPr/>
          </p:nvSpPr>
          <p:spPr>
            <a:xfrm flipV="1">
              <a:off x="3425760" y="599112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4" name=""/>
            <p:cNvSpPr/>
            <p:nvPr/>
          </p:nvSpPr>
          <p:spPr>
            <a:xfrm flipV="1">
              <a:off x="3519360" y="599112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5" name=""/>
            <p:cNvSpPr/>
            <p:nvPr/>
          </p:nvSpPr>
          <p:spPr>
            <a:xfrm flipV="1">
              <a:off x="361332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6" name=""/>
            <p:cNvSpPr/>
            <p:nvPr/>
          </p:nvSpPr>
          <p:spPr>
            <a:xfrm flipV="1">
              <a:off x="3708360" y="599112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7" name=""/>
            <p:cNvSpPr/>
            <p:nvPr/>
          </p:nvSpPr>
          <p:spPr>
            <a:xfrm flipV="1">
              <a:off x="3801960" y="599112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8" name=""/>
            <p:cNvSpPr/>
            <p:nvPr/>
          </p:nvSpPr>
          <p:spPr>
            <a:xfrm flipV="1">
              <a:off x="3895560" y="599112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9" name=""/>
            <p:cNvSpPr/>
            <p:nvPr/>
          </p:nvSpPr>
          <p:spPr>
            <a:xfrm flipV="1">
              <a:off x="398952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0" name=""/>
            <p:cNvSpPr/>
            <p:nvPr/>
          </p:nvSpPr>
          <p:spPr>
            <a:xfrm flipV="1">
              <a:off x="4073400" y="599112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1" name=""/>
            <p:cNvSpPr/>
            <p:nvPr/>
          </p:nvSpPr>
          <p:spPr>
            <a:xfrm flipV="1">
              <a:off x="4165560" y="599112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2" name=""/>
            <p:cNvSpPr/>
            <p:nvPr/>
          </p:nvSpPr>
          <p:spPr>
            <a:xfrm flipV="1">
              <a:off x="426096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3" name=""/>
            <p:cNvSpPr/>
            <p:nvPr/>
          </p:nvSpPr>
          <p:spPr>
            <a:xfrm flipV="1">
              <a:off x="435456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4" name=""/>
            <p:cNvSpPr/>
            <p:nvPr/>
          </p:nvSpPr>
          <p:spPr>
            <a:xfrm flipV="1">
              <a:off x="4449600" y="599112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5" name=""/>
            <p:cNvSpPr/>
            <p:nvPr/>
          </p:nvSpPr>
          <p:spPr>
            <a:xfrm>
              <a:off x="482760" y="5902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6" name=""/>
            <p:cNvSpPr/>
            <p:nvPr/>
          </p:nvSpPr>
          <p:spPr>
            <a:xfrm>
              <a:off x="412560" y="5570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7" name=""/>
            <p:cNvSpPr/>
            <p:nvPr/>
          </p:nvSpPr>
          <p:spPr>
            <a:xfrm>
              <a:off x="412560" y="5238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8" name=""/>
            <p:cNvSpPr/>
            <p:nvPr/>
          </p:nvSpPr>
          <p:spPr>
            <a:xfrm>
              <a:off x="412560" y="4908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9" name=""/>
            <p:cNvSpPr/>
            <p:nvPr/>
          </p:nvSpPr>
          <p:spPr>
            <a:xfrm>
              <a:off x="412560" y="4576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0" name=""/>
            <p:cNvSpPr/>
            <p:nvPr/>
          </p:nvSpPr>
          <p:spPr>
            <a:xfrm>
              <a:off x="412560" y="4245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1" name=""/>
            <p:cNvSpPr/>
            <p:nvPr/>
          </p:nvSpPr>
          <p:spPr>
            <a:xfrm>
              <a:off x="412560" y="3914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2" name=""/>
            <p:cNvSpPr/>
            <p:nvPr/>
          </p:nvSpPr>
          <p:spPr>
            <a:xfrm>
              <a:off x="412560" y="3583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3" name=""/>
            <p:cNvSpPr/>
            <p:nvPr/>
          </p:nvSpPr>
          <p:spPr>
            <a:xfrm rot="16200000">
              <a:off x="543600" y="61732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4" name=""/>
            <p:cNvSpPr/>
            <p:nvPr/>
          </p:nvSpPr>
          <p:spPr>
            <a:xfrm rot="16200000">
              <a:off x="826200" y="61732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6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5" name=""/>
            <p:cNvSpPr/>
            <p:nvPr/>
          </p:nvSpPr>
          <p:spPr>
            <a:xfrm rot="16200000">
              <a:off x="1097640" y="61732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8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6" name=""/>
            <p:cNvSpPr/>
            <p:nvPr/>
          </p:nvSpPr>
          <p:spPr>
            <a:xfrm rot="16200000">
              <a:off x="1380240" y="61732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9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7" name=""/>
            <p:cNvSpPr/>
            <p:nvPr/>
          </p:nvSpPr>
          <p:spPr>
            <a:xfrm rot="16200000">
              <a:off x="1650240" y="61732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8" name=""/>
            <p:cNvSpPr/>
            <p:nvPr/>
          </p:nvSpPr>
          <p:spPr>
            <a:xfrm rot="16200000">
              <a:off x="1932480" y="61732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9" name=""/>
            <p:cNvSpPr/>
            <p:nvPr/>
          </p:nvSpPr>
          <p:spPr>
            <a:xfrm rot="16200000">
              <a:off x="2215080" y="61732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0" name=""/>
            <p:cNvSpPr/>
            <p:nvPr/>
          </p:nvSpPr>
          <p:spPr>
            <a:xfrm rot="16200000">
              <a:off x="2485080" y="61732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1" name=""/>
            <p:cNvSpPr/>
            <p:nvPr/>
          </p:nvSpPr>
          <p:spPr>
            <a:xfrm rot="16200000">
              <a:off x="2769120" y="61732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7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2" name=""/>
            <p:cNvSpPr/>
            <p:nvPr/>
          </p:nvSpPr>
          <p:spPr>
            <a:xfrm rot="16200000">
              <a:off x="3050280" y="61732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8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3" name=""/>
            <p:cNvSpPr/>
            <p:nvPr/>
          </p:nvSpPr>
          <p:spPr>
            <a:xfrm rot="16200000">
              <a:off x="3323160" y="61732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4" name=""/>
            <p:cNvSpPr/>
            <p:nvPr/>
          </p:nvSpPr>
          <p:spPr>
            <a:xfrm rot="16200000">
              <a:off x="3604320" y="61732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5" name=""/>
            <p:cNvSpPr/>
            <p:nvPr/>
          </p:nvSpPr>
          <p:spPr>
            <a:xfrm rot="16200000">
              <a:off x="3888360" y="61740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6" name=""/>
            <p:cNvSpPr/>
            <p:nvPr/>
          </p:nvSpPr>
          <p:spPr>
            <a:xfrm rot="16200000">
              <a:off x="4156560" y="61732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4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7" name=""/>
            <p:cNvSpPr/>
            <p:nvPr/>
          </p:nvSpPr>
          <p:spPr>
            <a:xfrm>
              <a:off x="1894320" y="6462720"/>
              <a:ext cx="1218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itial Capital Outl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8" name=""/>
            <p:cNvSpPr/>
            <p:nvPr/>
          </p:nvSpPr>
          <p:spPr>
            <a:xfrm rot="16200000">
              <a:off x="-81720" y="4810320"/>
              <a:ext cx="640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requenc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9" name=""/>
            <p:cNvSpPr/>
            <p:nvPr/>
          </p:nvSpPr>
          <p:spPr>
            <a:xfrm>
              <a:off x="0" y="3416400"/>
              <a:ext cx="4567320" cy="3441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0" name=""/>
          <p:cNvGrpSpPr/>
          <p:nvPr/>
        </p:nvGrpSpPr>
        <p:grpSpPr>
          <a:xfrm>
            <a:off x="4629240" y="60480"/>
            <a:ext cx="4446360" cy="3232080"/>
            <a:chOff x="4629240" y="60480"/>
            <a:chExt cx="4446360" cy="3232080"/>
          </a:xfrm>
        </p:grpSpPr>
        <p:sp>
          <p:nvSpPr>
            <p:cNvPr id="8001" name=""/>
            <p:cNvSpPr/>
            <p:nvPr/>
          </p:nvSpPr>
          <p:spPr>
            <a:xfrm>
              <a:off x="4629240" y="60480"/>
              <a:ext cx="4446360" cy="3232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2" name=""/>
            <p:cNvSpPr/>
            <p:nvPr/>
          </p:nvSpPr>
          <p:spPr>
            <a:xfrm>
              <a:off x="5292720" y="298440"/>
              <a:ext cx="3668760" cy="21826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3" name=""/>
            <p:cNvSpPr/>
            <p:nvPr/>
          </p:nvSpPr>
          <p:spPr>
            <a:xfrm>
              <a:off x="5486400" y="2470320"/>
              <a:ext cx="46080" cy="108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4" name=""/>
            <p:cNvSpPr/>
            <p:nvPr/>
          </p:nvSpPr>
          <p:spPr>
            <a:xfrm>
              <a:off x="5565600" y="2457360"/>
              <a:ext cx="57240" cy="23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5" name=""/>
            <p:cNvSpPr/>
            <p:nvPr/>
          </p:nvSpPr>
          <p:spPr>
            <a:xfrm>
              <a:off x="5657760" y="2446200"/>
              <a:ext cx="57240" cy="349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6" name=""/>
            <p:cNvSpPr/>
            <p:nvPr/>
          </p:nvSpPr>
          <p:spPr>
            <a:xfrm>
              <a:off x="5749920" y="2433600"/>
              <a:ext cx="57240" cy="475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7" name=""/>
            <p:cNvSpPr/>
            <p:nvPr/>
          </p:nvSpPr>
          <p:spPr>
            <a:xfrm>
              <a:off x="5840280" y="2409840"/>
              <a:ext cx="57240" cy="712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8" name=""/>
            <p:cNvSpPr/>
            <p:nvPr/>
          </p:nvSpPr>
          <p:spPr>
            <a:xfrm>
              <a:off x="5932440" y="2398680"/>
              <a:ext cx="57240" cy="824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9" name=""/>
            <p:cNvSpPr/>
            <p:nvPr/>
          </p:nvSpPr>
          <p:spPr>
            <a:xfrm>
              <a:off x="6022800" y="2362320"/>
              <a:ext cx="46080" cy="1188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0" name=""/>
            <p:cNvSpPr/>
            <p:nvPr/>
          </p:nvSpPr>
          <p:spPr>
            <a:xfrm>
              <a:off x="6103800" y="2327400"/>
              <a:ext cx="57240" cy="1537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1" name=""/>
            <p:cNvSpPr/>
            <p:nvPr/>
          </p:nvSpPr>
          <p:spPr>
            <a:xfrm>
              <a:off x="6194520" y="2266920"/>
              <a:ext cx="56880" cy="2142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2" name=""/>
            <p:cNvSpPr/>
            <p:nvPr/>
          </p:nvSpPr>
          <p:spPr>
            <a:xfrm>
              <a:off x="6286680" y="2206800"/>
              <a:ext cx="56880" cy="2743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3" name=""/>
            <p:cNvSpPr/>
            <p:nvPr/>
          </p:nvSpPr>
          <p:spPr>
            <a:xfrm>
              <a:off x="6378480" y="2135160"/>
              <a:ext cx="57240" cy="345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4" name=""/>
            <p:cNvSpPr/>
            <p:nvPr/>
          </p:nvSpPr>
          <p:spPr>
            <a:xfrm>
              <a:off x="6469200" y="2076480"/>
              <a:ext cx="56880" cy="4046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5" name=""/>
            <p:cNvSpPr/>
            <p:nvPr/>
          </p:nvSpPr>
          <p:spPr>
            <a:xfrm>
              <a:off x="6561000" y="1992240"/>
              <a:ext cx="46080" cy="4888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6" name=""/>
            <p:cNvSpPr/>
            <p:nvPr/>
          </p:nvSpPr>
          <p:spPr>
            <a:xfrm>
              <a:off x="6640560" y="1897200"/>
              <a:ext cx="57240" cy="5839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7" name=""/>
            <p:cNvSpPr/>
            <p:nvPr/>
          </p:nvSpPr>
          <p:spPr>
            <a:xfrm>
              <a:off x="6732720" y="1801800"/>
              <a:ext cx="56880" cy="6793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8" name=""/>
            <p:cNvSpPr/>
            <p:nvPr/>
          </p:nvSpPr>
          <p:spPr>
            <a:xfrm>
              <a:off x="6823080" y="1706400"/>
              <a:ext cx="57240" cy="7747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9" name=""/>
            <p:cNvSpPr/>
            <p:nvPr/>
          </p:nvSpPr>
          <p:spPr>
            <a:xfrm>
              <a:off x="6915240" y="1622520"/>
              <a:ext cx="57240" cy="8586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0" name=""/>
            <p:cNvSpPr/>
            <p:nvPr/>
          </p:nvSpPr>
          <p:spPr>
            <a:xfrm>
              <a:off x="7007400" y="1492200"/>
              <a:ext cx="56880" cy="9889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1" name=""/>
            <p:cNvSpPr/>
            <p:nvPr/>
          </p:nvSpPr>
          <p:spPr>
            <a:xfrm>
              <a:off x="7097760" y="1384200"/>
              <a:ext cx="46080" cy="10969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2" name=""/>
            <p:cNvSpPr/>
            <p:nvPr/>
          </p:nvSpPr>
          <p:spPr>
            <a:xfrm>
              <a:off x="7178760" y="1312920"/>
              <a:ext cx="57240" cy="11682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3" name=""/>
            <p:cNvSpPr/>
            <p:nvPr/>
          </p:nvSpPr>
          <p:spPr>
            <a:xfrm>
              <a:off x="7269120" y="1204920"/>
              <a:ext cx="57240" cy="12762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4" name=""/>
            <p:cNvSpPr/>
            <p:nvPr/>
          </p:nvSpPr>
          <p:spPr>
            <a:xfrm>
              <a:off x="7361280" y="1109520"/>
              <a:ext cx="57240" cy="13716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5" name=""/>
            <p:cNvSpPr/>
            <p:nvPr/>
          </p:nvSpPr>
          <p:spPr>
            <a:xfrm>
              <a:off x="7451640" y="1049400"/>
              <a:ext cx="57240" cy="14317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6" name=""/>
            <p:cNvSpPr/>
            <p:nvPr/>
          </p:nvSpPr>
          <p:spPr>
            <a:xfrm>
              <a:off x="7543800" y="966960"/>
              <a:ext cx="57240" cy="15141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7" name=""/>
            <p:cNvSpPr/>
            <p:nvPr/>
          </p:nvSpPr>
          <p:spPr>
            <a:xfrm>
              <a:off x="7635960" y="906480"/>
              <a:ext cx="44280" cy="15746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8" name=""/>
            <p:cNvSpPr/>
            <p:nvPr/>
          </p:nvSpPr>
          <p:spPr>
            <a:xfrm>
              <a:off x="7715160" y="824040"/>
              <a:ext cx="57240" cy="1657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9" name=""/>
            <p:cNvSpPr/>
            <p:nvPr/>
          </p:nvSpPr>
          <p:spPr>
            <a:xfrm>
              <a:off x="7807320" y="787320"/>
              <a:ext cx="57240" cy="16938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0" name=""/>
            <p:cNvSpPr/>
            <p:nvPr/>
          </p:nvSpPr>
          <p:spPr>
            <a:xfrm>
              <a:off x="7897680" y="752400"/>
              <a:ext cx="57240" cy="17287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1" name=""/>
            <p:cNvSpPr/>
            <p:nvPr/>
          </p:nvSpPr>
          <p:spPr>
            <a:xfrm>
              <a:off x="7989840" y="727200"/>
              <a:ext cx="57240" cy="17539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2" name=""/>
            <p:cNvSpPr/>
            <p:nvPr/>
          </p:nvSpPr>
          <p:spPr>
            <a:xfrm>
              <a:off x="8080200" y="703440"/>
              <a:ext cx="57240" cy="17776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3" name=""/>
            <p:cNvSpPr/>
            <p:nvPr/>
          </p:nvSpPr>
          <p:spPr>
            <a:xfrm>
              <a:off x="8172360" y="703440"/>
              <a:ext cx="46080" cy="17776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4" name=""/>
            <p:cNvSpPr/>
            <p:nvPr/>
          </p:nvSpPr>
          <p:spPr>
            <a:xfrm>
              <a:off x="8251920" y="692280"/>
              <a:ext cx="56880" cy="17888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5" name=""/>
            <p:cNvSpPr/>
            <p:nvPr/>
          </p:nvSpPr>
          <p:spPr>
            <a:xfrm>
              <a:off x="8344080" y="679320"/>
              <a:ext cx="56880" cy="18018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6" name=""/>
            <p:cNvSpPr/>
            <p:nvPr/>
          </p:nvSpPr>
          <p:spPr>
            <a:xfrm>
              <a:off x="8435880" y="668160"/>
              <a:ext cx="57240" cy="1812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7" name=""/>
            <p:cNvSpPr/>
            <p:nvPr/>
          </p:nvSpPr>
          <p:spPr>
            <a:xfrm>
              <a:off x="8526600" y="668160"/>
              <a:ext cx="56880" cy="1812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8" name=""/>
            <p:cNvSpPr/>
            <p:nvPr/>
          </p:nvSpPr>
          <p:spPr>
            <a:xfrm>
              <a:off x="8618400" y="668160"/>
              <a:ext cx="57240" cy="1812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9" name=""/>
            <p:cNvSpPr/>
            <p:nvPr/>
          </p:nvSpPr>
          <p:spPr>
            <a:xfrm>
              <a:off x="8709120" y="668160"/>
              <a:ext cx="46080" cy="1812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0" name=""/>
            <p:cNvSpPr/>
            <p:nvPr/>
          </p:nvSpPr>
          <p:spPr>
            <a:xfrm>
              <a:off x="8790120" y="655560"/>
              <a:ext cx="56880" cy="18255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1" name=""/>
            <p:cNvSpPr/>
            <p:nvPr/>
          </p:nvSpPr>
          <p:spPr>
            <a:xfrm>
              <a:off x="8880480" y="655560"/>
              <a:ext cx="57240" cy="18255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2" name=""/>
            <p:cNvSpPr/>
            <p:nvPr/>
          </p:nvSpPr>
          <p:spPr>
            <a:xfrm>
              <a:off x="5257800" y="248112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3" name=""/>
            <p:cNvSpPr/>
            <p:nvPr/>
          </p:nvSpPr>
          <p:spPr>
            <a:xfrm>
              <a:off x="5257800" y="211140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4" name=""/>
            <p:cNvSpPr/>
            <p:nvPr/>
          </p:nvSpPr>
          <p:spPr>
            <a:xfrm>
              <a:off x="5257800" y="175428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5" name=""/>
            <p:cNvSpPr/>
            <p:nvPr/>
          </p:nvSpPr>
          <p:spPr>
            <a:xfrm>
              <a:off x="5257800" y="138420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6" name=""/>
            <p:cNvSpPr/>
            <p:nvPr/>
          </p:nvSpPr>
          <p:spPr>
            <a:xfrm>
              <a:off x="5257800" y="102564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7" name=""/>
            <p:cNvSpPr/>
            <p:nvPr/>
          </p:nvSpPr>
          <p:spPr>
            <a:xfrm>
              <a:off x="5257800" y="65556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8" name=""/>
            <p:cNvSpPr/>
            <p:nvPr/>
          </p:nvSpPr>
          <p:spPr>
            <a:xfrm>
              <a:off x="5257800" y="29844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9" name=""/>
            <p:cNvSpPr/>
            <p:nvPr/>
          </p:nvSpPr>
          <p:spPr>
            <a:xfrm flipV="1">
              <a:off x="529272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0" name=""/>
            <p:cNvSpPr/>
            <p:nvPr/>
          </p:nvSpPr>
          <p:spPr>
            <a:xfrm flipV="1">
              <a:off x="5383080" y="248112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1" name=""/>
            <p:cNvSpPr/>
            <p:nvPr/>
          </p:nvSpPr>
          <p:spPr>
            <a:xfrm flipV="1">
              <a:off x="5475240" y="248112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2" name=""/>
            <p:cNvSpPr/>
            <p:nvPr/>
          </p:nvSpPr>
          <p:spPr>
            <a:xfrm flipV="1">
              <a:off x="555480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3" name=""/>
            <p:cNvSpPr/>
            <p:nvPr/>
          </p:nvSpPr>
          <p:spPr>
            <a:xfrm flipV="1">
              <a:off x="5646600" y="248112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4" name=""/>
            <p:cNvSpPr/>
            <p:nvPr/>
          </p:nvSpPr>
          <p:spPr>
            <a:xfrm flipV="1">
              <a:off x="573732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5" name=""/>
            <p:cNvSpPr/>
            <p:nvPr/>
          </p:nvSpPr>
          <p:spPr>
            <a:xfrm flipV="1">
              <a:off x="582948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6" name=""/>
            <p:cNvSpPr/>
            <p:nvPr/>
          </p:nvSpPr>
          <p:spPr>
            <a:xfrm flipV="1">
              <a:off x="5921280" y="248112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7" name=""/>
            <p:cNvSpPr/>
            <p:nvPr/>
          </p:nvSpPr>
          <p:spPr>
            <a:xfrm flipV="1">
              <a:off x="601200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8" name=""/>
            <p:cNvSpPr/>
            <p:nvPr/>
          </p:nvSpPr>
          <p:spPr>
            <a:xfrm flipV="1">
              <a:off x="609300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9" name=""/>
            <p:cNvSpPr/>
            <p:nvPr/>
          </p:nvSpPr>
          <p:spPr>
            <a:xfrm flipV="1">
              <a:off x="618336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0" name=""/>
            <p:cNvSpPr/>
            <p:nvPr/>
          </p:nvSpPr>
          <p:spPr>
            <a:xfrm flipV="1">
              <a:off x="627552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1" name=""/>
            <p:cNvSpPr/>
            <p:nvPr/>
          </p:nvSpPr>
          <p:spPr>
            <a:xfrm flipV="1">
              <a:off x="636588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2" name=""/>
            <p:cNvSpPr/>
            <p:nvPr/>
          </p:nvSpPr>
          <p:spPr>
            <a:xfrm flipV="1">
              <a:off x="645804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3" name=""/>
            <p:cNvSpPr/>
            <p:nvPr/>
          </p:nvSpPr>
          <p:spPr>
            <a:xfrm flipV="1">
              <a:off x="655020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4" name=""/>
            <p:cNvSpPr/>
            <p:nvPr/>
          </p:nvSpPr>
          <p:spPr>
            <a:xfrm flipV="1">
              <a:off x="662940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5" name=""/>
            <p:cNvSpPr/>
            <p:nvPr/>
          </p:nvSpPr>
          <p:spPr>
            <a:xfrm flipV="1">
              <a:off x="672156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6" name=""/>
            <p:cNvSpPr/>
            <p:nvPr/>
          </p:nvSpPr>
          <p:spPr>
            <a:xfrm flipV="1">
              <a:off x="6811920" y="248112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7" name=""/>
            <p:cNvSpPr/>
            <p:nvPr/>
          </p:nvSpPr>
          <p:spPr>
            <a:xfrm flipV="1">
              <a:off x="690408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8" name=""/>
            <p:cNvSpPr/>
            <p:nvPr/>
          </p:nvSpPr>
          <p:spPr>
            <a:xfrm flipV="1">
              <a:off x="6994440" y="248112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9" name=""/>
            <p:cNvSpPr/>
            <p:nvPr/>
          </p:nvSpPr>
          <p:spPr>
            <a:xfrm flipV="1">
              <a:off x="708660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0" name=""/>
            <p:cNvSpPr/>
            <p:nvPr/>
          </p:nvSpPr>
          <p:spPr>
            <a:xfrm flipV="1">
              <a:off x="7165800" y="248112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1" name=""/>
            <p:cNvSpPr/>
            <p:nvPr/>
          </p:nvSpPr>
          <p:spPr>
            <a:xfrm flipV="1">
              <a:off x="7257960" y="248112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2" name=""/>
            <p:cNvSpPr/>
            <p:nvPr/>
          </p:nvSpPr>
          <p:spPr>
            <a:xfrm flipV="1">
              <a:off x="735012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3" name=""/>
            <p:cNvSpPr/>
            <p:nvPr/>
          </p:nvSpPr>
          <p:spPr>
            <a:xfrm flipV="1">
              <a:off x="7440480" y="248112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4" name=""/>
            <p:cNvSpPr/>
            <p:nvPr/>
          </p:nvSpPr>
          <p:spPr>
            <a:xfrm flipV="1">
              <a:off x="7532640" y="248112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5" name=""/>
            <p:cNvSpPr/>
            <p:nvPr/>
          </p:nvSpPr>
          <p:spPr>
            <a:xfrm flipV="1">
              <a:off x="7623000" y="248112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6" name=""/>
            <p:cNvSpPr/>
            <p:nvPr/>
          </p:nvSpPr>
          <p:spPr>
            <a:xfrm flipV="1">
              <a:off x="7704000" y="248112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7" name=""/>
            <p:cNvSpPr/>
            <p:nvPr/>
          </p:nvSpPr>
          <p:spPr>
            <a:xfrm flipV="1">
              <a:off x="779472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8" name=""/>
            <p:cNvSpPr/>
            <p:nvPr/>
          </p:nvSpPr>
          <p:spPr>
            <a:xfrm flipV="1">
              <a:off x="788688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9" name=""/>
            <p:cNvSpPr/>
            <p:nvPr/>
          </p:nvSpPr>
          <p:spPr>
            <a:xfrm flipV="1">
              <a:off x="7978680" y="248112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0" name=""/>
            <p:cNvSpPr/>
            <p:nvPr/>
          </p:nvSpPr>
          <p:spPr>
            <a:xfrm flipV="1">
              <a:off x="806940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1" name=""/>
            <p:cNvSpPr/>
            <p:nvPr/>
          </p:nvSpPr>
          <p:spPr>
            <a:xfrm flipV="1">
              <a:off x="8161200" y="248112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2" name=""/>
            <p:cNvSpPr/>
            <p:nvPr/>
          </p:nvSpPr>
          <p:spPr>
            <a:xfrm flipV="1">
              <a:off x="824076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3" name=""/>
            <p:cNvSpPr/>
            <p:nvPr/>
          </p:nvSpPr>
          <p:spPr>
            <a:xfrm flipV="1">
              <a:off x="833292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4" name=""/>
            <p:cNvSpPr/>
            <p:nvPr/>
          </p:nvSpPr>
          <p:spPr>
            <a:xfrm flipV="1">
              <a:off x="842328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5" name=""/>
            <p:cNvSpPr/>
            <p:nvPr/>
          </p:nvSpPr>
          <p:spPr>
            <a:xfrm flipV="1">
              <a:off x="851544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6" name=""/>
            <p:cNvSpPr/>
            <p:nvPr/>
          </p:nvSpPr>
          <p:spPr>
            <a:xfrm flipV="1">
              <a:off x="860760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7" name=""/>
            <p:cNvSpPr/>
            <p:nvPr/>
          </p:nvSpPr>
          <p:spPr>
            <a:xfrm flipV="1">
              <a:off x="869796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8" name=""/>
            <p:cNvSpPr/>
            <p:nvPr/>
          </p:nvSpPr>
          <p:spPr>
            <a:xfrm flipV="1">
              <a:off x="877896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9" name=""/>
            <p:cNvSpPr/>
            <p:nvPr/>
          </p:nvSpPr>
          <p:spPr>
            <a:xfrm flipV="1">
              <a:off x="8869320" y="248112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0" name=""/>
            <p:cNvSpPr/>
            <p:nvPr/>
          </p:nvSpPr>
          <p:spPr>
            <a:xfrm flipV="1">
              <a:off x="896148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1" name=""/>
            <p:cNvSpPr/>
            <p:nvPr/>
          </p:nvSpPr>
          <p:spPr>
            <a:xfrm>
              <a:off x="5132160" y="2398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2" name=""/>
            <p:cNvSpPr/>
            <p:nvPr/>
          </p:nvSpPr>
          <p:spPr>
            <a:xfrm>
              <a:off x="5028480" y="20289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3" name=""/>
            <p:cNvSpPr/>
            <p:nvPr/>
          </p:nvSpPr>
          <p:spPr>
            <a:xfrm>
              <a:off x="5028480" y="1670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4" name=""/>
            <p:cNvSpPr/>
            <p:nvPr/>
          </p:nvSpPr>
          <p:spPr>
            <a:xfrm>
              <a:off x="5028480" y="1300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5" name=""/>
            <p:cNvSpPr/>
            <p:nvPr/>
          </p:nvSpPr>
          <p:spPr>
            <a:xfrm>
              <a:off x="5028480" y="942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6" name=""/>
            <p:cNvSpPr/>
            <p:nvPr/>
          </p:nvSpPr>
          <p:spPr>
            <a:xfrm>
              <a:off x="5132160" y="573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7" name=""/>
            <p:cNvSpPr/>
            <p:nvPr/>
          </p:nvSpPr>
          <p:spPr>
            <a:xfrm>
              <a:off x="5028480" y="214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8" name=""/>
            <p:cNvSpPr/>
            <p:nvPr/>
          </p:nvSpPr>
          <p:spPr>
            <a:xfrm rot="16200000">
              <a:off x="5205600" y="26337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9" name=""/>
            <p:cNvSpPr/>
            <p:nvPr/>
          </p:nvSpPr>
          <p:spPr>
            <a:xfrm rot="16200000">
              <a:off x="5469120" y="26337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0" name=""/>
            <p:cNvSpPr/>
            <p:nvPr/>
          </p:nvSpPr>
          <p:spPr>
            <a:xfrm rot="16200000">
              <a:off x="5743440" y="26337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1" name=""/>
            <p:cNvSpPr/>
            <p:nvPr/>
          </p:nvSpPr>
          <p:spPr>
            <a:xfrm rot="16200000">
              <a:off x="6062040" y="2569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2" name=""/>
            <p:cNvSpPr/>
            <p:nvPr/>
          </p:nvSpPr>
          <p:spPr>
            <a:xfrm rot="16200000">
              <a:off x="6301800" y="2606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3" name=""/>
            <p:cNvSpPr/>
            <p:nvPr/>
          </p:nvSpPr>
          <p:spPr>
            <a:xfrm rot="16200000">
              <a:off x="6563880" y="2606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4" name=""/>
            <p:cNvSpPr/>
            <p:nvPr/>
          </p:nvSpPr>
          <p:spPr>
            <a:xfrm rot="16200000">
              <a:off x="6838200" y="2606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5" name=""/>
            <p:cNvSpPr/>
            <p:nvPr/>
          </p:nvSpPr>
          <p:spPr>
            <a:xfrm rot="16200000">
              <a:off x="7101720" y="2606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6" name=""/>
            <p:cNvSpPr/>
            <p:nvPr/>
          </p:nvSpPr>
          <p:spPr>
            <a:xfrm rot="16200000">
              <a:off x="7376400" y="2606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7" name=""/>
            <p:cNvSpPr/>
            <p:nvPr/>
          </p:nvSpPr>
          <p:spPr>
            <a:xfrm rot="16200000">
              <a:off x="7638480" y="2606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8" name=""/>
            <p:cNvSpPr/>
            <p:nvPr/>
          </p:nvSpPr>
          <p:spPr>
            <a:xfrm rot="16200000">
              <a:off x="7877880" y="2644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9" name=""/>
            <p:cNvSpPr/>
            <p:nvPr/>
          </p:nvSpPr>
          <p:spPr>
            <a:xfrm rot="16200000">
              <a:off x="8141400" y="2644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0" name=""/>
            <p:cNvSpPr/>
            <p:nvPr/>
          </p:nvSpPr>
          <p:spPr>
            <a:xfrm rot="16200000">
              <a:off x="8414280" y="2644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1" name=""/>
            <p:cNvSpPr/>
            <p:nvPr/>
          </p:nvSpPr>
          <p:spPr>
            <a:xfrm rot="16200000">
              <a:off x="8677800" y="2644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2" name=""/>
            <p:cNvSpPr/>
            <p:nvPr/>
          </p:nvSpPr>
          <p:spPr>
            <a:xfrm>
              <a:off x="6982920" y="2922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3" name=""/>
            <p:cNvSpPr/>
            <p:nvPr/>
          </p:nvSpPr>
          <p:spPr>
            <a:xfrm rot="16200000">
              <a:off x="4578120" y="1338120"/>
              <a:ext cx="57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(NPV&lt;x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4" name=""/>
            <p:cNvSpPr/>
            <p:nvPr/>
          </p:nvSpPr>
          <p:spPr>
            <a:xfrm>
              <a:off x="4629240" y="60480"/>
              <a:ext cx="4446360" cy="3232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5" name=""/>
            <p:cNvSpPr/>
            <p:nvPr/>
          </p:nvSpPr>
          <p:spPr>
            <a:xfrm flipH="1">
              <a:off x="5300640" y="236232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6" name=""/>
            <p:cNvSpPr/>
            <p:nvPr/>
          </p:nvSpPr>
          <p:spPr>
            <a:xfrm flipV="1">
              <a:off x="5338800" y="1695600"/>
              <a:ext cx="700200" cy="60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7" name=""/>
            <p:cNvSpPr/>
            <p:nvPr/>
          </p:nvSpPr>
          <p:spPr>
            <a:xfrm>
              <a:off x="5513400" y="1378080"/>
              <a:ext cx="1446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(NPV &lt; 0) = 0.08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0:26:29Z</dcterms:created>
  <dc:creator>Frank</dc:creator>
  <dc:description/>
  <dc:language>en-US</dc:language>
  <cp:lastModifiedBy>frank crundwell</cp:lastModifiedBy>
  <dcterms:modified xsi:type="dcterms:W3CDTF">2007-08-16T16:59:55Z</dcterms:modified>
  <cp:revision>26</cp:revision>
  <dc:subject/>
  <dc:title>PowerPoint Presentation</dc:title>
</cp:coreProperties>
</file>